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8BF1-277C-4A26-9B25-DBCA3DA5D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32AD-0C8A-43D7-A41F-7957C3D91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93760" y="703440"/>
            <a:ext cx="4689360" cy="3517560"/>
          </a:xfrm>
          <a:prstGeom prst="rect">
            <a:avLst/>
          </a:prstGeom>
          <a:ln w="0">
            <a:noFill/>
          </a:ln>
        </p:spPr>
      </p:sp>
      <p:sp>
        <p:nvSpPr>
          <p:cNvPr id="647"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6CB0-1F9C-47E3-8D70-ACED2A202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93760" y="703440"/>
            <a:ext cx="4689360" cy="3517560"/>
          </a:xfrm>
          <a:prstGeom prst="rect">
            <a:avLst/>
          </a:prstGeom>
          <a:ln w="0">
            <a:noFill/>
          </a:ln>
        </p:spPr>
      </p:sp>
      <p:sp>
        <p:nvSpPr>
          <p:cNvPr id="67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new retail environment as a backdrop, we will examine retailers’ marketing decisions in the areas of target market, channels, product assortment, procurement, prices, services and store atmosphere, store activities and experiences, communications, and lo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CFBE-F086-4B5C-800D-1DDD04DFA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93760" y="703440"/>
            <a:ext cx="4689360" cy="3517560"/>
          </a:xfrm>
          <a:prstGeom prst="rect">
            <a:avLst/>
          </a:prstGeom>
          <a:ln w="0">
            <a:noFill/>
          </a:ln>
        </p:spPr>
      </p:sp>
      <p:sp>
        <p:nvSpPr>
          <p:cNvPr id="67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ers must decide on the services mix to offer customers. Prepurchase services include accepting telephone and mail orders, advertising, window and interior display, fitting rooms, shopping hours, fashion shows, and trade-ins. Postpurchase services include shipping and delivery, gift wrapping, adjustments and returns, alterations and tailoring, installations, and engraving. Ancillary services include general information, check cashing, parking, restaurants, repairs, interior decorating, credit, rest rooms, and baby-attendant servi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2B41-7890-47E0-B94B-F3F494C33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93760" y="703440"/>
            <a:ext cx="4689360" cy="3517560"/>
          </a:xfrm>
          <a:prstGeom prst="rect">
            <a:avLst/>
          </a:prstGeom>
          <a:ln w="0">
            <a:noFill/>
          </a:ln>
        </p:spPr>
      </p:sp>
      <p:sp>
        <p:nvSpPr>
          <p:cNvPr id="68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 is another element in the store arsenal. Every store has a look, and a physical layout that makes it hard or easy to move around. some retailers of experiential products are creating in-store entertainment to attract customers who want fun and excitement. REI, seller of outdoor gear and clothing products, allows consumers to test climbing equipment on 25-foot or even 65-foot walls in the store and to try Gore-Tex raincoats under a simulated rain show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8D0A-301A-42C8-841D-6F11D3EC1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93760" y="703440"/>
            <a:ext cx="4689360" cy="3517560"/>
          </a:xfrm>
          <a:prstGeom prst="rect">
            <a:avLst/>
          </a:prstGeom>
          <a:ln w="0">
            <a:noFill/>
          </a:ln>
        </p:spPr>
      </p:sp>
      <p:sp>
        <p:nvSpPr>
          <p:cNvPr id="68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ares guidelines for retailers from the Marketing Mem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3194-4A57-45F8-90A1-C8D2C5C9C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93760" y="703440"/>
            <a:ext cx="4689360" cy="3517560"/>
          </a:xfrm>
          <a:prstGeom prst="rect">
            <a:avLst/>
          </a:prstGeom>
          <a:ln w="0">
            <a:noFill/>
          </a:ln>
        </p:spPr>
      </p:sp>
      <p:sp>
        <p:nvSpPr>
          <p:cNvPr id="68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keys to retail success are often said to be “location, location, and location.” Department store chains, oil companies, and fast-food franchisers exercise great care in selecting regions of the country in which to open outlets, then particular cities, and then particular sites. Retailers can place their stores in the following l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business districts are the oldest and most heavily trafficked city areas, often known as “downtown”. Regional shopping centers are large suburban malls containing 40 to 200 stores, typically featuring one or two nationally known anchor stores, such as Macy’s or Lord &amp; Taylor or a combination of big-box stores such as PETCO, Payless Shoes, Borders, or Bed Bath &amp; Beyond, and a great number of smaller stores, many under franchise operation. Community shopping centers are smaller malls with one anchor store and 20 to 40 smaller stores. Shopping strips are a cluster of stores, usually in one long building, serving a neighborhood’s needs for groceries, hardware, laundry, shoe repair, and dry cleaning. A location within a larger store may be used by certain well-known retailers like Starbucks to locate new, smaller units as concession space within larger stores or operations, such as airports, schools, or department stores. Stand-alone stores are used by some retailers such as Kohl’s and JCPenney to avoid malls and shopping cent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74C4-9F60-4C3F-A5FA-EAC2D36B9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93760" y="703440"/>
            <a:ext cx="4689360" cy="3517560"/>
          </a:xfrm>
          <a:prstGeom prst="rect">
            <a:avLst/>
          </a:prstGeom>
          <a:ln w="0">
            <a:noFill/>
          </a:ln>
        </p:spPr>
      </p:sp>
      <p:sp>
        <p:nvSpPr>
          <p:cNvPr id="68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label brand (also called a reseller, store, house, or distributor brand) is a brand that retailers and wholesalers develop. Benetton, The Body Shop, and Marks &amp; Spencer carry mostly own-brand merchand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manufacturers, retailers are both collaborators and competitors. According to the Private Label Manufacturers’ Association, store brands now account for one of every four items sold in U.S. supermarkets, drug chains, and mass merchandis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0A03-24DD-4D2B-B0EC-1ACC60396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93760" y="703440"/>
            <a:ext cx="4689360" cy="3517560"/>
          </a:xfrm>
          <a:prstGeom prst="rect">
            <a:avLst/>
          </a:prstGeom>
          <a:ln w="0">
            <a:noFill/>
          </a:ln>
        </p:spPr>
      </p:sp>
      <p:sp>
        <p:nvSpPr>
          <p:cNvPr id="69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holesalers are more efficient in performing one or more of these functions. Wholesalers’ sales forces help manufacturers reach many small business customers at a relatively low cost. Wholesalers are able to select items and build the assortments their customers need, saving them considerable work. Wholesalers achieve savings for their customers by buying large carload lots and breaking the bulk into smaller units. Wholesalers hold inventories, thereby reducing inventory costs and risks to suppliers and customers. Wholesalers can often provide quicker delivery to buyers because they are closer to the buyers. Wholesalers finance customers by granting credit, and finance suppliers by ordering early and paying bills on time. Wholesalers absorb some risk by taking title and bearing the cost of theft, damage, spoilage, and obsolescence. Wholesalers supply information to suppliers and customers regarding competitors’ activities, new products, price developments, and so on. Wholesalers often help retailers improve their operations by training sales clerks, helping with store layouts and displays, and setting up accounting and inventory-control syste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3A83-64CF-4C18-B506-62A1036FB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93760" y="703440"/>
            <a:ext cx="4689360" cy="3517560"/>
          </a:xfrm>
          <a:prstGeom prst="rect">
            <a:avLst/>
          </a:prstGeom>
          <a:ln w="0">
            <a:noFill/>
          </a:ln>
        </p:spPr>
      </p:sp>
      <p:sp>
        <p:nvSpPr>
          <p:cNvPr id="69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wholesalers are independently owned businesses that take title to the merchandise they handle. They are full-service and limited-service jobbers, distributors, mill supply ho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service wholesalers carry stock, maintain a sales force, offer credit, and make deliveries. Wholesale merchants sell primarily to retailers: Some carry several merchandise lines, some carry one or two lines, others carry only part of a line. Industrial distributors sell to manufacturers and also provide services such as credit and delivery. Limited-service wholesalers are cash and carry wholesalers who sell a limited line of fast-moving goods to small retailers for cash. Truck wholesalers sell and deliver a limited line of semiperishable goods to supermarkets, grocery stores, hospitals, restaurants, hotels. Drop shippers serve bulk industries such as coal, lumber, heavy equipment. They assume title and risk from the time an order is accepted to its delivery. Rack jobbers serve grocery retailers in nonfood items. Delivery people set up displays, price goods, keep inventory records; they retain title to goods and bill retailers only for goods sold to the end of the year. Producers’ cooperatives assemble farm produce to sell in local markets. Mail-order wholesalers send catalogs to retail, industrial, and institutional customers; orders are filled and sent by mail, rail, plane, or truck. Brokers and agents facilitate buying and selling, on commission of 2 percent to 6 percent of the selling price; limited functions; generally specialize by product line or customer type. Specialized wholesalers include agricultural assemblers, petroleum bulk plants and terminals, and auction compan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93760" y="703440"/>
            <a:ext cx="4689360" cy="3517560"/>
          </a:xfrm>
          <a:prstGeom prst="rect">
            <a:avLst/>
          </a:prstGeom>
          <a:ln w="0">
            <a:noFill/>
          </a:ln>
        </p:spPr>
      </p:sp>
      <p:sp>
        <p:nvSpPr>
          <p:cNvPr id="69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distribution starts at the factory. Managers choose a set of warehouses (stocking points) and transportation carriers that will deliver the goods to final destinations in the desired time or at the lowest total cost. Physical distribution has now been expanded into the broader concept of supply chain management (SCM). Supply chain management starts before physical distribution and means strategically procuring the right inputs (raw materials, components, and capital equipment); converting them efficiently into finished products; and dispatching them to the final destinations.</a:t>
            </a:r>
            <a:endParaRPr b="0" lang="en-US" sz="1200" spc="-1" strike="noStrike">
              <a:solidFill>
                <a:srgbClr val="000000"/>
              </a:solidFill>
              <a:latin typeface="Arial"/>
            </a:endParaRPr>
          </a:p>
        </p:txBody>
      </p:sp>
      <p:sp>
        <p:nvSpPr>
          <p:cNvPr id="69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D1D3-852E-45C9-9CE3-7DFA5F2D9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BF69-FB62-4025-8B20-3C2672338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93760" y="703440"/>
            <a:ext cx="4689360" cy="3517560"/>
          </a:xfrm>
          <a:prstGeom prst="rect">
            <a:avLst/>
          </a:prstGeom>
          <a:ln w="0">
            <a:noFill/>
          </a:ln>
        </p:spPr>
      </p:sp>
      <p:sp>
        <p:nvSpPr>
          <p:cNvPr id="70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logistics includes planning the infrastructure to meet demand, then implementing and controlling the physical flows of materials and final goods from points of origin to points of use, to meet customer requirements at a profit. Market logistics planning has four ste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ing on the company’s value proposition to its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best channel design and network strategy for reaching the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operational excellence in sales forecasting, warehouse management, transportation management, and materials manage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lementing the solution with the best information systems, equipment, policies, and proced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CB07-2B3C-441E-95A2-B15A20242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93760" y="703440"/>
            <a:ext cx="4689360" cy="3517560"/>
          </a:xfrm>
          <a:prstGeom prst="rect">
            <a:avLst/>
          </a:prstGeom>
          <a:ln w="0">
            <a:noFill/>
          </a:ln>
        </p:spPr>
      </p:sp>
      <p:sp>
        <p:nvSpPr>
          <p:cNvPr id="65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examined marketing intermediaries from the viewpoint of manufacturers who wanted to build and manage marketing channels. In this chapter, we view these intermediaries—retailers, wholesalers, and logistical organizations—as requiring and forging their own marketing strategies in a rapidly changing world. Intermediaries also strive for marketing excellence and can reap the benefits like any other type of company. While innovative retailers such as Zappos, Sweden’s H&amp;M, Spain’s Zara and Mango, and Britain’s Topshop have thrived in recent years, others such as former U.S. stalwarts Gap, Home Depot, and Kmart have struggled. The more successful intermediaries use strategic planning, advanced information systems, and sophisticated marketing tools. They segment their markets, improve their market targeting and positioning, and aggressively pursue market expansion and diversification strategies. In this chapter, we consider marketing excellence in retailing, wholesaling, and logist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A34A-586D-4981-B4CC-6A107B030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93760" y="703440"/>
            <a:ext cx="4689360" cy="3517560"/>
          </a:xfrm>
          <a:prstGeom prst="rect">
            <a:avLst/>
          </a:prstGeom>
          <a:ln w="0">
            <a:noFill/>
          </a:ln>
        </p:spPr>
      </p:sp>
      <p:sp>
        <p:nvSpPr>
          <p:cNvPr id="70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logistics task calls for integrated logistics systems (ILS), which include materials management, material flow systems, and physical distribution, aided by information technolog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2318-3599-4C27-8D1B-8197FB994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93760" y="703440"/>
            <a:ext cx="4689360" cy="3517560"/>
          </a:xfrm>
          <a:prstGeom prst="rect">
            <a:avLst/>
          </a:prstGeom>
          <a:ln w="0">
            <a:noFill/>
          </a:ln>
        </p:spPr>
      </p:sp>
      <p:sp>
        <p:nvSpPr>
          <p:cNvPr id="70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logistics encompass several activities. The first is sales forecasting, on the basis of which the company schedules distribution, production, and inventory levels. Production plans indicate the materials the purchasing department must order. These materials arrive through inbound transportation, enter the receiving area, and are stored in raw-material inventory. Raw materials are converted into finished goods. Finished-goods inventory is the link between customer orders and manufacturing activity. Customers’ orders draw down the finished-goods inventory level, and manufacturing activity builds it up. Finished goods flow off the assembly line and pass through packaging, in-plant warehousing, shipping-room processing, outbound transportation, field warehousing, and customer delivery and servic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0C47-7482-4757-8D21-2077EFCE8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93760" y="703440"/>
            <a:ext cx="4689360" cy="3517560"/>
          </a:xfrm>
          <a:prstGeom prst="rect">
            <a:avLst/>
          </a:prstGeom>
          <a:ln w="0">
            <a:noFill/>
          </a:ln>
        </p:spPr>
      </p:sp>
      <p:sp>
        <p:nvSpPr>
          <p:cNvPr id="71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m must make four major decisions about its market logistics: (1) How should we handle orders (order processing)? (2) Where should we locate our stock (warehousing)? (3) How much stock should we hold (inventory)? and (4) How should we ship goods (transport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93760" y="703440"/>
            <a:ext cx="4689360" cy="3517560"/>
          </a:xfrm>
          <a:prstGeom prst="rect">
            <a:avLst/>
          </a:prstGeom>
          <a:ln w="0">
            <a:noFill/>
          </a:ln>
        </p:spPr>
      </p:sp>
      <p:sp>
        <p:nvSpPr>
          <p:cNvPr id="71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processing costs must be compared with inventory-carrying costs. The larger the average stock carried, the higher the inventory-carrying costs. These carrying costs include storage charges, cost of capital, taxes and insurance, and depreciation and obsolescence. Carrying costs might run as high as 30 percent of inventory value. This means that marketing managers who want their companies to carry larger inventories need to show that the larger inventories would produce incremental gross profits to exceed incremental carrying costs. We can determine the optimal order quantity by observing how order-processing costs and inventory- carrying costs sum up at different order levels. Figure 16.1 shows that the order-processing cost per unit decreases with the number of units ordered because the order costs are spread over more units. Inventory-carrying charges per unit increase with the number of units ordered, because each unit remains longer in inventory. We sum the two cost curves vertically into a total-cost curve and project the lowest point of the total-cost curve on the horizontal axis to find the optimal order quantity </a:t>
            </a:r>
            <a:r>
              <a:rPr b="0" i="1" lang="en-US" sz="1200" spc="-1" strike="noStrike">
                <a:solidFill>
                  <a:srgbClr val="000000"/>
                </a:solidFill>
                <a:latin typeface="Arial"/>
              </a:rPr>
              <a:t>Q*.</a:t>
            </a:r>
            <a:endParaRPr b="0" lang="en-US" sz="1200" spc="-1" strike="noStrike">
              <a:solidFill>
                <a:srgbClr val="000000"/>
              </a:solidFill>
              <a:latin typeface="Arial"/>
            </a:endParaRPr>
          </a:p>
        </p:txBody>
      </p:sp>
      <p:sp>
        <p:nvSpPr>
          <p:cNvPr id="71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26B3-BBE8-4790-8C43-0578B0799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96E4-DECC-4B04-A18C-4F7A6B766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93760" y="703440"/>
            <a:ext cx="4689360" cy="3517560"/>
          </a:xfrm>
          <a:prstGeom prst="rect">
            <a:avLst/>
          </a:prstGeom>
          <a:ln w="0">
            <a:noFill/>
          </a:ln>
        </p:spPr>
      </p:sp>
      <p:sp>
        <p:nvSpPr>
          <p:cNvPr id="71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 choices affect product pricing, on-time delivery performance, and the condition of the goods when they arrive, all of which affect customer satisfaction. In shipping goods to its warehouses, dealers, and customers, the company can choose rail, air, truck, waterway, or pipeline. Shippers consider such criteria as speed, frequency, dependability, capability, availability, traceability, and cost. For speed, air, rail, and truck are the prime contenders. If the goal is low cost, then the choice is water or pipeline. Shippers are increasingly combining two or more transportation modes, thanks to containerization. Containerization consists of putting the goods in boxes or trailers that are easy to transfer between two transportation modes. Piggyback describes the use of rail and trucks; fishyback, water and trucks; trainship, water and rail; and airtruck, air and trucks. Each coordinated mode offers specific advantages. For example, piggyback is cheaper than trucking alone yet provides flexibility and convenience. Shippers can choose private, contract, or common carriers. If the shipper owns its own truck or air fleet, it becomes a private carrier. A contract carrier is an independent organization selling transportation services to others on a contract basis. A common carrier provides services between predetermined points on a scheduled basis and is available to all shippers at standard rat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93760" y="703440"/>
            <a:ext cx="4689360" cy="3517560"/>
          </a:xfrm>
          <a:prstGeom prst="rect">
            <a:avLst/>
          </a:prstGeom>
          <a:ln w="0">
            <a:noFill/>
          </a:ln>
        </p:spPr>
      </p:sp>
      <p:sp>
        <p:nvSpPr>
          <p:cNvPr id="71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the questions listed in the slide in this chapter.</a:t>
            </a:r>
            <a:endParaRPr b="0" lang="en-US" sz="1200" spc="-1" strike="noStrike">
              <a:solidFill>
                <a:srgbClr val="000000"/>
              </a:solidFill>
              <a:latin typeface="Arial"/>
            </a:endParaRPr>
          </a:p>
        </p:txBody>
      </p:sp>
      <p:sp>
        <p:nvSpPr>
          <p:cNvPr id="71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2057-B69B-47CC-A5BA-80B4CDA70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691C-DEF5-41A2-BC43-13CB1B9BE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93760" y="703440"/>
            <a:ext cx="4689360" cy="3517560"/>
          </a:xfrm>
          <a:prstGeom prst="rect">
            <a:avLst/>
          </a:prstGeom>
          <a:ln w="0">
            <a:noFill/>
          </a:ln>
        </p:spPr>
      </p:sp>
      <p:sp>
        <p:nvSpPr>
          <p:cNvPr id="65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ing includes all the activities in selling goods or services directly to final consumers for personal, non-business use. A retailer or retail store is any business enterprise whose sales volume comes primarily from retai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organization selling to final consumers—whether it is a manufacturer, wholesaler, or retailer—is doing retailing. It doesn’t matter how the goods or services are sold (in person, by mail, telephone, vending machine, or on the Internet) or where (in a store, on the street, or in the consumer’s h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1740-E02A-45FF-A53F-856928C3D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93760" y="703440"/>
            <a:ext cx="4689360" cy="3517560"/>
          </a:xfrm>
          <a:prstGeom prst="rect">
            <a:avLst/>
          </a:prstGeom>
          <a:ln w="0">
            <a:noFill/>
          </a:ln>
        </p:spPr>
      </p:sp>
      <p:sp>
        <p:nvSpPr>
          <p:cNvPr id="656" name="PlaceHolder 2"/>
          <p:cNvSpPr>
            <a:spLocks noGrp="1"/>
          </p:cNvSpPr>
          <p:nvPr>
            <p:ph type="body"/>
          </p:nvPr>
        </p:nvSpPr>
        <p:spPr>
          <a:xfrm>
            <a:off x="490320" y="4456080"/>
            <a:ext cx="587844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major types of retai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ty stores carry a narrow product line.  Department stores carry several product lines. Supermarkets are large, low-cost, low-margin, high-volume, self-service store designed to meet total needs for food and household products. Convenience stores are small stores in residential area, often open 24/7, limited line of high-turnover convenience products plus takeout. Drug stores carry prescription and pharmacies, health and beauty aids, other personal care, small durable, miscellaneous items. Discount stores are standard or specialty merchandise; low-price, low-margin, high-volume stores. Extreme value or hard-discount store carry a more restricted merchandise mix than discount stores but at even lower prices.  Off-price retailers carry leftover goods, overruns, irregular merchandise sold at less than retail. Superstores are huge selling spaces, routinely purchased food and household items, plus services. Category killers carry a deep assortment in one category. Hypermarkets are huge stores that combine supermarket, discount, and warehouse retailing. Catalog showrooms include a broad selection of high-markup, fast-moving, brand-name goods sold by catalog at a discou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AFCC-F34F-425C-9FC3-D7AE53D87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93760" y="703440"/>
            <a:ext cx="4689360" cy="3517560"/>
          </a:xfrm>
          <a:prstGeom prst="rect">
            <a:avLst/>
          </a:prstGeom>
          <a:ln w="0">
            <a:noFill/>
          </a:ln>
        </p:spPr>
      </p:sp>
      <p:sp>
        <p:nvSpPr>
          <p:cNvPr id="65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ers meet widely different consumer preferences for service levels and specific services. They position themselves as offering one of four levels of service. Self-service is the cornerstone of all discount operations. Many customers are willing to carry out their own “locate-compare-select” process to save money. Self-selection means that customers find their own goods, although they can ask for assistance. Limited service means these retailers carry more shopping goods and services such as credit and merchandise-return privileges. With full service, salespeople are ready to assist in every phase of the “locate-compare-select” process. Customers who like to be waited on prefer this type of stor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8E8F-3BFD-4B60-BC64-B794E39ED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93760" y="703440"/>
            <a:ext cx="4689360" cy="3517560"/>
          </a:xfrm>
          <a:prstGeom prst="rect">
            <a:avLst/>
          </a:prstGeom>
          <a:ln w="0">
            <a:noFill/>
          </a:ln>
        </p:spPr>
      </p:sp>
      <p:sp>
        <p:nvSpPr>
          <p:cNvPr id="66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overwhelming bulk of goods and services— 97 percent—is sold through stores, nonstore retailing has been growing much faster than store retailing. Nonstore retailing falls into four majo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rect selling, also called multilevel selling and network marketing, is a multibillion-dollar industry, with hundreds of companies selling door-to-door or at home sales pa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rect marketing has roots in direct-mail and catalog marketing (Lands’ End, L.L.Bean). It includes telemarketing (1-800-FLOWERS), television direct-response marketing (HSN, QVC), and electronic shopping (Amazon.com, Autobytel.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utomatic vending offers a variety of merchandise, including impulse goods such as cigarettes, soft drinks, and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uying service is a storeless retailer serving a specific clientele—usually employees of large organizations—who are entitled to buy from a list of retailers that have agreed to give discounts in return for member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1510-5E20-4394-990C-627AA03A3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93760" y="703440"/>
            <a:ext cx="4689360" cy="3517560"/>
          </a:xfrm>
          <a:prstGeom prst="rect">
            <a:avLst/>
          </a:prstGeom>
          <a:ln w="0">
            <a:noFill/>
          </a:ln>
        </p:spPr>
      </p:sp>
      <p:sp>
        <p:nvSpPr>
          <p:cNvPr id="66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major types of corporate retail organizations. Corporate chain store refers to two or more outlets owned and controlled, employing central buying and merchandising, and selling similar lines of merchandise. A  voluntary chain is a wholesaler-sponsored group of independent retailers engaged in bulk buying and common merchandising. Independent Grocers Alliance (IGA). A retailer cooperative is an independent retailers using a central buying organization and joint promotion efforts. Consumer cooperative is a retail firm owned by its customers. Members contribute money to open their own store, vote on its policies, elect a group to manage it, and receive dividends. A franchise organization is a contractual association between a franchisor and franchisees, popular in a number of product and service areas. A merchandising conglomerate is a corporation that combines several diversified retailing lines and forms under central ownership, with some integration of distribution and managem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EA3E-F1EA-4288-8B12-F01E7C6D3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93760" y="703440"/>
            <a:ext cx="4689360" cy="3517560"/>
          </a:xfrm>
          <a:prstGeom prst="rect">
            <a:avLst/>
          </a:prstGeom>
          <a:ln w="0">
            <a:noFill/>
          </a:ln>
        </p:spPr>
      </p:sp>
      <p:sp>
        <p:nvSpPr>
          <p:cNvPr id="66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ranchising system, individual franchisees are a tightly knit group of enterprises whose systematic operations are planned, directed, and controlled by the operation’s innovator, called a franchisor. Franchises are distinguished by three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franchisor owns a trade or service mark and licenses it to franchisees in return for royalty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ranchisee pays for the right to be part of the system. Start-up costs include rental and lease equipment and fixtures, and usually a regular license fee. McDonald’s franchisees may invest as much as $1.6 million in total start-up costs and fees. The franchisee then pays McDonald’s a certain percentage of sales plus a monthly 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franchisor provides its franchisees with a system for doing busi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37B5-6A1B-4FD2-BC6F-CA516B8BF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93760" y="703440"/>
            <a:ext cx="4689360" cy="3517560"/>
          </a:xfrm>
          <a:prstGeom prst="rect">
            <a:avLst/>
          </a:prstGeom>
          <a:ln w="0">
            <a:noFill/>
          </a:ln>
        </p:spPr>
      </p:sp>
      <p:sp>
        <p:nvSpPr>
          <p:cNvPr id="67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dentifies the many changes going on in the retail environ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6-</a:t>
            </a:r>
            <a:fld id="{5D76930B-AB43-4412-9643-43AECFC92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60E2184-0CBF-48F2-B7DF-9B09F1B1A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9CAA0B64-60AF-4AD6-A2E9-FEF48C9D0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7E6DD93-4D2C-4C7D-92DC-AAA84F24B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240" y="6381360"/>
            <a:ext cx="8458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9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6-</a:t>
            </a:r>
            <a:fld id="{BBFED324-7159-4897-9CF0-28F4B33C3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a:t>
            </a:r>
            <a:fld id="{54F1BABE-3013-46F2-8FDF-B1B7CFA07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BBD19048-6EB7-4050-A275-D1EF7B792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a:t>
            </a:r>
            <a:fld id="{DFD35F58-D134-49A7-938B-6648E41D0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A3019D0-426A-4B32-85FB-AA0202BBE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a:t>
            </a:r>
            <a:fld id="{6D519DD0-85BA-43C6-8701-8AF09D8D1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a:t>
            </a:r>
            <a:fld id="{008447AA-BA98-4A47-902D-6FFFCA7B0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56CBDD9-8E9A-4E46-9A7B-5AB0168A0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6</a:t>
            </a:r>
            <a:br>
              <a:rPr sz="4000"/>
            </a:br>
            <a:r>
              <a:rPr b="1" lang="en-US" sz="4000" spc="-1" strike="noStrike">
                <a:solidFill>
                  <a:srgbClr val="000000"/>
                </a:solidFill>
                <a:latin typeface="Garamond"/>
              </a:rPr>
              <a:t>Managing Retailing, Wholesaling, </a:t>
            </a:r>
            <a:br>
              <a:rPr sz="4000"/>
            </a:br>
            <a:r>
              <a:rPr b="1" lang="en-US" sz="4000" spc="-1" strike="noStrike">
                <a:solidFill>
                  <a:srgbClr val="000000"/>
                </a:solidFill>
                <a:latin typeface="Garamond"/>
              </a:rPr>
              <a:t>and Logistics</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ailers’ Marketing Decisions</a:t>
            </a:r>
            <a:endParaRPr b="1" lang="en-US" sz="3600" spc="-1" strike="noStrike">
              <a:solidFill>
                <a:srgbClr val="000000"/>
              </a:solidFill>
              <a:latin typeface="Arial"/>
            </a:endParaRPr>
          </a:p>
        </p:txBody>
      </p:sp>
      <p:sp>
        <p:nvSpPr>
          <p:cNvPr id="594"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rt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ure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a:t>
            </a:r>
            <a:endParaRPr b="0" lang="en-US" sz="2800" spc="-1" strike="noStrike">
              <a:solidFill>
                <a:srgbClr val="000000"/>
              </a:solidFill>
              <a:latin typeface="Arial"/>
            </a:endParaRPr>
          </a:p>
        </p:txBody>
      </p:sp>
      <p:sp>
        <p:nvSpPr>
          <p:cNvPr id="595" name=""/>
          <p:cNvSpPr txBox="1"/>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atmosphe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activ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experi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endParaRPr b="0" lang="en-US" sz="2800" spc="-1" strike="noStrike">
              <a:solidFill>
                <a:srgbClr val="000000"/>
              </a:solidFill>
              <a:latin typeface="Arial"/>
            </a:endParaRPr>
          </a:p>
        </p:txBody>
      </p:sp>
      <p:sp>
        <p:nvSpPr>
          <p:cNvPr id="59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55AC3E0A-6BFA-4D30-BBFF-62E0DE646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DE8D9685-69EA-4A48-B336-59CA5B544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ailer Services Mix</a:t>
            </a:r>
            <a:endParaRPr b="1" lang="en-US" sz="3600" spc="-1" strike="noStrike">
              <a:solidFill>
                <a:srgbClr val="000000"/>
              </a:solidFill>
              <a:latin typeface="Arial"/>
            </a:endParaRPr>
          </a:p>
        </p:txBody>
      </p:sp>
      <p:sp>
        <p:nvSpPr>
          <p:cNvPr id="59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urchase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purchase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llary services</a:t>
            </a:r>
            <a:endParaRPr b="0" lang="en-US" sz="2800" spc="-1" strike="noStrike">
              <a:solidFill>
                <a:srgbClr val="000000"/>
              </a:solidFill>
              <a:latin typeface="Arial"/>
            </a:endParaRPr>
          </a:p>
        </p:txBody>
      </p:sp>
      <p:pic>
        <p:nvPicPr>
          <p:cNvPr id="600" name="Picture 2" descr=""/>
          <p:cNvPicPr/>
          <p:nvPr/>
        </p:nvPicPr>
        <p:blipFill>
          <a:blip r:embed="rId1"/>
          <a:stretch/>
        </p:blipFill>
        <p:spPr>
          <a:xfrm>
            <a:off x="4876920" y="1828800"/>
            <a:ext cx="2797200" cy="397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Footer Placeholder 4"/>
          <p:cNvSpPr/>
          <p:nvPr/>
        </p:nvSpPr>
        <p:spPr>
          <a:xfrm>
            <a:off x="228600" y="6381720"/>
            <a:ext cx="8458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C8C9D004-DEED-470D-BFB4-8C6D3DA32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re Atmosphere </a:t>
            </a:r>
            <a:br>
              <a:rPr sz="3600"/>
            </a:br>
            <a:r>
              <a:rPr b="1" lang="en-US" sz="3600" spc="-1" strike="noStrike">
                <a:solidFill>
                  <a:srgbClr val="000000"/>
                </a:solidFill>
                <a:latin typeface="Arial"/>
              </a:rPr>
              <a:t>and Experiences</a:t>
            </a:r>
            <a:endParaRPr b="1" lang="en-US" sz="3600" spc="-1" strike="noStrike">
              <a:solidFill>
                <a:srgbClr val="000000"/>
              </a:solidFill>
              <a:latin typeface="Arial"/>
            </a:endParaRPr>
          </a:p>
        </p:txBody>
      </p:sp>
      <p:pic>
        <p:nvPicPr>
          <p:cNvPr id="603" name="Picture 2" descr=""/>
          <p:cNvPicPr/>
          <p:nvPr/>
        </p:nvPicPr>
        <p:blipFill>
          <a:blip r:embed="rId1"/>
          <a:stretch/>
        </p:blipFill>
        <p:spPr>
          <a:xfrm>
            <a:off x="1785960" y="1447920"/>
            <a:ext cx="4767120" cy="4767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C486AB37-C8FE-4075-9397-43778BEC1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ps for Increasing Sales</a:t>
            </a:r>
            <a:br>
              <a:rPr sz="3600"/>
            </a:br>
            <a:r>
              <a:rPr b="1" lang="en-US" sz="3600" spc="-1" strike="noStrike">
                <a:solidFill>
                  <a:srgbClr val="000000"/>
                </a:solidFill>
                <a:latin typeface="Arial"/>
              </a:rPr>
              <a:t> in Retail Space</a:t>
            </a:r>
            <a:endParaRPr b="1" lang="en-US" sz="3600" spc="-1" strike="noStrike">
              <a:solidFill>
                <a:srgbClr val="000000"/>
              </a:solidFill>
              <a:latin typeface="Arial"/>
            </a:endParaRPr>
          </a:p>
        </p:txBody>
      </p:sp>
      <p:sp>
        <p:nvSpPr>
          <p:cNvPr id="60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shoppers in the store</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or the transition zone</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make them hunt</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erchandise available to the reach and touch</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men do not ask question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omen need space</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heckout easy</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264CE205-9CB8-4CBD-BE0D-55CF9DD02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tion Decision</a:t>
            </a:r>
            <a:endParaRPr b="1" lang="en-US" sz="3600" spc="-1" strike="noStrike">
              <a:solidFill>
                <a:srgbClr val="000000"/>
              </a:solidFill>
              <a:latin typeface="Arial"/>
            </a:endParaRPr>
          </a:p>
        </p:txBody>
      </p:sp>
      <p:sp>
        <p:nvSpPr>
          <p:cNvPr id="60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business distri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shopping cen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hopping cen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pping str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within a larger stor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6E6FE916-1B40-40E9-B7DE-4B51E2F60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vate Label Brands</a:t>
            </a:r>
            <a:endParaRPr b="1" lang="en-US" sz="3600" spc="-1" strike="noStrike">
              <a:solidFill>
                <a:srgbClr val="000000"/>
              </a:solidFill>
              <a:latin typeface="Arial"/>
            </a:endParaRPr>
          </a:p>
        </p:txBody>
      </p:sp>
      <p:sp>
        <p:nvSpPr>
          <p:cNvPr id="61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s are ubiquitou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accepts private labe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label buyers come from all socioeconomic strat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labels are not a recessionary phenomen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loyalty shifts from manufacturers to retailer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C1D6ACA0-54C4-4767-9FDA-F7F7241EC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lesaling Functions</a:t>
            </a:r>
            <a:endParaRPr b="1" lang="en-US" sz="3600" spc="-1" strike="noStrike">
              <a:solidFill>
                <a:srgbClr val="000000"/>
              </a:solidFill>
              <a:latin typeface="Arial"/>
            </a:endParaRPr>
          </a:p>
        </p:txBody>
      </p:sp>
      <p:sp>
        <p:nvSpPr>
          <p:cNvPr id="615" name="PlaceHolder 2"/>
          <p:cNvSpPr>
            <a:spLocks noGrp="1"/>
          </p:cNvSpPr>
          <p:nvPr>
            <p:ph/>
          </p:nvPr>
        </p:nvSpPr>
        <p:spPr>
          <a:xfrm>
            <a:off x="761760" y="1881000"/>
            <a:ext cx="3778200" cy="42908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 and promo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and assortment build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break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ing</a:t>
            </a:r>
            <a:endParaRPr b="0" lang="en-US" sz="2800" spc="-1" strike="noStrike">
              <a:solidFill>
                <a:srgbClr val="000000"/>
              </a:solidFill>
              <a:latin typeface="Arial"/>
            </a:endParaRPr>
          </a:p>
        </p:txBody>
      </p:sp>
      <p:sp>
        <p:nvSpPr>
          <p:cNvPr id="616" name="PlaceHolder 3"/>
          <p:cNvSpPr>
            <a:spLocks noGrp="1"/>
          </p:cNvSpPr>
          <p:nvPr>
            <p:ph/>
          </p:nvPr>
        </p:nvSpPr>
        <p:spPr>
          <a:xfrm>
            <a:off x="4679640" y="1952280"/>
            <a:ext cx="3778200" cy="421956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bea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services and counseling</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7E3F6017-1A11-42B5-A78E-688394AB3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jor Wholesaler Types</a:t>
            </a:r>
            <a:endParaRPr b="1" lang="en-US" sz="3600" spc="-1" strike="noStrike">
              <a:solidFill>
                <a:srgbClr val="000000"/>
              </a:solidFill>
              <a:latin typeface="Arial"/>
            </a:endParaRPr>
          </a:p>
        </p:txBody>
      </p:sp>
      <p:sp>
        <p:nvSpPr>
          <p:cNvPr id="61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rs and ag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621" name=""/>
          <p:cNvSpPr txBox="1"/>
          <p:nvPr/>
        </p:nvSpPr>
        <p:spPr>
          <a:xfrm>
            <a:off x="533520" y="1600200"/>
            <a:ext cx="7696080" cy="4572000"/>
          </a:xfrm>
          <a:prstGeom prst="rect">
            <a:avLst/>
          </a:prstGeom>
          <a:noFill/>
          <a:ln w="0">
            <a:noFill/>
          </a:ln>
        </p:spPr>
        <p:txBody>
          <a:bodyPr anchor="t">
            <a:normAutofit/>
          </a:bodyPr>
          <a:p>
            <a:pPr marL="343080" indent="-343080" algn="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y chain management </a:t>
            </a:r>
            <a:r>
              <a:rPr b="0" lang="en-US" sz="2800" spc="-1" strike="noStrike">
                <a:solidFill>
                  <a:srgbClr val="000000"/>
                </a:solidFill>
                <a:latin typeface="Arial"/>
              </a:rPr>
              <a:t>starts before physical distribution and means strategically procuring the right inputs (raw materials, components, and capital equipment); converting them efficiently into finished products; and dispatching them to the final destinations.</a:t>
            </a:r>
            <a:endParaRPr b="0" lang="en-US" sz="2800" spc="-1" strike="noStrike">
              <a:solidFill>
                <a:srgbClr val="000000"/>
              </a:solidFill>
              <a:latin typeface="Arial"/>
            </a:endParaRPr>
          </a:p>
        </p:txBody>
      </p:sp>
      <p:sp>
        <p:nvSpPr>
          <p:cNvPr id="62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0C92AEC4-87B2-47F9-9834-9494434D6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F4DAE42B-70BB-4A8F-9092-346FD4832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Logistics Planning</a:t>
            </a:r>
            <a:endParaRPr b="1" lang="en-US" sz="3600" spc="-1" strike="noStrike">
              <a:solidFill>
                <a:srgbClr val="000000"/>
              </a:solidFill>
              <a:latin typeface="Arial"/>
            </a:endParaRPr>
          </a:p>
        </p:txBody>
      </p:sp>
      <p:sp>
        <p:nvSpPr>
          <p:cNvPr id="6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company’s value proposition to its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best channel design and network strateg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operational excell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the solution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E80928D9-E442-4BFA-BB5F-68E3A06C7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jor types of marketing intermediaries occupy this sect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rketing decisions do these marketing intermediaries mak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trends with marketing intermedia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future hold for private label brand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493897F5-B00F-46DF-AE09-38EBFD900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a:t>
            </a:r>
            <a:br>
              <a:rPr sz="3200"/>
            </a:br>
            <a:r>
              <a:rPr b="1" lang="en-US" sz="3200" spc="-1" strike="noStrike">
                <a:solidFill>
                  <a:srgbClr val="000000"/>
                </a:solidFill>
                <a:latin typeface="Arial"/>
              </a:rPr>
              <a:t>Integrated Logistics Systems?</a:t>
            </a:r>
            <a:endParaRPr b="1" lang="en-US" sz="3200" spc="-1" strike="noStrike">
              <a:solidFill>
                <a:srgbClr val="000000"/>
              </a:solidFill>
              <a:latin typeface="Arial"/>
            </a:endParaRPr>
          </a:p>
        </p:txBody>
      </p:sp>
      <p:sp>
        <p:nvSpPr>
          <p:cNvPr id="628" name="PlaceHolder 2"/>
          <p:cNvSpPr>
            <a:spLocks noGrp="1"/>
          </p:cNvSpPr>
          <p:nvPr>
            <p:ph/>
          </p:nvPr>
        </p:nvSpPr>
        <p:spPr>
          <a:xfrm>
            <a:off x="761760" y="1752120"/>
            <a:ext cx="7391160" cy="441972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a:solidFill>
                  <a:srgbClr val="000000"/>
                </a:solidFill>
                <a:latin typeface="Arial"/>
              </a:rPr>
              <a:t>integrated logistics system</a:t>
            </a:r>
            <a:r>
              <a:rPr b="0" lang="en-US" sz="2800" spc="-1" strike="noStrike">
                <a:solidFill>
                  <a:srgbClr val="000000"/>
                </a:solidFill>
                <a:latin typeface="Arial"/>
              </a:rPr>
              <a:t> (ILS) includes materials management, material flow systems, and physical distribution, aided by information technology.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B6960BDB-A0DB-4867-9E17-12093A4A5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Logistics</a:t>
            </a:r>
            <a:endParaRPr b="1" lang="en-US" sz="3600" spc="-1" strike="noStrike">
              <a:solidFill>
                <a:srgbClr val="000000"/>
              </a:solidFill>
              <a:latin typeface="Arial"/>
            </a:endParaRPr>
          </a:p>
        </p:txBody>
      </p:sp>
      <p:sp>
        <p:nvSpPr>
          <p:cNvPr id="631"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forecas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schedu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pla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shed-goods inventory deci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lant warehou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ping-room proces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bound transpor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warehou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delivery and servici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5D191F11-0190-4226-AF24-DFA5CEBAD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Logistics Decisions</a:t>
            </a:r>
            <a:endParaRPr b="1" lang="en-US" sz="3600" spc="-1" strike="noStrike">
              <a:solidFill>
                <a:srgbClr val="000000"/>
              </a:solidFill>
              <a:latin typeface="Arial"/>
            </a:endParaRPr>
          </a:p>
        </p:txBody>
      </p:sp>
      <p:sp>
        <p:nvSpPr>
          <p:cNvPr id="63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orders be handl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should stock be locat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stock should be hel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goods be shipped?</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6.1 Determining Optimal Order Quantity</a:t>
            </a:r>
            <a:endParaRPr b="1" lang="en-US" sz="3600" spc="-1" strike="noStrike">
              <a:solidFill>
                <a:srgbClr val="000000"/>
              </a:solidFill>
              <a:latin typeface="Arial"/>
            </a:endParaRPr>
          </a:p>
        </p:txBody>
      </p:sp>
      <p:sp>
        <p:nvSpPr>
          <p:cNvPr id="63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7A8C3B4B-3293-4BFA-B47D-9A7FD42F6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8" name="Picture 2" descr=""/>
          <p:cNvPicPr/>
          <p:nvPr/>
        </p:nvPicPr>
        <p:blipFill>
          <a:blip r:embed="rId1"/>
          <a:stretch/>
        </p:blipFill>
        <p:spPr>
          <a:xfrm>
            <a:off x="1523880" y="1828800"/>
            <a:ext cx="5857920" cy="35244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C235CDC9-1460-4013-95D1-C84134633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ation Factors</a:t>
            </a:r>
            <a:endParaRPr b="1" lang="en-US" sz="3600" spc="-1" strike="noStrike">
              <a:solidFill>
                <a:srgbClr val="000000"/>
              </a:solidFill>
              <a:latin typeface="Arial"/>
            </a:endParaRPr>
          </a:p>
        </p:txBody>
      </p:sp>
      <p:pic>
        <p:nvPicPr>
          <p:cNvPr id="641" name="Picture 2" descr=""/>
          <p:cNvPicPr/>
          <p:nvPr/>
        </p:nvPicPr>
        <p:blipFill>
          <a:blip r:embed="rId1"/>
          <a:stretch/>
        </p:blipFill>
        <p:spPr>
          <a:xfrm>
            <a:off x="1523880" y="1828800"/>
            <a:ext cx="5486400" cy="3648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43"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jor types of marketing intermediaries occupy this sect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rketing decisions do these marketing intermediaries mak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trends with marketing intermedia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future hold for private label brands?</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3C935EBB-0354-4188-936D-A2B80D8FA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ailing</a:t>
            </a:r>
            <a:endParaRPr b="1" lang="en-US" sz="3600" spc="-1" strike="noStrike">
              <a:solidFill>
                <a:srgbClr val="000000"/>
              </a:solidFill>
              <a:latin typeface="Arial"/>
            </a:endParaRPr>
          </a:p>
        </p:txBody>
      </p:sp>
      <p:sp>
        <p:nvSpPr>
          <p:cNvPr id="5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0950B07C-6288-4D08-9B82-9D778F0EE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1" name="Picture 2" descr=""/>
          <p:cNvPicPr/>
          <p:nvPr/>
        </p:nvPicPr>
        <p:blipFill>
          <a:blip r:embed="rId1"/>
          <a:stretch/>
        </p:blipFill>
        <p:spPr>
          <a:xfrm>
            <a:off x="1600200" y="1752480"/>
            <a:ext cx="5543640" cy="33721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6.1  Major Retailer Types</a:t>
            </a:r>
            <a:endParaRPr b="1" lang="en-US" sz="3600" spc="-1" strike="noStrike">
              <a:solidFill>
                <a:srgbClr val="000000"/>
              </a:solidFill>
              <a:latin typeface="Arial"/>
            </a:endParaRPr>
          </a:p>
        </p:txBody>
      </p:sp>
      <p:sp>
        <p:nvSpPr>
          <p:cNvPr id="573"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ty 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store</a:t>
            </a:r>
            <a:endParaRPr b="0" lang="en-US" sz="2800" spc="-1" strike="noStrike">
              <a:solidFill>
                <a:srgbClr val="000000"/>
              </a:solidFill>
              <a:latin typeface="Arial"/>
            </a:endParaRPr>
          </a:p>
        </p:txBody>
      </p:sp>
      <p:sp>
        <p:nvSpPr>
          <p:cNvPr id="574"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unt 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price retail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 showroom</a:t>
            </a:r>
            <a:endParaRPr b="0" lang="en-US" sz="2800" spc="-1" strike="noStrike">
              <a:solidFill>
                <a:srgbClr val="000000"/>
              </a:solidFill>
              <a:latin typeface="Arial"/>
            </a:endParaRPr>
          </a:p>
        </p:txBody>
      </p:sp>
      <p:sp>
        <p:nvSpPr>
          <p:cNvPr id="57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334BF745-FE1B-4050-B80F-AE98BDCD0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BA349C7C-B30C-4A30-B22D-51E5C12AE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vels of Retail Service</a:t>
            </a:r>
            <a:endParaRPr b="1" lang="en-US" sz="3600" spc="-1" strike="noStrike">
              <a:solidFill>
                <a:srgbClr val="000000"/>
              </a:solidFill>
              <a:latin typeface="Arial"/>
            </a:endParaRPr>
          </a:p>
        </p:txBody>
      </p:sp>
      <p:sp>
        <p:nvSpPr>
          <p:cNvPr id="57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sele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servi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service</a:t>
            </a:r>
            <a:endParaRPr b="0" lang="en-US" sz="2800" spc="-1" strike="noStrike">
              <a:solidFill>
                <a:srgbClr val="000000"/>
              </a:solidFill>
              <a:latin typeface="Arial"/>
            </a:endParaRPr>
          </a:p>
        </p:txBody>
      </p:sp>
      <p:pic>
        <p:nvPicPr>
          <p:cNvPr id="579" name="Picture 2" descr=""/>
          <p:cNvPicPr/>
          <p:nvPr/>
        </p:nvPicPr>
        <p:blipFill>
          <a:blip r:embed="rId1"/>
          <a:stretch/>
        </p:blipFill>
        <p:spPr>
          <a:xfrm>
            <a:off x="990720" y="3733920"/>
            <a:ext cx="6205320" cy="2322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5807D3DE-333C-4DC0-8DF7-AD65D9868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store Retailing</a:t>
            </a:r>
            <a:endParaRPr b="1" lang="en-US" sz="3600" spc="-1" strike="noStrike">
              <a:solidFill>
                <a:srgbClr val="000000"/>
              </a:solidFill>
              <a:latin typeface="Arial"/>
            </a:endParaRPr>
          </a:p>
        </p:txBody>
      </p:sp>
      <p:sp>
        <p:nvSpPr>
          <p:cNvPr id="58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l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vend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service</a:t>
            </a:r>
            <a:endParaRPr b="0" lang="en-US" sz="2800" spc="-1" strike="noStrike">
              <a:solidFill>
                <a:srgbClr val="000000"/>
              </a:solidFill>
              <a:latin typeface="Arial"/>
            </a:endParaRPr>
          </a:p>
        </p:txBody>
      </p:sp>
      <p:pic>
        <p:nvPicPr>
          <p:cNvPr id="583" name="Picture 2" descr=""/>
          <p:cNvPicPr/>
          <p:nvPr/>
        </p:nvPicPr>
        <p:blipFill>
          <a:blip r:embed="rId1"/>
          <a:stretch/>
        </p:blipFill>
        <p:spPr>
          <a:xfrm>
            <a:off x="3886200" y="3276720"/>
            <a:ext cx="3638520" cy="2550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FCD9A8C5-9485-47AC-9BA1-8878ED0C1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16.2  Major Types of Corporate </a:t>
            </a:r>
            <a:br>
              <a:rPr sz="3200"/>
            </a:br>
            <a:r>
              <a:rPr b="1" lang="en-US" sz="3200" spc="-1" strike="noStrike">
                <a:solidFill>
                  <a:srgbClr val="000000"/>
                </a:solidFill>
                <a:latin typeface="Arial"/>
              </a:rPr>
              <a:t>Retail Organizations</a:t>
            </a:r>
            <a:endParaRPr b="1" lang="en-US" sz="3200" spc="-1" strike="noStrike">
              <a:solidFill>
                <a:srgbClr val="000000"/>
              </a:solidFill>
              <a:latin typeface="Arial"/>
            </a:endParaRPr>
          </a:p>
        </p:txBody>
      </p:sp>
      <p:sp>
        <p:nvSpPr>
          <p:cNvPr id="58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chain 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ntary chai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ler coopera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oopera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hise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handising conglomerate</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nchising System</a:t>
            </a:r>
            <a:endParaRPr b="1" lang="en-US" sz="3600" spc="-1" strike="noStrike">
              <a:solidFill>
                <a:srgbClr val="000000"/>
              </a:solidFill>
              <a:latin typeface="Arial"/>
            </a:endParaRPr>
          </a:p>
        </p:txBody>
      </p:sp>
      <p:sp>
        <p:nvSpPr>
          <p:cNvPr id="588"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nchisor owns a trade or service mark and licenses it to franchisees in return for royalty pay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nchisee pays for the right to be part of the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nchisor provides its franchisees with a system for doing busi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86E82267-D2CE-4C13-B996-145AE4E0A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6-</a:t>
            </a:r>
            <a:fld id="{E291A3A0-4771-44F0-92C0-E4721EB7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ges in the </a:t>
            </a:r>
            <a:br>
              <a:rPr sz="3600"/>
            </a:br>
            <a:r>
              <a:rPr b="1" lang="en-US" sz="3600" spc="-1" strike="noStrike">
                <a:solidFill>
                  <a:srgbClr val="000000"/>
                </a:solidFill>
                <a:latin typeface="Arial"/>
              </a:rPr>
              <a:t>Retail Environment</a:t>
            </a:r>
            <a:endParaRPr b="1" lang="en-US" sz="3600" spc="-1" strike="noStrike">
              <a:solidFill>
                <a:srgbClr val="000000"/>
              </a:solidFill>
              <a:latin typeface="Arial"/>
            </a:endParaRPr>
          </a:p>
        </p:txBody>
      </p:sp>
      <p:sp>
        <p:nvSpPr>
          <p:cNvPr id="59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retail forms and combination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 between store-based and non-store-based retailing</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giant retailer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e of middle market retailer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investment in technology</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profile of major retailer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shopper marketing</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4:27Z</dcterms:modified>
  <cp:revision>422</cp:revision>
  <dc:subject/>
  <dc:title>Kotler Keller 2</dc:title>
</cp:coreProperties>
</file>