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C54F6-A41A-400E-8038-91A84B56B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F3EF-C24E-4DBC-A77A-C13DD1633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42FE-D83A-4BFD-8407-9A5663F97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reference groups are all the groups that have a direct (face-to-face) or indirect influence on their attitudes or behavior. Groups having a direct influence are called membership groups. Some of these are primary groups with whom the person interacts fairly continuously and informally, such as family, friends, neighbors, and coworkers. People also belong to secondary groups, such as religious, professional, and trade-union groups, which tend to be more formal and require less continuous interaction. Reference groups influence members in at least three ways. They expose an individual to new behaviors and lifestyles, they influence attitudes and self-concept, and they create pressures for conformity that may affect product and brand choices. People are also influenced by groups to which they do not belong</a:t>
            </a:r>
            <a:r>
              <a:rPr b="0" i="1" lang="en-US" sz="1200" spc="-1" strike="noStrike">
                <a:solidFill>
                  <a:srgbClr val="000000"/>
                </a:solidFill>
                <a:latin typeface="Arial"/>
              </a:rPr>
              <a:t>. </a:t>
            </a:r>
            <a:r>
              <a:rPr b="0" lang="en-US" sz="1200" spc="-1" strike="noStrike">
                <a:solidFill>
                  <a:srgbClr val="000000"/>
                </a:solidFill>
                <a:latin typeface="Arial"/>
              </a:rPr>
              <a:t>Aspirational groups are those a person hopes to join; disassociative groups are those whose values or behavior an individual rejects. Where reference group influence is strong, marketers must determine how to reach and influence the group’s opinion leaders. An opinion leader is the person who offers informal advice or information about a specific product or product category, such as which of several brands is best or how a particular product may be used. Opinion leaders are often highly confident, socially active, and frequent users of the categor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FDC9-4E2D-4C29-A7F2-4449EFBC9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consumer buying organization in society, and family members constitute the most influential primary reference group. There are two families in the buyer’s life. The family of orientation consists of parents and siblings. From parents a person acquires an orientation toward religion, politics, and economics and a sense of personal ambition, self-worth, and love. Even if the buyer no longer interacts very much with his or her parents, parental influence on behavior can be significant. Almost 40 percent of families have auto insurance with the same company as the husband’s par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direct influence on everyday buying behavior is the family of procreation—namely, the person’s spouse and children. In the United States, husband–wife engagement in purchases has traditionally varied widely by product category. The wife has usually acted as the family’s main purchasing agent, especially for food, sundries, and staple clothing items. Now traditional purchasing roles are changing, and marketers would be wise to see both men and women as possible targe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669E-1294-442C-AEDB-A8EF27A19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factors that affect consumer decisions include age, life cycle stage, occupation, wealth, personality, values, lifestyle, and self-concept. We’ll take a closer look at a few of these in the coming slid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aste in food, clothes, furniture, and recreation is often related to our age. Consumption is also shaped by the family life cycle and the number, age, and gender of people in the household at any point in time. U.S. households are increasingly fragmented—the traditional family of four with a husband, wife, and two kids makes up a much smaller percentage of total households than it once did. The average U.S. household size in 2008 was 2.6 persons. In addition, psychological life-cycle stages may matter. Adults experience certain “passages” or “transformations” as they go through life. Their behavior as they go through these passages, such as becoming a parent, is not necessarily fixed but changes with the times. Marketers should also consider critical life events or transitions—marriage, childbirth, illness, relocation, divorce, first job, career change, retirement, death of a spouse—as giving rise to new needs.</a:t>
            </a:r>
            <a:endParaRPr b="0" lang="en-US" sz="1200" spc="-1" strike="noStrike">
              <a:solidFill>
                <a:srgbClr val="000000"/>
              </a:solidFill>
              <a:latin typeface="Arial"/>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40B9-40FB-4BCA-BBDF-DE6EAFBBB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pation also influences consumption patterns. Marketers try to identify the occupational groups that have above-average interest in their products and services and even tailor products for certain occupational groups: Computer software companies, for example, design different products for brand managers, engineers, lawyers, and phys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recent recession clearly indicated, both product and brand choice are greatly affected by economic circumstances: spendable income (level, stability, and time pattern), savings and assets (including the percentage that is liquid), debts, borrowing power, and attitudes toward spending and saving. Luxury-goods makers such as Gucci, Prada, and Burberry are vulnerable to an economic downturn. If economic indicators point to a recession, marketers can take steps to redesign, reposition, and reprice their products or introduce or increase the emphasis on discount brands so they can continue to offer value to target customers. Some firms—such as Snap Fitness—are well-positioned to take advantage of good and bad economic times to begin with. twice—24 hour Snap Fitness actually expanded the number of its clubs, and its revenue doubled. The franchise chain did all this despite charging members only $35 per month with easy cancellation fees. Its secret? A no-frills approach reinforced by the motto, “Fast, Convenient, Affordable.”</a:t>
            </a:r>
            <a:endParaRPr b="0" lang="en-US" sz="1200" spc="-1" strike="noStrike">
              <a:solidFill>
                <a:srgbClr val="000000"/>
              </a:solidFill>
              <a:latin typeface="Arial"/>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3D5A-83C6-4CBD-99E4-631063122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erson has personality characteristics that influence his or her buying behavior. By personality, we mean a set of distinguishing human psychological traits that lead to relatively consistent and enduring responses to environmental stimuli (including buying behavior).We often describe personality in terms of such traits as self-confidence dominance, autonomy, deference, sociability, defensiveness, and adaptability. Personality can be a useful variable in analyzing consumer brand choices. People from the same subculture, social class, and occupation may lead quite different lifestyles. A lifestyle is a person’s pattern of living in the world as expressed in activities, interests, and opinions. It portrays the “whole person” interacting with his or her environment. Marketers search for relationships between their products and lifestyle groups. In this content from Joie de Vivre we see a focus on the consumers’ personality. </a:t>
            </a:r>
            <a:endParaRPr b="0" lang="en-US" sz="1200" spc="-1" strike="noStrike">
              <a:solidFill>
                <a:srgbClr val="000000"/>
              </a:solidFill>
              <a:latin typeface="Arial"/>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C0250-5AC6-498A-A144-34779DC43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6794-C1B1-4AB8-9903-8B9DCE4D4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s also have personalities, and consumers are likely to choose brands whose personalities match their own. We define brand personality as the specific mix of human traits that we can attribute to a particular brand. Research on brand personalities identified the following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incerity (down-to-earth, honest, wholesome, and cheer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xcitement (daring, spirited, imaginative, and up-to-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mpetence (reliable, intelligent, and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ophistication (upper-class and ch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Ruggedness (outdoorsy and t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s tend to be strong on one particular trait. For instance, Levi’s on “ruggedness”; MTV on “excitement”; CNN on “competence”; and Campbell’s on “sincerity.” These brands will, in theory, attract users high on the same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Buy has developed a personality image of sincerity using its Twelp Force on Twitt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A949E-B477-4944-847A-17058326F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who worry about the environment, want products to be produced in a sustainable way, and spend money to advance their personal health, development, and potential have been named “LOHAS,” an acronym for lifestyles of health and sustainability. One estimate placed 19 percent of the adults in the United States, or 41 million people, in the LOHAS or “Cultural Creatives” category. The market for LOHAS products encompasses organic foods, energy-efficient appliances and solar panels, alternative medicine, yoga tapes, and ecotourism. Taken together, these account for an estimated $209 billion market. Table 6.2 breaks the LOHAS demographic into five segments with estimated size, and product and service interes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ing point for understanding consumer behavior is the stimulus-response model shown in Figure 6.1.Marketing and environmental stimuli enter the consumer’s consciousness, and a set of psychological processes combine with certain consumer characteristics to result in decision processes and purchase decisions. The marketer’s task is to understand what happens in the consumer’s consciousness between the arrival of the outside marketing stimuli and the ultimate purchase decisions. Four key psychological processes—motivation, perception, learning, and memory—fundamentally influence consumer responses.</a:t>
            </a:r>
            <a:endParaRPr b="0" lang="en-US"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1883-3FC2-4D5D-9B84-436DC6F3E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92DA2-BDB3-4E04-9B05-C449E6CA9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of the best-known theories of human motivation—those of Sigmund Freud, Abraham Maslow, and Frederick Herzberg—carry quite different implications for consumer analysis and marketing strategy. Sigmund Freud assumed the psychological forces shaping people’s behavior are largely unconscious, and that a person cannot fully understand his or her own motivations. Someone who examines specific brands will react not only to their stated capabilities, but also to other, less conscious cues such as shape, size, weight, material, color, and brand name. Abraham Maslow sought to explain why people are driven by particular needs at particular times. His answer is that human needs are arranged in a hierarchy from most to least pressing—physiological needs, safety needs, social needs, esteem needs, and self-actualization. We discuss Maslow’s theory on the next slide. Frederick Herzberg developed a two-factor theory that distinguishes dissatisfiers (factors that cause dissatisfaction) from satisfiers (factors that cause satisfaction).</a:t>
            </a:r>
            <a:r>
              <a:rPr b="0" i="1" lang="en-US" sz="1200" spc="-1" strike="noStrike">
                <a:solidFill>
                  <a:srgbClr val="000000"/>
                </a:solidFill>
                <a:latin typeface="Arial"/>
              </a:rPr>
              <a:t> </a:t>
            </a:r>
            <a:r>
              <a:rPr b="0" lang="en-US" sz="1200" spc="-1" strike="noStrike">
                <a:solidFill>
                  <a:srgbClr val="000000"/>
                </a:solidFill>
                <a:latin typeface="Arial"/>
              </a:rPr>
              <a:t>The absence of dissatisfiers is not enough to motivate a purchase; satisfiers must be pres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61C1-495B-4EA7-8FFA-AD82A60AC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m of marketing is to meet and satisfy target customers’ needs and wants better than competitors. Marketers must have a thorough understanding of how consumers think, feel, and act and offer clear value to each and every target consum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 illustrates Maslow’s Need Hierarchy. The theory suggests that people will try to satisfy their most important need first and then try to satisfy the next most important. For example, a starving man (need 1) will not take an interest in the latest happenings in the art world (need 5), nor in how he is viewed by others (need 3 or 4), nor even in whether he is breathing clean air (need 2), but when he has enough food and water, the next most important need will become salient.</a:t>
            </a:r>
            <a:endParaRPr b="0" lang="en-US"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E0A8-D4FE-45BD-A3FC-AACFC8F63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A323F-7B43-49C1-9BE8-C4F34C49D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ivated person is ready to act—how is influenced by his or her perception of the situation. In marketing, perceptions are more important than reality, because perceptions affect consumers’ actual behavior. Perception is the process by which we select, organize, and interpret information inputs to create a meaningful picture of the world. It depends not only on physical stimuli, but also on the stimuli’s relationship to the surrounding environment and on conditions within each of us. Because we cannot possibly attend to all these, we screen most stimuli out—a process called selective attention. Selective attention means that marketers must work hard to attract consumers’ notice. Even noticed stimuli don’t always come across in the way the senders intended. Selective distortion is the tendency to interpret information in a way that fits our preconceptions. Consumers will often distort information to be consistent with prior brand and product beliefs and expectations. Because of selective retention, we’re likely to remember good points about a product we like and forget good points about competing produc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act, we learn. Learning induces changes in our behavior arising from experience. Most human behavior is learned, although much learning is incidental. Learning theorists believe learning is produced through the interplay of drives, stimuli, cues, responses, and reinforcement. Two popular approaches to learning are classical conditioning and operant (instrumental) conditioning. A drive is a strong internal stimulus impelling action. Cues are minor stimuli that determine when, where, and how a person responds. Suppose you buy an HP computer. If your experience is rewarding, your response to computers and HP will be positively reinforced. Later, when you want to buy a printer, you may assume that because it makes good computers, HP also makes good printers. In other words, you generalize your response to similar stimuli. A countertendency to generalization is discrimination. Discrimination means we have learned to recognize differences in sets of similar stimuli and can adjust our responses accordingly.</a:t>
            </a:r>
            <a:endParaRPr b="0" lang="en-US" sz="1200" spc="-1" strike="noStrike">
              <a:solidFill>
                <a:srgbClr val="000000"/>
              </a:solidFill>
              <a:latin typeface="Arial"/>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BC63-F3C2-4641-B1FA-BE68719FF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or product may make a consumer feel emotions like pride and confidence . An ad may create feelings of amusement, disgust, or wonder. Emotions are connected to the choices we make as consumers.</a:t>
            </a:r>
            <a:endParaRPr b="0" lang="en-US" sz="1200" spc="-1" strike="noStrike">
              <a:solidFill>
                <a:srgbClr val="000000"/>
              </a:solidFill>
              <a:latin typeface="Arial"/>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02589-3D93-4CAB-BFB3-1E556BD59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psychologists distinguish between short-term memory (STM)—a temporary and limited repository of information—and long-term memory (LTM)—a more permanent, essentially unlimited repository. All the information and experiences we encounter as we go through life can end up in our long-term memory. Most widely accepted views of long-term memory structure assume we form some kind of associative model. For example, the associative network memory model views LTM as a set of nodes and links. Nodes are stored information connected by links that vary in strength. Any type of information can be stored in the memory network, including verbal, visual, abstract, and contextual. A spreading activation process from node to node determines how much we retrieve and what information we can actually recall in any given situation. When a node becomes activated because we’re encoding external information (when we read or hear a word or phrase) or retrieving internal information from LTM (when we think about some concept), other nodes are also activated if they’re strongly enough associated with that node. In this model, we can think of consumer brand knowledge as a node in memory with a variety of linked associations. The strength and organization of these associations will be important determinants of the information we can recall about the brand. Brand associations consist of all brand-related thoughts, feelings, perceptions, images, experiences, beliefs, attitudes, and so on that become linked to the brand node.</a:t>
            </a:r>
            <a:endParaRPr b="0" lang="en-US"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2EB3B-9EC7-4F5B-9AC0-0888D5D61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think of marketing as a way of making sure consumers have product and service experiences to create the right brand knowledge structures and maintain them in memory. Companies such as Procter &amp; Gamble like to create mental maps of consumers that depict their knowledge of a particular brand in terms of the key associations likely to be triggered in a marketing setting, and their relative strength, favorability, and uniqueness to consumers. Figure 6.3 displays a very simple mental map highlighting brand beliefs for a hypothetical consumer for State Farm insurance.</a:t>
            </a:r>
            <a:endParaRPr b="0" lang="en-US" sz="1200" spc="-1" strike="noStrike">
              <a:solidFill>
                <a:srgbClr val="000000"/>
              </a:solidFill>
              <a:latin typeface="Arial"/>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6BC3-7DA0-4762-BEA4-FC3B98213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A3F4-8A18-419A-B92B-89B70EDC0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scholars have developed a “stage model” of the process (see Figure 6.4). The consumer typically passes through five stages: problem recognition, information search, evaluation of alternatives, purchase decision, and postpurchase behavior. Clearly, the buying process starts long before the actual purchase and has consequences long afterward.  Consumers don’t always pass through all five stages—they may skip or reverse some. When you buy your regular brand of toothpaste, you go directly from the need to the purchase decision, skipping information search and evaluation. The model in Figure 6.4 provides a good frame of reference, however, because it captures the full range of considerations that arise when a consumer faces a highly involving new purchas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4DC8-E672-4970-B168-889BC9C17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information sources to which consumers will turn fall into four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onal sources include family, friends, neighbors, acquain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sources include advertising, Web sites, salespersons, dealers, packaging, and dis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sources refer to mass media and consumer-rating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tial sources refer to the consumers’ experiences handling, examining, and using the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ve amount and influence of these sources vary with the product category and the buyer’s characteristics. Generally speaking, although consumers receive the greatest amount of information about a product from commercial—that is, marketer-dominated—sources, the most effective information often comes from personal or experiential sources, or public sources that are independent authoriti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6.5 illustrates how consumers move through from developing an initial set of brands to consider to making a final decision. By gathering information, the consumer learns about competing brands and their features. The first box in Figure 6.5 shows the total set of brands available. The individual consumer will come to know a subset of these, the awareness set. Only some, the consideration set, will meet initial buying criteria. As the consumer gathers more information, just a few, the choice set, will remain strong contenders. The consumer makes a final choice from these.</a:t>
            </a:r>
            <a:endParaRPr b="0" lang="en-US" sz="1200" spc="-1" strike="noStrike">
              <a:solidFill>
                <a:srgbClr val="000000"/>
              </a:solidFill>
              <a:latin typeface="Arial"/>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B6C0D-6AA8-46E6-9CA2-F4ADFED91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6.4 illustrates the use of the expectancy-value model of attitude formation in decision making. The expectancy-value model of attitude formation posits that consumers evaluate products and services by combining their brand beliefs—the positives and negatives—according to importance. Suppose Linda has narrowed her choice set to four laptop computers (A, B, C, and D). Assume she’s interested in four attributes: memory capacity, graphics capability, size and weight, and price. Table 6.4 shows her beliefs about how each brand rates on the four attributes. If one computer dominated the others on all the criteria, we could predict that Linda would choose it. But, as is often the case, her choice set consists of brands that vary in their appeal. If Linda wants the best memory capacity, she should buy C; if she wants the best graphics capability, she should buy A; and so on. If we knew the weights Linda attaches to the four attributes, we could more reliably predict her laptop choice. Suppose she assigned 40 percent of the importance to the laptop’s memory capacity, 30 percent to graphics capability, 20 percent to size and weight, and 10 percent to price. To find Linda’s perceived value for each laptop according to the expectancy-value model, we multiply her weights by her beliefs about each computer’s attributes. </a:t>
            </a: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B826-ED12-4784-80F0-EC9A36813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ehavior is the study of how individuals, groups, and organizations select, buy, use, and dispose of goods, services, ideas, or experiences to satisfy their needs and wants. Marketers must fully understand both the theory and reality of consumer behavior. Table 6.1 provides a snapshot profile of U.S. consumers.</a:t>
            </a:r>
            <a:endParaRPr b="0" lang="en-US" sz="1200" spc="-1" strike="noStrike">
              <a:solidFill>
                <a:srgbClr val="000000"/>
              </a:solidFill>
              <a:latin typeface="Arial"/>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AA4F-E325-4DD2-B816-1E0FBB5DF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f consumers form brand evaluations, two general factors can intervene between the purchase intention and the purchase decision (see Figure 6.6). The first factor is the </a:t>
            </a:r>
            <a:r>
              <a:rPr b="0" i="1" lang="en-US" sz="1200" spc="-1" strike="noStrike">
                <a:solidFill>
                  <a:srgbClr val="000000"/>
                </a:solidFill>
                <a:latin typeface="Arial"/>
              </a:rPr>
              <a:t>attitudes of others. The influence of another person’s attitude depends on two </a:t>
            </a:r>
            <a:r>
              <a:rPr b="0" lang="en-US" sz="1200" spc="-1" strike="noStrike">
                <a:solidFill>
                  <a:srgbClr val="000000"/>
                </a:solidFill>
                <a:latin typeface="Arial"/>
              </a:rPr>
              <a:t>things: (1) the intensity of the other person’s negative attitude toward our preferred alternative and (2) our motivation to comply with the other person’s wishes. The more intense the other person’s negativism and the closer he or she is to us, the more we will adjust our purchase intention. The converse is also true.</a:t>
            </a: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D7B9-02E7-4BEC-9275-A66FD7E2A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BBFD-8D0A-42E8-ABE2-95A975D74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ctancy-value model is a compensatory model, in that perceived good things about a product can help to overcome perceived bad things. But consumers often take “mental shortcuts” called heuristics or rules of thumb in the decision process. With noncompensatory models of consumer choice, positive and negative attribute considerations don’t necessarily net out. Evaluating attributes in isolation makes decision making easier for a consumer, but it also increases the likelihood that she would have made a different choice if she had deliberated in greater detail. We highlight three choice heuristic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sing the conjunctive heuristic, the consumer sets a minimum acceptable cutoff level for each attribute and chooses the first alternative that meets the minimum standard for all attributes. For example, if Linda decided all attributes had to rate at least 5, she would choose laptop compute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ith the lexicographic heuristic, the consumer chooses the best brand on the basis of its perceived most important attribute. With this decision rule, Linda would choose laptop computer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Using the elimination-by-aspects heuristic, the consumer compares brands on an attribute selected probabilistically—where the probability of choosing an attribute is positively related to its importance—and eliminates brands that do not meet minimum acceptable cutoff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671B-F4D2-4593-B4DC-46CB2AE50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sumer’s decision to modify, postpone, or avoid a purchase decision is heavily influenced by one or more types of perceived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unctional risk—The product does not perform to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hysical risk—The product poses a threat to the physical well-being or health of the user or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inancial risk—The product is not worth the price p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ocial risk—The product results in embarrassment in front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sychological risk—The product affects the mental well-being of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Time risk—The failure of the product results in an opportunity cost of finding another satisfactory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omotional message for QuickBooks, the money-back guarantee seeks to lower perceived risk.</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should also monitor how buyers use and dispose of the product (Figure 6.7). A key driver of sales frequency is product consumption rate—the more quickly buyers consume a product, the sooner they may be back in the market to repurchase it. Consumers may fail to replace some products soon enough because they overestimate product life. One strategy to speed replacement is to tie the act of replacing the product to a certain holiday, event, or time of year.</a:t>
            </a:r>
            <a:endParaRPr b="0" lang="en-US" sz="1200" spc="-1" strike="noStrike">
              <a:solidFill>
                <a:srgbClr val="000000"/>
              </a:solidFill>
              <a:latin typeface="Arial"/>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5F88-379E-4833-AABA-969582528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aboration likelihood model, an influential model of attitude formation and change, describes how consumers make evaluations in both low- and high-involvement circumstances. There are two means of persuasion in their model: the central route, in which attitude formation or change stimulates much thought and is based on the consumer’s diligent, rational consideration of the most important product information; and the peripheral route, in which attitude formation or change provokes much less thought and results from the consumer’s association of a brand with either positive or negative peripheral cues. Peripheral cues for consumers include a celebrity endorsement, a credible source, or any object that generates positive feelings. Consumers follow the central route only if they possess sufficient motivation, ability, and opportunity. We buy many products under conditions of low involvement and without significant brand differences.</a:t>
            </a:r>
            <a:endParaRPr b="0" lang="en-US" sz="1200" spc="-1" strike="noStrike">
              <a:solidFill>
                <a:srgbClr val="000000"/>
              </a:solidFill>
              <a:latin typeface="Arial"/>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EFAC-BFAC-4499-BE17-720AA5CF4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2C2B-3825-4A76-AD3B-5BF6AD3E0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ailability heuristic—Consumers base their predictions on the quickness and ease with which a particular example of an outcome comes to mind. If an example comes to mind too easily, consumers might overestimate the likelihood of its happening. The representativeness heuristic—Consumers base their predictions on how representative or similar the outcome is to other examples. The anchoring and adjustment heuristic—Consumers arrive at an initial judgment and then adjust it based on additional informat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framing is the manner in which choices are presented to and seen by a decision maker. A $200 cell phone may not seem that expensive in the context of a set of $400 phones but may seem very expensive if those phones cost $50. Framing effects are pervasive and can be powerful. Marketers can influence consumer decision making through what they call the choice architecture—the environment in which decisions are structured and buying choices are made. According to these researchers, in the right environment, consumers can be given a “nudge” via some small feature in the environment that attracts attention and alters behavior.</a:t>
            </a:r>
            <a:endParaRPr b="0" lang="en-US" sz="1200" spc="-1" strike="noStrike">
              <a:solidFill>
                <a:srgbClr val="000000"/>
              </a:solidFill>
              <a:latin typeface="Arial"/>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21C31-E63C-49AA-9B0E-8ADC5AB1D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95F0-E3D5-4F2F-8B33-F671EB240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al accounting is based on a set of core princ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nsumers tend to segregate gains. When a seller has a product with more than one positive dimension, it’s desirable to have the consumer evaluate each dimension separately. Listing multiple benefits of a large industrial product, for example, can make the sum of the parts seem greater than the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onsumers tend to integrate losses. Marketers have a distinct advantage in selling something if its cost can be added to another large purchase. House buyers are more inclined to view additional expenditures favorably given the high price of buying a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sumers tend to integrate smaller losses with larger gains. The “cancellation” principle might explain why withholding taxes from monthly paychecks is less aversive than large, lump-sum tax payments—the smaller withholdings are more likely to be absorbed by the larger pay am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sumers tend to segregate small gains from large losses. The “silver lining” principle might explain the popularity of rebates on big-ticket purchases such as cars. The principles of mental accounting are derived in part from prospect theory. Prospect theory maintains that consumers frame their decision alternatives in terms of gains and losses according to a value function. Consumers are generally loss-averse. They tend to overweight very low probabilities and underweight very high probabiliti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pter addressed four key questions, shown in the slide. </a:t>
            </a:r>
            <a:endParaRPr b="0" lang="en-US" sz="1200" spc="-1" strike="noStrike">
              <a:solidFill>
                <a:srgbClr val="000000"/>
              </a:solidFill>
              <a:latin typeface="Arial"/>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FA2A-F8E6-4856-ADC3-EFA271F6D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8F5B-36D3-4E87-A3DA-79748CF5C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sumer’s buying behavior is influenced by cultural, social, and personal factors. Of these, cultural factors exert the broadest and deepest influe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EAC3B-60AA-40BE-8453-05AA51A22D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subculture, and social class are particularly important influences on consumer buying behavior. Culture is the fundamental determinant of a person’s wants and behavior. Through family and other key institutions, a child growing up in the United States is exposed to values such as achievement and success, activity, efficiency and practicality, progress, material comfort, individualism, freedom, external comfort, humanitarianism, and youthfulness.  A child growing up in another country might have a different view of self, relationship to others, and rit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D092-F4C9-48AA-88C7-9DA77D121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ulture consists of smaller subcultures that provide more specific identification and socialization for their members. Subcultures include nationalities, religions, racial groups, and geographic regions. When subcultures grow large and affluent enough, companies often design specialized marketing programs to serve th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4B9A-8711-435A-84D3-07379533F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erage American chews 300 sticks of gum a year, goes to the movies 9 times a year, takes 4 trips a year, and attends a sporting event 7 times each yea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CB09-B6AE-4A45-B479-DBF899900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ly all human societies exhibit social stratification, most often in the form of social classes, relatively homogeneous and enduring divisions in a society, hierarchically ordered and with members who share similar values, interests, and behavior. One classic depiction of social classes in the United States defined seven ascending levels: (1) lower lowers, (2) upper lowers, (3) working class, (4) middle class, (5) upper middles, (6) lower uppers, and (7) upper uppers. Social class members show distinct product and brand preferences in many areas, including clothing, home furnishings, leisure activities, and automobiles. They also differ in media preferences; upper-class consumers often prefer magazines and books, and lower-class consumers often prefer televis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85E9-C8F4-4848-9A17-A2077A23F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cultural factors, social factors such as reference groups, family, and social roles and statuses affect our buying behavi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6-</a:t>
            </a:r>
            <a:fld id="{3C56117F-B2A0-4D62-A610-8F4FB69128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DC0EFB5E-CD5B-4B29-A6ED-F03115A8DE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063B5284-E67E-4362-A9E3-39BDD3579C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E09867B7-E4C7-4BAD-B3B5-83920A9F87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2362320" y="5234040"/>
            <a:ext cx="6172200" cy="1623960"/>
          </a:xfrm>
          <a:prstGeom prst="rect">
            <a:avLst/>
          </a:prstGeom>
          <a:ln w="0">
            <a:noFill/>
          </a:ln>
        </p:spPr>
      </p:pic>
      <p:pic>
        <p:nvPicPr>
          <p:cNvPr id="45" name="Picture 5" descr=""/>
          <p:cNvPicPr/>
          <p:nvPr/>
        </p:nvPicPr>
        <p:blipFill>
          <a:blip r:embed="rId3"/>
          <a:stretch/>
        </p:blipFill>
        <p:spPr>
          <a:xfrm>
            <a:off x="0" y="0"/>
            <a:ext cx="1447920" cy="6858000"/>
          </a:xfrm>
          <a:prstGeom prst="rect">
            <a:avLst/>
          </a:prstGeom>
          <a:ln w="0">
            <a:noFill/>
          </a:ln>
        </p:spPr>
      </p:pic>
      <p:sp>
        <p:nvSpPr>
          <p:cNvPr id="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a:t>
            </a:r>
            <a:fld id="{7BB39243-B2B9-415C-A854-BD366D573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91750966-51C6-4F27-97CB-54EF920F5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a:t>
            </a:r>
            <a:fld id="{E79EA8CE-CE33-4A2D-9C89-915626468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840BDE68-AAF0-4894-8FFA-EF2264D2A9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a:t>
            </a:r>
            <a:fld id="{790CAD38-41D8-41A6-A4ED-961268B15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a:t>
            </a:r>
            <a:fld id="{BD7B5969-DD1A-4AEF-BB32-0B71C81DE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CC9A82A1-42F1-4921-85A6-250C6C3DB3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438280" y="1143000"/>
            <a:ext cx="5562720" cy="4495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6</a:t>
            </a:r>
            <a:br>
              <a:rPr sz="4000"/>
            </a:br>
            <a:r>
              <a:rPr b="1" lang="en-US" sz="4000" spc="-1" strike="noStrike">
                <a:solidFill>
                  <a:srgbClr val="000000"/>
                </a:solidFill>
                <a:latin typeface="Garamond"/>
              </a:rPr>
              <a:t>Analyzing </a:t>
            </a:r>
            <a:br>
              <a:rPr sz="4000"/>
            </a:br>
            <a:r>
              <a:rPr b="1" lang="en-US" sz="4000" spc="-1" strike="noStrike">
                <a:solidFill>
                  <a:srgbClr val="000000"/>
                </a:solidFill>
                <a:latin typeface="Garamond"/>
              </a:rPr>
              <a:t>Consumer Markets</a:t>
            </a:r>
            <a:endParaRPr b="1" lang="en-US" sz="4000" spc="-1" strike="noStrike">
              <a:solidFill>
                <a:srgbClr val="000000"/>
              </a:solidFill>
              <a:latin typeface="Arial"/>
            </a:endParaRPr>
          </a:p>
        </p:txBody>
      </p:sp>
      <p:sp>
        <p:nvSpPr>
          <p:cNvPr id="522" name="Text Box 4"/>
          <p:cNvSpPr/>
          <p:nvPr/>
        </p:nvSpPr>
        <p:spPr>
          <a:xfrm>
            <a:off x="228600" y="914400"/>
            <a:ext cx="2133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ush Script MT"/>
              </a:rPr>
              <a:t>1</a:t>
            </a:r>
            <a:endParaRPr b="0" lang="en-US" sz="8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8B3E4575-B23A-4498-B6B7-CAF4BC5F8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ference Groups</a:t>
            </a:r>
            <a:endParaRPr b="1" lang="en-US" sz="3600" spc="-1" strike="noStrike">
              <a:solidFill>
                <a:srgbClr val="000000"/>
              </a:solidFill>
              <a:latin typeface="Arial"/>
            </a:endParaRPr>
          </a:p>
        </p:txBody>
      </p:sp>
      <p:sp>
        <p:nvSpPr>
          <p:cNvPr id="560"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hip group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group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group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pirational group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ssociative groups</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8CD7D7BB-1CBF-4E16-8707-B1E055DE2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762120" y="1143000"/>
            <a:ext cx="7315200" cy="31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mily Distinctions </a:t>
            </a:r>
            <a:br>
              <a:rPr sz="3200"/>
            </a:br>
            <a:r>
              <a:rPr b="1" lang="en-US" sz="3200" spc="-1" strike="noStrike">
                <a:solidFill>
                  <a:srgbClr val="000000"/>
                </a:solidFill>
                <a:latin typeface="Arial"/>
              </a:rPr>
              <a:t>	</a:t>
            </a:r>
            <a:r>
              <a:rPr b="1" lang="en-US" sz="3200" spc="-1" strike="noStrike">
                <a:solidFill>
                  <a:srgbClr val="000000"/>
                </a:solidFill>
                <a:latin typeface="Arial"/>
              </a:rPr>
              <a:t>Affecting Buying Decisions</a:t>
            </a:r>
            <a:endParaRPr b="1" lang="en-US" sz="32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706659E6-022D-4BB0-BA31-EBB7BD806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 Factors</a:t>
            </a:r>
            <a:endParaRPr b="1" lang="en-US" sz="3600" spc="-1" strike="noStrike">
              <a:solidFill>
                <a:srgbClr val="000000"/>
              </a:solidFill>
              <a:latin typeface="Arial"/>
            </a:endParaRPr>
          </a:p>
        </p:txBody>
      </p:sp>
      <p:sp>
        <p:nvSpPr>
          <p:cNvPr id="565"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 cycle stag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cup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lth</a:t>
            </a:r>
            <a:endParaRPr b="0" lang="en-US" sz="2800" spc="-1" strike="noStrike">
              <a:solidFill>
                <a:srgbClr val="000000"/>
              </a:solidFill>
              <a:latin typeface="Arial"/>
            </a:endParaRPr>
          </a:p>
        </p:txBody>
      </p:sp>
      <p:sp>
        <p:nvSpPr>
          <p:cNvPr id="566" name="PlaceHolder 3"/>
          <p:cNvSpPr>
            <a:spLocks noGrp="1"/>
          </p:cNvSpPr>
          <p:nvPr>
            <p:ph/>
          </p:nvPr>
        </p:nvSpPr>
        <p:spPr>
          <a:xfrm>
            <a:off x="468612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styl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concept</a:t>
            </a: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ge and Stage of Lifecycle</a:t>
            </a:r>
            <a:endParaRPr b="1" lang="en-US" sz="3600" spc="-1" strike="noStrike">
              <a:solidFill>
                <a:srgbClr val="000000"/>
              </a:solidFill>
              <a:latin typeface="Arial"/>
            </a:endParaRPr>
          </a:p>
        </p:txBody>
      </p:sp>
      <p:sp>
        <p:nvSpPr>
          <p:cNvPr id="568"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D25C07EF-971E-4521-9B0F-1717D82BA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69" name="Picture 2" descr=""/>
          <p:cNvPicPr/>
          <p:nvPr/>
        </p:nvPicPr>
        <p:blipFill>
          <a:blip r:embed="rId1"/>
          <a:stretch/>
        </p:blipFill>
        <p:spPr>
          <a:xfrm>
            <a:off x="2362320" y="1676520"/>
            <a:ext cx="3714480" cy="39495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ccupation and Economic Circumstances</a:t>
            </a:r>
            <a:endParaRPr b="1" lang="en-US" sz="3600" spc="-1" strike="noStrike">
              <a:solidFill>
                <a:srgbClr val="000000"/>
              </a:solidFill>
              <a:latin typeface="Arial"/>
            </a:endParaRPr>
          </a:p>
        </p:txBody>
      </p:sp>
      <p:sp>
        <p:nvSpPr>
          <p:cNvPr id="571"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30201361-D5F5-4E59-92DE-74D770FC5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2" name="Picture 2" descr=""/>
          <p:cNvPicPr/>
          <p:nvPr/>
        </p:nvPicPr>
        <p:blipFill>
          <a:blip r:embed="rId1"/>
          <a:stretch/>
        </p:blipFill>
        <p:spPr>
          <a:xfrm>
            <a:off x="1905120" y="1981080"/>
            <a:ext cx="4657680" cy="32371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ity</a:t>
            </a:r>
            <a:endParaRPr b="1" lang="en-US" sz="3600" spc="-1" strike="noStrike">
              <a:solidFill>
                <a:srgbClr val="000000"/>
              </a:solidFill>
              <a:latin typeface="Arial"/>
            </a:endParaRPr>
          </a:p>
        </p:txBody>
      </p:sp>
      <p:sp>
        <p:nvSpPr>
          <p:cNvPr id="574"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BD0A4C5D-F901-492F-BEC4-ED639DF1F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5" name="Picture 2" descr=""/>
          <p:cNvPicPr/>
          <p:nvPr/>
        </p:nvPicPr>
        <p:blipFill>
          <a:blip r:embed="rId1"/>
          <a:stretch/>
        </p:blipFill>
        <p:spPr>
          <a:xfrm>
            <a:off x="2166840" y="1676520"/>
            <a:ext cx="4032360" cy="434340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15DF7064-D80A-4CF3-BBA7-CA6DFD633B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and Personality</a:t>
            </a:r>
            <a:endParaRPr b="1" lang="en-US" sz="3600" spc="-1" strike="noStrike">
              <a:solidFill>
                <a:srgbClr val="000000"/>
              </a:solidFill>
              <a:latin typeface="Arial"/>
            </a:endParaRPr>
          </a:p>
        </p:txBody>
      </p:sp>
      <p:sp>
        <p:nvSpPr>
          <p:cNvPr id="578"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r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item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e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phistic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ggedness</a:t>
            </a:r>
            <a:endParaRPr b="0" lang="en-US" sz="2800" spc="-1" strike="noStrike">
              <a:solidFill>
                <a:srgbClr val="000000"/>
              </a:solidFill>
              <a:latin typeface="Arial"/>
            </a:endParaRPr>
          </a:p>
        </p:txBody>
      </p:sp>
      <p:pic>
        <p:nvPicPr>
          <p:cNvPr id="579" name="Picture 1" descr=""/>
          <p:cNvPicPr/>
          <p:nvPr/>
        </p:nvPicPr>
        <p:blipFill>
          <a:blip r:embed="rId1"/>
          <a:stretch/>
        </p:blipFill>
        <p:spPr>
          <a:xfrm>
            <a:off x="3581280" y="1676520"/>
            <a:ext cx="4457880" cy="29620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E3B9926F-0BCC-4F44-B1DD-F2BB8E53D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title"/>
          </p:nvPr>
        </p:nvSpPr>
        <p:spPr>
          <a:xfrm>
            <a:off x="762120" y="274680"/>
            <a:ext cx="76960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ble 6.2  LOHAS Market Segments</a:t>
            </a:r>
            <a:br>
              <a:rPr sz="3200"/>
            </a:br>
            <a:r>
              <a:rPr b="1" lang="en-US" sz="3200" spc="-1" strike="noStrike">
                <a:solidFill>
                  <a:srgbClr val="000000"/>
                </a:solidFill>
                <a:latin typeface="Arial"/>
              </a:rPr>
              <a:t>(Lifestyles of </a:t>
            </a:r>
            <a:br>
              <a:rPr sz="3200"/>
            </a:br>
            <a:r>
              <a:rPr b="1" lang="en-US" sz="3200" spc="-1" strike="noStrike">
                <a:solidFill>
                  <a:srgbClr val="000000"/>
                </a:solidFill>
                <a:latin typeface="Arial"/>
              </a:rPr>
              <a:t>Health and Sustainability)</a:t>
            </a:r>
            <a:endParaRPr b="1" lang="en-US" sz="3200" spc="-1" strike="noStrike">
              <a:solidFill>
                <a:srgbClr val="000000"/>
              </a:solidFill>
              <a:latin typeface="Arial"/>
            </a:endParaRPr>
          </a:p>
        </p:txBody>
      </p:sp>
      <p:sp>
        <p:nvSpPr>
          <p:cNvPr id="582" name="PlaceHolder 2"/>
          <p:cNvSpPr>
            <a:spLocks noGrp="1"/>
          </p:cNvSpPr>
          <p:nvPr>
            <p:ph/>
          </p:nvPr>
        </p:nvSpPr>
        <p:spPr>
          <a:xfrm>
            <a:off x="533160" y="1904760"/>
            <a:ext cx="7924680" cy="426708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ainable Econom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y Lifestyl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logical Lifestyl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Health Car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Development</a:t>
            </a:r>
            <a:endParaRPr b="0"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6.1 Model of </a:t>
            </a:r>
            <a:br>
              <a:rPr sz="3600"/>
            </a:br>
            <a:r>
              <a:rPr b="1" lang="en-US" sz="3600" spc="-1" strike="noStrike">
                <a:solidFill>
                  <a:srgbClr val="000000"/>
                </a:solidFill>
                <a:latin typeface="Arial"/>
              </a:rPr>
              <a:t>Consumer Behavior</a:t>
            </a:r>
            <a:endParaRPr b="1" lang="en-US" sz="3600" spc="-1" strike="noStrike">
              <a:solidFill>
                <a:srgbClr val="000000"/>
              </a:solidFill>
              <a:latin typeface="Arial"/>
            </a:endParaRPr>
          </a:p>
        </p:txBody>
      </p:sp>
      <p:sp>
        <p:nvSpPr>
          <p:cNvPr id="58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145E282C-B363-4759-AB78-4C590C420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85" name="Picture 2" descr=""/>
          <p:cNvPicPr/>
          <p:nvPr/>
        </p:nvPicPr>
        <p:blipFill>
          <a:blip r:embed="rId1"/>
          <a:stretch/>
        </p:blipFill>
        <p:spPr>
          <a:xfrm>
            <a:off x="88920" y="1981080"/>
            <a:ext cx="8075520" cy="335304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A65D4A23-94D7-4178-AEFE-99BB376CF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tivation</a:t>
            </a:r>
            <a:endParaRPr b="1" lang="en-US" sz="3600" spc="-1" strike="noStrike">
              <a:solidFill>
                <a:srgbClr val="000000"/>
              </a:solidFill>
              <a:latin typeface="Arial"/>
            </a:endParaRPr>
          </a:p>
        </p:txBody>
      </p:sp>
      <p:sp>
        <p:nvSpPr>
          <p:cNvPr id="588" name="AutoShape 3"/>
          <p:cNvSpPr/>
          <p:nvPr/>
        </p:nvSpPr>
        <p:spPr>
          <a:xfrm>
            <a:off x="380880" y="1523880"/>
            <a:ext cx="2362320" cy="4114800"/>
          </a:xfrm>
          <a:custGeom>
            <a:avLst/>
            <a:gdLst>
              <a:gd name="textAreaLeft" fmla="*/ 115200 w 2362320"/>
              <a:gd name="textAreaRight" fmla="*/ 2247120 w 2362320"/>
              <a:gd name="textAreaTop" fmla="*/ 115200 h 4114800"/>
              <a:gd name="textAreaBottom" fmla="*/ 3999600 h 4114800"/>
            </a:gdLst>
            <a:ahLst/>
            <a:rect l="textAreaLeft" t="textAreaTop" r="textAreaRight" b="textAreaBottom"/>
            <a:pathLst>
              <a:path w="21600" h="37621">
                <a:moveTo>
                  <a:pt x="3600" y="0"/>
                </a:moveTo>
                <a:arcTo wR="3600" hR="3600" stAng="16200000" swAng="-5400000"/>
                <a:lnTo>
                  <a:pt x="0" y="34021"/>
                </a:lnTo>
                <a:arcTo wR="3600" hR="3600" stAng="10800000" swAng="-5400000"/>
                <a:lnTo>
                  <a:pt x="18000" y="37621"/>
                </a:lnTo>
                <a:arcTo wR="3600" hR="3600" stAng="5400000" swAng="-5400000"/>
                <a:lnTo>
                  <a:pt x="21600" y="3600"/>
                </a:lnTo>
                <a:arcTo wR="3600" hR="3600" stAng="0" swAng="-5400000"/>
                <a:close/>
              </a:path>
            </a:pathLst>
          </a:custGeom>
          <a:solidFill>
            <a:srgbClr val="d9d9d9"/>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ud’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or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guided b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onsciou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s</a:t>
            </a:r>
            <a:endParaRPr b="0" lang="en-US" sz="2800" spc="-1" strike="noStrike">
              <a:solidFill>
                <a:srgbClr val="000000"/>
              </a:solidFill>
              <a:latin typeface="Arial"/>
            </a:endParaRPr>
          </a:p>
        </p:txBody>
      </p:sp>
      <p:sp>
        <p:nvSpPr>
          <p:cNvPr id="589" name="AutoShape 4"/>
          <p:cNvSpPr/>
          <p:nvPr/>
        </p:nvSpPr>
        <p:spPr>
          <a:xfrm>
            <a:off x="2971800" y="1523880"/>
            <a:ext cx="2362320" cy="4114800"/>
          </a:xfrm>
          <a:custGeom>
            <a:avLst/>
            <a:gdLst>
              <a:gd name="textAreaLeft" fmla="*/ 115200 w 2362320"/>
              <a:gd name="textAreaRight" fmla="*/ 2247120 w 2362320"/>
              <a:gd name="textAreaTop" fmla="*/ 115200 h 4114800"/>
              <a:gd name="textAreaBottom" fmla="*/ 3999600 h 4114800"/>
            </a:gdLst>
            <a:ahLst/>
            <a:rect l="textAreaLeft" t="textAreaTop" r="textAreaRight" b="textAreaBottom"/>
            <a:pathLst>
              <a:path w="21600" h="37621">
                <a:moveTo>
                  <a:pt x="3600" y="0"/>
                </a:moveTo>
                <a:arcTo wR="3600" hR="3600" stAng="16200000" swAng="-5400000"/>
                <a:lnTo>
                  <a:pt x="0" y="34021"/>
                </a:lnTo>
                <a:arcTo wR="3600" hR="3600" stAng="10800000" swAng="-5400000"/>
                <a:lnTo>
                  <a:pt x="18000" y="37621"/>
                </a:lnTo>
                <a:arcTo wR="3600" hR="3600" stAng="5400000" swAng="-5400000"/>
                <a:lnTo>
                  <a:pt x="21600" y="3600"/>
                </a:lnTo>
                <a:arcTo wR="3600" hR="3600" stAng="0" swAng="-5400000"/>
                <a:close/>
              </a:path>
            </a:pathLst>
          </a:custGeom>
          <a:solidFill>
            <a:srgbClr val="d9d9d9"/>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slow’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erarch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Need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driven b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s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met nee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AutoShape 5"/>
          <p:cNvSpPr/>
          <p:nvPr/>
        </p:nvSpPr>
        <p:spPr>
          <a:xfrm>
            <a:off x="5638680" y="1523880"/>
            <a:ext cx="2362320" cy="4114800"/>
          </a:xfrm>
          <a:custGeom>
            <a:avLst/>
            <a:gdLst>
              <a:gd name="textAreaLeft" fmla="*/ 115200 w 2362320"/>
              <a:gd name="textAreaRight" fmla="*/ 2247120 w 2362320"/>
              <a:gd name="textAreaTop" fmla="*/ 115200 h 4114800"/>
              <a:gd name="textAreaBottom" fmla="*/ 3999600 h 4114800"/>
            </a:gdLst>
            <a:ahLst/>
            <a:rect l="textAreaLeft" t="textAreaTop" r="textAreaRight" b="textAreaBottom"/>
            <a:pathLst>
              <a:path w="21600" h="37621">
                <a:moveTo>
                  <a:pt x="3600" y="0"/>
                </a:moveTo>
                <a:arcTo wR="3600" hR="3600" stAng="16200000" swAng="-5400000"/>
                <a:lnTo>
                  <a:pt x="0" y="34021"/>
                </a:lnTo>
                <a:arcTo wR="3600" hR="3600" stAng="10800000" swAng="-5400000"/>
                <a:lnTo>
                  <a:pt x="18000" y="37621"/>
                </a:lnTo>
                <a:arcTo wR="3600" hR="3600" stAng="5400000" swAng="-5400000"/>
                <a:lnTo>
                  <a:pt x="21600" y="3600"/>
                </a:lnTo>
                <a:arcTo wR="3600" hR="3600" stAng="0" swAng="-5400000"/>
                <a:close/>
              </a:path>
            </a:pathLst>
          </a:custGeom>
          <a:solidFill>
            <a:srgbClr val="d9d9d9"/>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zberg’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Facto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or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 i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ed b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ng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hygien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s</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258A3C1F-1D2F-4A83-A3E4-76BC8A091A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525"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consumer characteristics influence buying behavio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ajor psychological processes influence consumer responses to the marketing progra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consumers make purchasing decis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what ways do consumers stray from a deliberate rational decision process?</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slow’s Hierarchy</a:t>
            </a:r>
            <a:endParaRPr b="1" lang="en-US" sz="3600" spc="-1" strike="noStrike">
              <a:solidFill>
                <a:srgbClr val="000000"/>
              </a:solidFill>
              <a:latin typeface="Arial"/>
            </a:endParaRPr>
          </a:p>
        </p:txBody>
      </p:sp>
      <p:sp>
        <p:nvSpPr>
          <p:cNvPr id="592"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E80E79FC-94E3-4238-8930-62D2D3D76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93" name="Picture 2" descr=""/>
          <p:cNvPicPr/>
          <p:nvPr/>
        </p:nvPicPr>
        <p:blipFill>
          <a:blip r:embed="rId1"/>
          <a:stretch/>
        </p:blipFill>
        <p:spPr>
          <a:xfrm>
            <a:off x="1981080" y="1600200"/>
            <a:ext cx="4649760" cy="43210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2C7F8BEF-4F11-4AF0-8F5B-11D37AC64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ception</a:t>
            </a:r>
            <a:endParaRPr b="1" lang="en-US" sz="3600" spc="-1" strike="noStrike">
              <a:solidFill>
                <a:srgbClr val="000000"/>
              </a:solidFill>
              <a:latin typeface="Arial"/>
            </a:endParaRPr>
          </a:p>
        </p:txBody>
      </p:sp>
      <p:sp>
        <p:nvSpPr>
          <p:cNvPr id="596"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e atten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e reten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e distor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liminal perception</a:t>
            </a:r>
            <a:endParaRPr b="0"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arning</a:t>
            </a:r>
            <a:endParaRPr b="1" lang="en-US" sz="3600" spc="-1" strike="noStrike">
              <a:solidFill>
                <a:srgbClr val="000000"/>
              </a:solidFill>
              <a:latin typeface="Arial"/>
            </a:endParaRPr>
          </a:p>
        </p:txBody>
      </p:sp>
      <p:sp>
        <p:nvSpPr>
          <p:cNvPr id="59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362A5139-4C9E-450A-A8DB-86DA6F3AA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99" name="Picture 1" descr=""/>
          <p:cNvPicPr/>
          <p:nvPr/>
        </p:nvPicPr>
        <p:blipFill>
          <a:blip r:embed="rId1"/>
          <a:stretch/>
        </p:blipFill>
        <p:spPr>
          <a:xfrm>
            <a:off x="1447920" y="1523880"/>
            <a:ext cx="5648040" cy="374328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otions</a:t>
            </a:r>
            <a:endParaRPr b="1" lang="en-US" sz="3600" spc="-1" strike="noStrike">
              <a:solidFill>
                <a:srgbClr val="000000"/>
              </a:solidFill>
              <a:latin typeface="Arial"/>
            </a:endParaRPr>
          </a:p>
        </p:txBody>
      </p:sp>
      <p:sp>
        <p:nvSpPr>
          <p:cNvPr id="60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26750804-0D4C-4CFE-83D2-5CA68711A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02" name="Picture 2" descr="http://cache.kotaku.com/assets/resources/2008/04/happycubesadcube.jpg"/>
          <p:cNvPicPr/>
          <p:nvPr/>
        </p:nvPicPr>
        <p:blipFill>
          <a:blip r:embed="rId1"/>
          <a:stretch/>
        </p:blipFill>
        <p:spPr>
          <a:xfrm>
            <a:off x="1219320" y="1295280"/>
            <a:ext cx="6095880" cy="457200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a:t>
            </a:r>
            <a:endParaRPr b="1" lang="en-US" sz="3600" spc="-1" strike="noStrike">
              <a:solidFill>
                <a:srgbClr val="000000"/>
              </a:solidFill>
              <a:latin typeface="Arial"/>
            </a:endParaRPr>
          </a:p>
        </p:txBody>
      </p:sp>
      <p:sp>
        <p:nvSpPr>
          <p:cNvPr id="60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5FB1ACBF-FE20-41B0-8A67-7A308D1B7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05" name="Picture 2" descr=""/>
          <p:cNvPicPr/>
          <p:nvPr/>
        </p:nvPicPr>
        <p:blipFill>
          <a:blip r:embed="rId1"/>
          <a:stretch/>
        </p:blipFill>
        <p:spPr>
          <a:xfrm>
            <a:off x="1371600" y="1981080"/>
            <a:ext cx="5872320" cy="30956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6.3 State Farm Mental Map</a:t>
            </a:r>
            <a:endParaRPr b="1" lang="en-US" sz="3600" spc="-1" strike="noStrike">
              <a:solidFill>
                <a:srgbClr val="000000"/>
              </a:solidFill>
              <a:latin typeface="Arial"/>
            </a:endParaRPr>
          </a:p>
        </p:txBody>
      </p:sp>
      <p:sp>
        <p:nvSpPr>
          <p:cNvPr id="607"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3688E406-B7D5-4883-B50C-38218561A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08" name="Picture 2" descr=""/>
          <p:cNvPicPr/>
          <p:nvPr/>
        </p:nvPicPr>
        <p:blipFill>
          <a:blip r:embed="rId1"/>
          <a:stretch/>
        </p:blipFill>
        <p:spPr>
          <a:xfrm>
            <a:off x="990720" y="1785960"/>
            <a:ext cx="6143400" cy="394020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4C635606-3B15-4F89-9139-16B3B4D52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gure 6.4  Consumer Buying Process</a:t>
            </a:r>
            <a:endParaRPr b="1" lang="en-US" sz="3200" spc="-1" strike="noStrike">
              <a:solidFill>
                <a:srgbClr val="000000"/>
              </a:solidFill>
              <a:latin typeface="Arial"/>
            </a:endParaRPr>
          </a:p>
        </p:txBody>
      </p:sp>
      <p:sp>
        <p:nvSpPr>
          <p:cNvPr id="611" name="Rounded Rectangle 4"/>
          <p:cNvSpPr/>
          <p:nvPr/>
        </p:nvSpPr>
        <p:spPr>
          <a:xfrm>
            <a:off x="2514600" y="1600200"/>
            <a:ext cx="3733920" cy="6094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Recognition</a:t>
            </a:r>
            <a:endParaRPr b="0" lang="en-US" sz="1800" spc="-1" strike="noStrike">
              <a:solidFill>
                <a:srgbClr val="000000"/>
              </a:solidFill>
              <a:latin typeface="Arial"/>
            </a:endParaRPr>
          </a:p>
        </p:txBody>
      </p:sp>
      <p:sp>
        <p:nvSpPr>
          <p:cNvPr id="612" name="Rounded Rectangle 5"/>
          <p:cNvSpPr/>
          <p:nvPr/>
        </p:nvSpPr>
        <p:spPr>
          <a:xfrm>
            <a:off x="2514600" y="2438280"/>
            <a:ext cx="373392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Search</a:t>
            </a:r>
            <a:endParaRPr b="0" lang="en-US" sz="1800" spc="-1" strike="noStrike">
              <a:solidFill>
                <a:srgbClr val="000000"/>
              </a:solidFill>
              <a:latin typeface="Arial"/>
            </a:endParaRPr>
          </a:p>
        </p:txBody>
      </p:sp>
      <p:sp>
        <p:nvSpPr>
          <p:cNvPr id="613" name="Rounded Rectangle 6"/>
          <p:cNvSpPr/>
          <p:nvPr/>
        </p:nvSpPr>
        <p:spPr>
          <a:xfrm>
            <a:off x="2514600" y="3276720"/>
            <a:ext cx="3733920" cy="6094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f alternatives</a:t>
            </a:r>
            <a:endParaRPr b="0" lang="en-US" sz="1800" spc="-1" strike="noStrike">
              <a:solidFill>
                <a:srgbClr val="000000"/>
              </a:solidFill>
              <a:latin typeface="Arial"/>
            </a:endParaRPr>
          </a:p>
        </p:txBody>
      </p:sp>
      <p:sp>
        <p:nvSpPr>
          <p:cNvPr id="614" name="Rounded Rectangle 7"/>
          <p:cNvSpPr/>
          <p:nvPr/>
        </p:nvSpPr>
        <p:spPr>
          <a:xfrm>
            <a:off x="2514600" y="4114800"/>
            <a:ext cx="3733920" cy="6094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Decision</a:t>
            </a:r>
            <a:endParaRPr b="0" lang="en-US" sz="1800" spc="-1" strike="noStrike">
              <a:solidFill>
                <a:srgbClr val="000000"/>
              </a:solidFill>
              <a:latin typeface="Arial"/>
            </a:endParaRPr>
          </a:p>
        </p:txBody>
      </p:sp>
      <p:sp>
        <p:nvSpPr>
          <p:cNvPr id="615" name="Rounded Rectangle 8"/>
          <p:cNvSpPr/>
          <p:nvPr/>
        </p:nvSpPr>
        <p:spPr>
          <a:xfrm>
            <a:off x="2514600" y="4952880"/>
            <a:ext cx="373392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purchase Behavior</a:t>
            </a:r>
            <a:endParaRPr b="0" lang="en-US" sz="1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4844DCCC-51FF-43B6-8E4B-2BA5195A5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rces of Information</a:t>
            </a:r>
            <a:endParaRPr b="1" lang="en-US" sz="3600" spc="-1" strike="noStrike">
              <a:solidFill>
                <a:srgbClr val="000000"/>
              </a:solidFill>
              <a:latin typeface="Arial"/>
            </a:endParaRPr>
          </a:p>
        </p:txBody>
      </p:sp>
      <p:sp>
        <p:nvSpPr>
          <p:cNvPr id="618" name="Rounded Rectangle 4"/>
          <p:cNvSpPr/>
          <p:nvPr/>
        </p:nvSpPr>
        <p:spPr>
          <a:xfrm>
            <a:off x="4267080" y="2057400"/>
            <a:ext cx="2362320" cy="9144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rcial</a:t>
            </a:r>
            <a:endParaRPr b="0" lang="en-US" sz="2800" spc="-1" strike="noStrike">
              <a:solidFill>
                <a:srgbClr val="000000"/>
              </a:solidFill>
              <a:latin typeface="Arial"/>
            </a:endParaRPr>
          </a:p>
        </p:txBody>
      </p:sp>
      <p:sp>
        <p:nvSpPr>
          <p:cNvPr id="619" name="Rounded Rectangle 5"/>
          <p:cNvSpPr/>
          <p:nvPr/>
        </p:nvSpPr>
        <p:spPr>
          <a:xfrm>
            <a:off x="1676520" y="2057400"/>
            <a:ext cx="2361960" cy="9144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a:t>
            </a:r>
            <a:endParaRPr b="0" lang="en-US" sz="2800" spc="-1" strike="noStrike">
              <a:solidFill>
                <a:srgbClr val="000000"/>
              </a:solidFill>
              <a:latin typeface="Arial"/>
            </a:endParaRPr>
          </a:p>
        </p:txBody>
      </p:sp>
      <p:sp>
        <p:nvSpPr>
          <p:cNvPr id="620" name="Rounded Rectangle 6"/>
          <p:cNvSpPr/>
          <p:nvPr/>
        </p:nvSpPr>
        <p:spPr>
          <a:xfrm>
            <a:off x="1676520" y="3124080"/>
            <a:ext cx="2361960" cy="9144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
            </a:r>
            <a:endParaRPr b="0" lang="en-US" sz="2800" spc="-1" strike="noStrike">
              <a:solidFill>
                <a:srgbClr val="000000"/>
              </a:solidFill>
              <a:latin typeface="Arial"/>
            </a:endParaRPr>
          </a:p>
        </p:txBody>
      </p:sp>
      <p:sp>
        <p:nvSpPr>
          <p:cNvPr id="621" name="Rounded Rectangle 7"/>
          <p:cNvSpPr/>
          <p:nvPr/>
        </p:nvSpPr>
        <p:spPr>
          <a:xfrm>
            <a:off x="4267080" y="3124080"/>
            <a:ext cx="2362320" cy="9144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tial</a:t>
            </a:r>
            <a:endParaRPr b="0" lang="en-US" sz="28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6.5 Successive Sets in Decision Making</a:t>
            </a:r>
            <a:endParaRPr b="1" lang="en-US" sz="3600" spc="-1" strike="noStrike">
              <a:solidFill>
                <a:srgbClr val="000000"/>
              </a:solidFill>
              <a:latin typeface="Arial"/>
            </a:endParaRPr>
          </a:p>
        </p:txBody>
      </p:sp>
      <p:sp>
        <p:nvSpPr>
          <p:cNvPr id="62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80EE4A5F-AB8B-4BFC-A3F6-012E9A6D8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24" name="Picture 2" descr=""/>
          <p:cNvPicPr/>
          <p:nvPr/>
        </p:nvPicPr>
        <p:blipFill>
          <a:blip r:embed="rId1"/>
          <a:stretch/>
        </p:blipFill>
        <p:spPr>
          <a:xfrm>
            <a:off x="762120" y="2133720"/>
            <a:ext cx="6781680" cy="292896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6.4 A Consumer’s Brand Beliefs about Laptop Computers</a:t>
            </a:r>
            <a:endParaRPr b="1" lang="en-US" sz="3600" spc="-1" strike="noStrike">
              <a:solidFill>
                <a:srgbClr val="000000"/>
              </a:solidFill>
              <a:latin typeface="Arial"/>
            </a:endParaRPr>
          </a:p>
        </p:txBody>
      </p:sp>
      <p:sp>
        <p:nvSpPr>
          <p:cNvPr id="626"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19733922-108C-4E44-9CC5-935AFEE35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27" name="Picture 1" descr=""/>
          <p:cNvPicPr/>
          <p:nvPr/>
        </p:nvPicPr>
        <p:blipFill>
          <a:blip r:embed="rId1"/>
          <a:stretch/>
        </p:blipFill>
        <p:spPr>
          <a:xfrm>
            <a:off x="609480" y="2590920"/>
            <a:ext cx="7315200" cy="16761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umer Behavior</a:t>
            </a:r>
            <a:endParaRPr b="1" lang="en-US" sz="3600" spc="-1" strike="noStrike">
              <a:solidFill>
                <a:srgbClr val="000000"/>
              </a:solidFill>
              <a:latin typeface="Arial"/>
            </a:endParaRPr>
          </a:p>
        </p:txBody>
      </p:sp>
      <p:sp>
        <p:nvSpPr>
          <p:cNvPr id="52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DDE48BFB-EF8F-46B0-AA84-EB5BEFE2E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28" name="Picture 3" descr=""/>
          <p:cNvPicPr/>
          <p:nvPr/>
        </p:nvPicPr>
        <p:blipFill>
          <a:blip r:embed="rId1"/>
          <a:stretch/>
        </p:blipFill>
        <p:spPr>
          <a:xfrm>
            <a:off x="1981080" y="1295280"/>
            <a:ext cx="4794480" cy="4953240"/>
          </a:xfrm>
          <a:prstGeom prst="rect">
            <a:avLst/>
          </a:prstGeom>
          <a:ln w="0">
            <a:noFill/>
          </a:ln>
        </p:spPr>
      </p:pic>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762120" y="274680"/>
            <a:ext cx="7696080" cy="124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6.6 Steps Between Alternative Evaluation </a:t>
            </a:r>
            <a:br>
              <a:rPr sz="3600"/>
            </a:br>
            <a:r>
              <a:rPr b="1" lang="en-US" sz="3600" spc="-1" strike="noStrike">
                <a:solidFill>
                  <a:srgbClr val="000000"/>
                </a:solidFill>
                <a:latin typeface="Arial"/>
              </a:rPr>
              <a:t>and Purchase</a:t>
            </a:r>
            <a:endParaRPr b="1" lang="en-US" sz="3600" spc="-1" strike="noStrike">
              <a:solidFill>
                <a:srgbClr val="000000"/>
              </a:solidFill>
              <a:latin typeface="Arial"/>
            </a:endParaRPr>
          </a:p>
        </p:txBody>
      </p:sp>
      <p:sp>
        <p:nvSpPr>
          <p:cNvPr id="629"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A8A2EE35-8092-4FC3-A81A-C3CD03C3A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30" name="Picture 1" descr=""/>
          <p:cNvPicPr/>
          <p:nvPr/>
        </p:nvPicPr>
        <p:blipFill>
          <a:blip r:embed="rId1"/>
          <a:stretch/>
        </p:blipFill>
        <p:spPr>
          <a:xfrm>
            <a:off x="2819520" y="1828800"/>
            <a:ext cx="3027240" cy="439092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F9623AB3-926B-4D93-9522-04788F49D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Compensatory Models of Choice</a:t>
            </a:r>
            <a:endParaRPr b="1" lang="en-US" sz="3200" spc="-1" strike="noStrike">
              <a:solidFill>
                <a:srgbClr val="000000"/>
              </a:solidFill>
              <a:latin typeface="Arial"/>
            </a:endParaRPr>
          </a:p>
        </p:txBody>
      </p:sp>
      <p:sp>
        <p:nvSpPr>
          <p:cNvPr id="633"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junctiv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xicographic</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ion-by-aspects </a:t>
            </a:r>
            <a:endParaRPr b="0" lang="en-US" sz="28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7747CCB0-866F-46A9-91D6-FBBABDCF6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ceived Risk</a:t>
            </a:r>
            <a:endParaRPr b="1" lang="en-US" sz="3600" spc="-1" strike="noStrike">
              <a:solidFill>
                <a:srgbClr val="000000"/>
              </a:solidFill>
              <a:latin typeface="Arial"/>
            </a:endParaRPr>
          </a:p>
        </p:txBody>
      </p:sp>
      <p:sp>
        <p:nvSpPr>
          <p:cNvPr id="636"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a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logica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a:t>
            </a:r>
            <a:endParaRPr b="0" lang="en-US" sz="2800" spc="-1" strike="noStrike">
              <a:solidFill>
                <a:srgbClr val="000000"/>
              </a:solidFill>
              <a:latin typeface="Arial"/>
            </a:endParaRPr>
          </a:p>
        </p:txBody>
      </p:sp>
      <p:pic>
        <p:nvPicPr>
          <p:cNvPr id="637" name="Picture 1" descr=""/>
          <p:cNvPicPr/>
          <p:nvPr/>
        </p:nvPicPr>
        <p:blipFill>
          <a:blip r:embed="rId1"/>
          <a:stretch/>
        </p:blipFill>
        <p:spPr>
          <a:xfrm>
            <a:off x="3276720" y="1752480"/>
            <a:ext cx="4367160" cy="308628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6.7 How Customers </a:t>
            </a:r>
            <a:br>
              <a:rPr sz="3600"/>
            </a:br>
            <a:r>
              <a:rPr b="1" lang="en-US" sz="3600" spc="-1" strike="noStrike">
                <a:solidFill>
                  <a:srgbClr val="000000"/>
                </a:solidFill>
                <a:latin typeface="Arial"/>
              </a:rPr>
              <a:t>Use or Dispose of Products</a:t>
            </a:r>
            <a:endParaRPr b="1" lang="en-US" sz="3600" spc="-1" strike="noStrike">
              <a:solidFill>
                <a:srgbClr val="000000"/>
              </a:solidFill>
              <a:latin typeface="Arial"/>
            </a:endParaRPr>
          </a:p>
        </p:txBody>
      </p:sp>
      <p:sp>
        <p:nvSpPr>
          <p:cNvPr id="63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6DAA638A-E63A-4A60-AC57-CACE5F97E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40" name="Picture 2" descr=""/>
          <p:cNvPicPr/>
          <p:nvPr/>
        </p:nvPicPr>
        <p:blipFill>
          <a:blip r:embed="rId1"/>
          <a:stretch/>
        </p:blipFill>
        <p:spPr>
          <a:xfrm>
            <a:off x="762120" y="1905120"/>
            <a:ext cx="6543720" cy="356868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w-Involvement Decision Making</a:t>
            </a:r>
            <a:endParaRPr b="1" lang="en-US" sz="3600" spc="-1" strike="noStrike">
              <a:solidFill>
                <a:srgbClr val="000000"/>
              </a:solidFill>
              <a:latin typeface="Arial"/>
            </a:endParaRPr>
          </a:p>
        </p:txBody>
      </p:sp>
      <p:sp>
        <p:nvSpPr>
          <p:cNvPr id="642"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74398B8B-F50D-47CA-B496-86DEB8641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43" name="Picture 2" descr=""/>
          <p:cNvPicPr/>
          <p:nvPr/>
        </p:nvPicPr>
        <p:blipFill>
          <a:blip r:embed="rId1"/>
          <a:stretch/>
        </p:blipFill>
        <p:spPr>
          <a:xfrm>
            <a:off x="2590920" y="1600200"/>
            <a:ext cx="3305160" cy="428616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ision Heuristics</a:t>
            </a:r>
            <a:endParaRPr b="1" lang="en-US" sz="3200" spc="-1" strike="noStrike">
              <a:solidFill>
                <a:srgbClr val="000000"/>
              </a:solidFill>
              <a:latin typeface="Arial"/>
            </a:endParaRPr>
          </a:p>
        </p:txBody>
      </p:sp>
      <p:sp>
        <p:nvSpPr>
          <p:cNvPr id="645"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ativen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horing and adjustment</a:t>
            </a:r>
            <a:endParaRPr b="0" lang="en-US" sz="2800" spc="-1" strike="noStrike">
              <a:solidFill>
                <a:srgbClr val="000000"/>
              </a:solidFill>
              <a:latin typeface="Arial"/>
            </a:endParaRPr>
          </a:p>
        </p:txBody>
      </p:sp>
      <p:sp>
        <p:nvSpPr>
          <p:cNvPr id="646"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67A91446-D37D-4691-BEE4-2680F9D74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aming</a:t>
            </a:r>
            <a:endParaRPr b="1" lang="en-US" sz="3600" spc="-1" strike="noStrike">
              <a:solidFill>
                <a:srgbClr val="000000"/>
              </a:solidFill>
              <a:latin typeface="Arial"/>
            </a:endParaRPr>
          </a:p>
        </p:txBody>
      </p:sp>
      <p:sp>
        <p:nvSpPr>
          <p:cNvPr id="64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075C320A-C902-4282-9183-430754186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49" name="Picture 2" descr=""/>
          <p:cNvPicPr/>
          <p:nvPr/>
        </p:nvPicPr>
        <p:blipFill>
          <a:blip r:embed="rId1"/>
          <a:stretch/>
        </p:blipFill>
        <p:spPr>
          <a:xfrm>
            <a:off x="1905120" y="1523880"/>
            <a:ext cx="4852800" cy="357984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8A21E9E6-D0C3-4F3B-A96F-948FA48F8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ntal Accounting</a:t>
            </a:r>
            <a:endParaRPr b="1" lang="en-US" sz="3600" spc="-1" strike="noStrike">
              <a:solidFill>
                <a:srgbClr val="000000"/>
              </a:solidFill>
              <a:latin typeface="Arial"/>
            </a:endParaRPr>
          </a:p>
        </p:txBody>
      </p:sp>
      <p:sp>
        <p:nvSpPr>
          <p:cNvPr id="652" name="PlaceHolder 2"/>
          <p:cNvSpPr>
            <a:spLocks noGrp="1"/>
          </p:cNvSpPr>
          <p:nvPr>
            <p:ph/>
          </p:nvPr>
        </p:nvSpPr>
        <p:spPr>
          <a:xfrm>
            <a:off x="762120" y="1811160"/>
            <a:ext cx="7696080" cy="436104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s tend to…</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regate gains</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 losses</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 smaller losses with larger gains</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regate small gains from large losses</a:t>
            </a:r>
            <a:endParaRPr b="0" lang="en-US" sz="2800" spc="-1" strike="noStrike">
              <a:solidFill>
                <a:srgbClr val="000000"/>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654"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consumer characteristics influence buying behavio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ajor psychological processes influence consumer responses to the marketing progra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consumers make purchasing decis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what ways do consumers stray from a deliberate rational decision process?</a:t>
            </a:r>
            <a:endParaRPr b="0" lang="en-US" sz="2800" spc="-1" strike="noStrike">
              <a:solidFill>
                <a:srgbClr val="000000"/>
              </a:solidFill>
              <a:latin typeface="Arial"/>
            </a:endParaRPr>
          </a:p>
        </p:txBody>
      </p:sp>
      <p:sp>
        <p:nvSpPr>
          <p:cNvPr id="65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DDBF8F26-8B41-4AA8-ADA1-F7DD372F9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D9FBAC40-5BFF-4581-8D3A-1EFE4AD31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nfluences </a:t>
            </a:r>
            <a:br>
              <a:rPr sz="3600"/>
            </a:br>
            <a:r>
              <a:rPr b="1" lang="en-US" sz="3600" spc="-1" strike="noStrike">
                <a:solidFill>
                  <a:srgbClr val="000000"/>
                </a:solidFill>
                <a:latin typeface="Arial"/>
              </a:rPr>
              <a:t>Consumer Behavior?</a:t>
            </a:r>
            <a:endParaRPr b="1" lang="en-US" sz="3600" spc="-1" strike="noStrike">
              <a:solidFill>
                <a:srgbClr val="000000"/>
              </a:solidFill>
              <a:latin typeface="Arial"/>
            </a:endParaRPr>
          </a:p>
        </p:txBody>
      </p:sp>
      <p:sp>
        <p:nvSpPr>
          <p:cNvPr id="531" name="Rounded Rectangle 4"/>
          <p:cNvSpPr/>
          <p:nvPr/>
        </p:nvSpPr>
        <p:spPr>
          <a:xfrm>
            <a:off x="2362320" y="1828800"/>
            <a:ext cx="3886200" cy="10666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al Factors</a:t>
            </a:r>
            <a:endParaRPr b="0" lang="en-US" sz="2800" spc="-1" strike="noStrike">
              <a:solidFill>
                <a:srgbClr val="000000"/>
              </a:solidFill>
              <a:latin typeface="Arial"/>
            </a:endParaRPr>
          </a:p>
        </p:txBody>
      </p:sp>
      <p:sp>
        <p:nvSpPr>
          <p:cNvPr id="532" name="Rounded Rectangle 5"/>
          <p:cNvSpPr/>
          <p:nvPr/>
        </p:nvSpPr>
        <p:spPr>
          <a:xfrm>
            <a:off x="2362320" y="3124080"/>
            <a:ext cx="3886200" cy="10670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Factors</a:t>
            </a:r>
            <a:endParaRPr b="0" lang="en-US" sz="2800" spc="-1" strike="noStrike">
              <a:solidFill>
                <a:srgbClr val="000000"/>
              </a:solidFill>
              <a:latin typeface="Arial"/>
            </a:endParaRPr>
          </a:p>
        </p:txBody>
      </p:sp>
      <p:sp>
        <p:nvSpPr>
          <p:cNvPr id="533" name="Rounded Rectangle 6"/>
          <p:cNvSpPr/>
          <p:nvPr/>
        </p:nvSpPr>
        <p:spPr>
          <a:xfrm>
            <a:off x="2362320" y="4419720"/>
            <a:ext cx="3886200" cy="10666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Factors</a:t>
            </a:r>
            <a:endParaRPr b="0" lang="en-US" sz="2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10727CFD-C2C9-4D3E-B37B-528BC4663B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Culture?</a:t>
            </a:r>
            <a:endParaRPr b="1" lang="en-US" sz="3600" spc="-1" strike="noStrike">
              <a:solidFill>
                <a:srgbClr val="000000"/>
              </a:solidFill>
              <a:latin typeface="Arial"/>
            </a:endParaRPr>
          </a:p>
        </p:txBody>
      </p:sp>
      <p:sp>
        <p:nvSpPr>
          <p:cNvPr id="536" name="PlaceHolder 2"/>
          <p:cNvSpPr>
            <a:spLocks noGrp="1"/>
          </p:cNvSpPr>
          <p:nvPr>
            <p:ph/>
          </p:nvPr>
        </p:nvSpPr>
        <p:spPr>
          <a:xfrm>
            <a:off x="533160" y="1600200"/>
            <a:ext cx="7467480" cy="4572000"/>
          </a:xfrm>
          <a:prstGeom prst="rect">
            <a:avLst/>
          </a:prstGeom>
          <a:noFill/>
          <a:ln w="0">
            <a:noFill/>
          </a:ln>
        </p:spPr>
        <p:txBody>
          <a:bodyPr anchor="t">
            <a:normAutofit/>
          </a:bodyPr>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lture</a:t>
            </a:r>
            <a:r>
              <a:rPr b="0" lang="en-US" sz="2800" spc="-1" strike="noStrike">
                <a:solidFill>
                  <a:srgbClr val="000000"/>
                </a:solidFill>
                <a:latin typeface="Arial"/>
              </a:rPr>
              <a:t> is the fundamental determinant of a person’s wants and behaviors acquired through socialization processes with family and other key institutions.</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19EBFC0B-A1CC-44C6-BAF4-5BBD279ED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cultures</a:t>
            </a:r>
            <a:endParaRPr b="1" lang="en-US" sz="3600" spc="-1" strike="noStrike">
              <a:solidFill>
                <a:srgbClr val="000000"/>
              </a:solidFill>
              <a:latin typeface="Arial"/>
            </a:endParaRPr>
          </a:p>
        </p:txBody>
      </p:sp>
      <p:sp>
        <p:nvSpPr>
          <p:cNvPr id="539"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it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g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cial group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 regions</a:t>
            </a:r>
            <a:endParaRPr b="0" lang="en-US" sz="2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EE5A125C-5552-4793-BB62-DF836CB99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st Facts About </a:t>
            </a:r>
            <a:br>
              <a:rPr sz="3600"/>
            </a:br>
            <a:r>
              <a:rPr b="1" lang="en-US" sz="3600" spc="-1" strike="noStrike">
                <a:solidFill>
                  <a:srgbClr val="000000"/>
                </a:solidFill>
                <a:latin typeface="Arial"/>
              </a:rPr>
              <a:t>American Culture</a:t>
            </a:r>
            <a:endParaRPr b="1" lang="en-US" sz="3600" spc="-1" strike="noStrike">
              <a:solidFill>
                <a:srgbClr val="000000"/>
              </a:solidFill>
              <a:latin typeface="Arial"/>
            </a:endParaRPr>
          </a:p>
        </p:txBody>
      </p:sp>
      <p:sp>
        <p:nvSpPr>
          <p:cNvPr id="542" name="PlaceHolder 2"/>
          <p:cNvSpPr>
            <a:spLocks noGrp="1"/>
          </p:cNvSpPr>
          <p:nvPr>
            <p:ph/>
          </p:nvPr>
        </p:nvSpPr>
        <p:spPr>
          <a:xfrm>
            <a:off x="762120" y="1981080"/>
            <a:ext cx="7238880" cy="419112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verage American:</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ws 300 sticks of gum a year</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es to the movies 9 times a year</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4 trips per year </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ds a sporting event 7 times each year</a:t>
            </a:r>
            <a:endParaRPr b="0" lang="en-US" sz="2800" spc="-1" strike="noStrike">
              <a:solidFill>
                <a:srgbClr val="000000"/>
              </a:solidFill>
              <a:latin typeface="Arial"/>
            </a:endParaRPr>
          </a:p>
          <a:p>
            <a:pPr lvl="1" marL="743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2397EA80-BF57-42ED-A94F-8704C705D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Classes</a:t>
            </a:r>
            <a:endParaRPr b="1" lang="en-US" sz="3600" spc="-1" strike="noStrike">
              <a:solidFill>
                <a:srgbClr val="000000"/>
              </a:solidFill>
              <a:latin typeface="Arial"/>
            </a:endParaRPr>
          </a:p>
        </p:txBody>
      </p:sp>
      <p:sp>
        <p:nvSpPr>
          <p:cNvPr id="545" name="Rounded Rectangle 4"/>
          <p:cNvSpPr/>
          <p:nvPr/>
        </p:nvSpPr>
        <p:spPr>
          <a:xfrm>
            <a:off x="838080" y="1295280"/>
            <a:ext cx="274320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per uppers</a:t>
            </a:r>
            <a:endParaRPr b="0" lang="en-US" sz="1800" spc="-1" strike="noStrike">
              <a:solidFill>
                <a:srgbClr val="000000"/>
              </a:solidFill>
              <a:latin typeface="Arial"/>
            </a:endParaRPr>
          </a:p>
        </p:txBody>
      </p:sp>
      <p:sp>
        <p:nvSpPr>
          <p:cNvPr id="546" name="Rounded Rectangle 5"/>
          <p:cNvSpPr/>
          <p:nvPr/>
        </p:nvSpPr>
        <p:spPr>
          <a:xfrm>
            <a:off x="1447920" y="1981080"/>
            <a:ext cx="274320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uppers</a:t>
            </a:r>
            <a:endParaRPr b="0" lang="en-US" sz="1800" spc="-1" strike="noStrike">
              <a:solidFill>
                <a:srgbClr val="000000"/>
              </a:solidFill>
              <a:latin typeface="Arial"/>
            </a:endParaRPr>
          </a:p>
        </p:txBody>
      </p:sp>
      <p:sp>
        <p:nvSpPr>
          <p:cNvPr id="547" name="Rounded Rectangle 6"/>
          <p:cNvSpPr/>
          <p:nvPr/>
        </p:nvSpPr>
        <p:spPr>
          <a:xfrm>
            <a:off x="2057400" y="2666880"/>
            <a:ext cx="274320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per middles</a:t>
            </a:r>
            <a:endParaRPr b="0" lang="en-US" sz="1800" spc="-1" strike="noStrike">
              <a:solidFill>
                <a:srgbClr val="000000"/>
              </a:solidFill>
              <a:latin typeface="Arial"/>
            </a:endParaRPr>
          </a:p>
        </p:txBody>
      </p:sp>
      <p:sp>
        <p:nvSpPr>
          <p:cNvPr id="548" name="Rounded Rectangle 7"/>
          <p:cNvSpPr/>
          <p:nvPr/>
        </p:nvSpPr>
        <p:spPr>
          <a:xfrm>
            <a:off x="2895480" y="3352680"/>
            <a:ext cx="274320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dle</a:t>
            </a:r>
            <a:endParaRPr b="0" lang="en-US" sz="1800" spc="-1" strike="noStrike">
              <a:solidFill>
                <a:srgbClr val="000000"/>
              </a:solidFill>
              <a:latin typeface="Arial"/>
            </a:endParaRPr>
          </a:p>
        </p:txBody>
      </p:sp>
      <p:sp>
        <p:nvSpPr>
          <p:cNvPr id="549" name="Rounded Rectangle 8"/>
          <p:cNvSpPr/>
          <p:nvPr/>
        </p:nvSpPr>
        <p:spPr>
          <a:xfrm>
            <a:off x="3733920" y="4038480"/>
            <a:ext cx="274320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a:t>
            </a:r>
            <a:endParaRPr b="0" lang="en-US" sz="1800" spc="-1" strike="noStrike">
              <a:solidFill>
                <a:srgbClr val="000000"/>
              </a:solidFill>
              <a:latin typeface="Arial"/>
            </a:endParaRPr>
          </a:p>
        </p:txBody>
      </p:sp>
      <p:sp>
        <p:nvSpPr>
          <p:cNvPr id="550" name="Rounded Rectangle 9"/>
          <p:cNvSpPr/>
          <p:nvPr/>
        </p:nvSpPr>
        <p:spPr>
          <a:xfrm>
            <a:off x="4572000" y="4724280"/>
            <a:ext cx="274320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per lowers</a:t>
            </a:r>
            <a:endParaRPr b="0" lang="en-US" sz="1800" spc="-1" strike="noStrike">
              <a:solidFill>
                <a:srgbClr val="000000"/>
              </a:solidFill>
              <a:latin typeface="Arial"/>
            </a:endParaRPr>
          </a:p>
        </p:txBody>
      </p:sp>
      <p:sp>
        <p:nvSpPr>
          <p:cNvPr id="551" name="Rounded Rectangle 10"/>
          <p:cNvSpPr/>
          <p:nvPr/>
        </p:nvSpPr>
        <p:spPr>
          <a:xfrm>
            <a:off x="5105520" y="5410080"/>
            <a:ext cx="274320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lowers</a:t>
            </a:r>
            <a:endParaRPr b="0"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6-</a:t>
            </a:r>
            <a:fld id="{7DE4C228-3931-42FE-A148-73DF2EB78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Factors</a:t>
            </a:r>
            <a:endParaRPr b="1" lang="en-US" sz="3600" spc="-1" strike="noStrike">
              <a:solidFill>
                <a:srgbClr val="000000"/>
              </a:solidFill>
              <a:latin typeface="Arial"/>
            </a:endParaRPr>
          </a:p>
        </p:txBody>
      </p:sp>
      <p:sp>
        <p:nvSpPr>
          <p:cNvPr id="554" name="Rounded Rectangle 5"/>
          <p:cNvSpPr/>
          <p:nvPr/>
        </p:nvSpPr>
        <p:spPr>
          <a:xfrm>
            <a:off x="2209680" y="1523880"/>
            <a:ext cx="419112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55" name="Rounded Rectangle 6"/>
          <p:cNvSpPr/>
          <p:nvPr/>
        </p:nvSpPr>
        <p:spPr>
          <a:xfrm>
            <a:off x="2209680" y="2286000"/>
            <a:ext cx="4191120" cy="6094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a:t>
            </a:r>
            <a:endParaRPr b="0" lang="en-US" sz="1800" spc="-1" strike="noStrike">
              <a:solidFill>
                <a:srgbClr val="000000"/>
              </a:solidFill>
              <a:latin typeface="Arial"/>
            </a:endParaRPr>
          </a:p>
        </p:txBody>
      </p:sp>
      <p:sp>
        <p:nvSpPr>
          <p:cNvPr id="556" name="Rounded Rectangle 7"/>
          <p:cNvSpPr/>
          <p:nvPr/>
        </p:nvSpPr>
        <p:spPr>
          <a:xfrm>
            <a:off x="2209680" y="3048120"/>
            <a:ext cx="4191120" cy="6094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roles</a:t>
            </a:r>
            <a:endParaRPr b="0" lang="en-US" sz="1800" spc="-1" strike="noStrike">
              <a:solidFill>
                <a:srgbClr val="000000"/>
              </a:solidFill>
              <a:latin typeface="Arial"/>
            </a:endParaRPr>
          </a:p>
        </p:txBody>
      </p:sp>
      <p:sp>
        <p:nvSpPr>
          <p:cNvPr id="557" name="Rounded Rectangle 8"/>
          <p:cNvSpPr/>
          <p:nvPr/>
        </p:nvSpPr>
        <p:spPr>
          <a:xfrm>
            <a:off x="2209680" y="3809880"/>
            <a:ext cx="419112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uses</a:t>
            </a:r>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7:59:30Z</dcterms:created>
  <dc:creator>Tracy Tuten</dc:creator>
  <dc:description/>
  <dc:language>en-US</dc:language>
  <cp:lastModifiedBy>UKASHKI</cp:lastModifiedBy>
  <dcterms:modified xsi:type="dcterms:W3CDTF">2011-02-04T19:42:08Z</dcterms:modified>
  <cp:revision>420</cp:revision>
  <dc:subject/>
  <dc:title>Kotler Keller 2</dc:title>
</cp:coreProperties>
</file>