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015560" y="274320"/>
            <a:ext cx="1026180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627408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1015560" y="1600200"/>
            <a:ext cx="50076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1015560" y="160020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1015560" y="3988440"/>
            <a:ext cx="102618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101556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6274080" y="160020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101556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6274080" y="3988440"/>
            <a:ext cx="500760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101556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48524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7954920" y="160020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101556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448524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7954920" y="3988440"/>
            <a:ext cx="3304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1015560" y="1600200"/>
            <a:ext cx="1026180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1015560" y="1600200"/>
            <a:ext cx="1026180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AE32836F-72AC-47C7-B3B0-67AD55D43E9E}"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795F4C22-103C-4D8E-9530-53C4B94F423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616ED5A8-C415-49E5-8859-7AB65F5CC52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39AA1089-716A-4170-BE09-036C2F19E179}"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1219212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3149640" y="5234040"/>
            <a:ext cx="8229600" cy="1623960"/>
          </a:xfrm>
          <a:prstGeom prst="rect">
            <a:avLst/>
          </a:prstGeom>
          <a:ln w="0">
            <a:noFill/>
          </a:ln>
        </p:spPr>
      </p:pic>
      <p:pic>
        <p:nvPicPr>
          <p:cNvPr id="45" name="Picture 5" descr=""/>
          <p:cNvPicPr/>
          <p:nvPr/>
        </p:nvPicPr>
        <p:blipFill>
          <a:blip r:embed="rId3"/>
          <a:stretch/>
        </p:blipFill>
        <p:spPr>
          <a:xfrm>
            <a:off x="0" y="0"/>
            <a:ext cx="1930320" cy="6858000"/>
          </a:xfrm>
          <a:prstGeom prst="rect">
            <a:avLst/>
          </a:prstGeom>
          <a:ln w="0">
            <a:noFill/>
          </a:ln>
        </p:spPr>
      </p:pic>
      <p:sp>
        <p:nvSpPr>
          <p:cNvPr id="46"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1-</a:t>
            </a:r>
            <a:fld id="{B207D4F6-9B60-47F3-8EA6-DAD7DB9176C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1-</a:t>
            </a:r>
            <a:fld id="{8F81F7FF-A6DC-48D5-83D6-29D40599F53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453CA969-3D67-44CA-9051-7C20900C21FB}"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04FC9315-E874-4245-8FD4-6061BFC5D5B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3A8A8BC1-4D1A-4A5C-8973-1A1E2C125988}"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pyright © 2011 Pearson Education, Inc.  Publishing as Prentice Hall</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4-</a:t>
            </a:r>
            <a:fld id="{6843D347-44FE-4EE9-956D-9345A38251E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11277720" y="0"/>
            <a:ext cx="9144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8775720" y="2527200"/>
            <a:ext cx="6858000" cy="180360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114120" y="316800"/>
            <a:ext cx="1143000" cy="50832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20304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1015560" y="1600200"/>
            <a:ext cx="1026180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1015560" y="274320"/>
            <a:ext cx="1026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304560" y="6381360"/>
            <a:ext cx="114807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opyright © 2011 Pearson Education, Inc.  Publishing as Prentice H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1-</a:t>
            </a:r>
            <a:fld id="{29332A84-7792-4F59-8798-9D489AD0BE9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6"/>
          <p:cNvSpPr/>
          <p:nvPr/>
        </p:nvSpPr>
        <p:spPr>
          <a:xfrm>
            <a:off x="8077320" y="6245280"/>
            <a:ext cx="2133360" cy="4762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D59F-7001-4C55-BDC7-791291365B2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515" name="Rectangle 3"/>
          <p:cNvSpPr/>
          <p:nvPr/>
        </p:nvSpPr>
        <p:spPr>
          <a:xfrm>
            <a:off x="-3726000" y="211284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Picture 4" descr="cid:3287383400_2177562"/>
          <p:cNvPicPr/>
          <p:nvPr/>
        </p:nvPicPr>
        <p:blipFill>
          <a:blip r:embed="rId1"/>
          <a:stretch/>
        </p:blipFill>
        <p:spPr>
          <a:xfrm>
            <a:off x="1846440" y="917640"/>
            <a:ext cx="8422920" cy="2747880"/>
          </a:xfrm>
          <a:prstGeom prst="rect">
            <a:avLst/>
          </a:prstGeom>
          <a:ln w="9360">
            <a:solidFill>
              <a:srgbClr val="ffffff"/>
            </a:solidFill>
            <a:miter/>
          </a:ln>
        </p:spPr>
      </p:pic>
      <p:sp>
        <p:nvSpPr>
          <p:cNvPr id="517" name="Rectangle 5"/>
          <p:cNvSpPr/>
          <p:nvPr/>
        </p:nvSpPr>
        <p:spPr>
          <a:xfrm>
            <a:off x="223200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518" name="Rectangle 5"/>
          <p:cNvSpPr/>
          <p:nvPr/>
        </p:nvSpPr>
        <p:spPr>
          <a:xfrm>
            <a:off x="2262240" y="5327640"/>
            <a:ext cx="7845480" cy="636480"/>
          </a:xfrm>
          <a:prstGeom prst="rect">
            <a:avLst/>
          </a:prstGeom>
          <a:noFill/>
          <a:ln w="0">
            <a:noFill/>
          </a:ln>
        </p:spPr>
        <p:style>
          <a:lnRef idx="0"/>
          <a:fillRef idx="0"/>
          <a:effectRef idx="0"/>
          <a:fontRef idx="minor"/>
        </p:style>
        <p:txBody>
          <a:bodyPr lIns="90000" rIns="90000" tIns="46800" bIns="46800" anchor="b">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宋体"/>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宋体"/>
              </a:rPr>
              <a:t>Publishing as Prentice Hall</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9T06:56:38Z</dcterms:created>
  <dc:creator>HaiXin DING</dc:creator>
  <dc:description/>
  <dc:language>en-US</dc:language>
  <cp:lastModifiedBy>HaiXin DING</cp:lastModifiedBy>
  <dcterms:modified xsi:type="dcterms:W3CDTF">2014-11-09T06:57:01Z</dcterms:modified>
  <cp:revision>1</cp:revision>
  <dc:subject/>
  <dc:title>PowerPoint 演示文稿</dc:title>
</cp:coreProperties>
</file>