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0" y="0"/>
            <a:ext cx="7077600" cy="938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1"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602" name="PlaceHolder 2"/>
          <p:cNvSpPr>
            <a:spLocks noGrp="1"/>
          </p:cNvSpPr>
          <p:nvPr>
            <p:ph type="dt" idx="14"/>
          </p:nvPr>
        </p:nvSpPr>
        <p:spPr>
          <a:xfrm>
            <a:off x="4008240" y="-360"/>
            <a:ext cx="306684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603" name="PlaceHolder 3"/>
          <p:cNvSpPr>
            <a:spLocks noGrp="1"/>
          </p:cNvSpPr>
          <p:nvPr>
            <p:ph type="sldImg"/>
          </p:nvPr>
        </p:nvSpPr>
        <p:spPr>
          <a:xfrm>
            <a:off x="1193760" y="703080"/>
            <a:ext cx="4689360" cy="35175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604" name="PlaceHolder 4"/>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5" name="PlaceHolder 5"/>
          <p:cNvSpPr>
            <a:spLocks noGrp="1"/>
          </p:cNvSpPr>
          <p:nvPr>
            <p:ph type="ftr" idx="15"/>
          </p:nvPr>
        </p:nvSpPr>
        <p:spPr>
          <a:xfrm>
            <a:off x="0" y="891036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606" name="PlaceHolder 6"/>
          <p:cNvSpPr>
            <a:spLocks noGrp="1"/>
          </p:cNvSpPr>
          <p:nvPr>
            <p:ph type="sldNum" idx="16"/>
          </p:nvPr>
        </p:nvSpPr>
        <p:spPr>
          <a:xfrm>
            <a:off x="4008240" y="8910360"/>
            <a:ext cx="3066840" cy="469800"/>
          </a:xfrm>
          <a:prstGeom prst="rect">
            <a:avLst/>
          </a:prstGeom>
          <a:noFill/>
          <a:ln w="0">
            <a:noFill/>
          </a:ln>
        </p:spPr>
        <p:txBody>
          <a:bodyPr lIns="93960" rIns="93960" tIns="47160" bIns="471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47BA-9425-4A49-9C8B-145E44E6D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4C68-46C9-4C5D-8846-990FF82E4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93760" y="703440"/>
            <a:ext cx="4689360" cy="3517560"/>
          </a:xfrm>
          <a:prstGeom prst="rect">
            <a:avLst/>
          </a:prstGeom>
          <a:ln w="0">
            <a:noFill/>
          </a:ln>
        </p:spPr>
      </p:sp>
      <p:sp>
        <p:nvSpPr>
          <p:cNvPr id="733"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93760" y="703440"/>
            <a:ext cx="4689360" cy="3517560"/>
          </a:xfrm>
          <a:prstGeom prst="rect">
            <a:avLst/>
          </a:prstGeom>
          <a:ln w="0">
            <a:noFill/>
          </a:ln>
        </p:spPr>
      </p:sp>
      <p:sp>
        <p:nvSpPr>
          <p:cNvPr id="75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ges in the new-product development process are shown in Figure 20.1. Many firms have parallel sets of projects working through the process, each at a different stage. Think of the process as a funnel: A large number of initial new-product ideas and concepts are winnowed down to a few high-potential products that are ultimately launched. But the process is not always linear. Many firms use a spiral development process that recognizes the value of returning to an earlier stage to make improvements before moving forward.</a:t>
            </a:r>
            <a:endParaRPr b="0" lang="en-US" sz="1200" spc="-1" strike="noStrike">
              <a:solidFill>
                <a:srgbClr val="000000"/>
              </a:solidFill>
              <a:latin typeface="Arial"/>
            </a:endParaRPr>
          </a:p>
        </p:txBody>
      </p:sp>
      <p:sp>
        <p:nvSpPr>
          <p:cNvPr id="760"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0E99E-8D67-4ABC-AD3A-F5B9C609A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B164-2343-41F4-B15B-D1729423F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93760" y="703440"/>
            <a:ext cx="4689360" cy="3517560"/>
          </a:xfrm>
          <a:prstGeom prst="rect">
            <a:avLst/>
          </a:prstGeom>
          <a:ln w="0">
            <a:noFill/>
          </a:ln>
        </p:spPr>
      </p:sp>
      <p:sp>
        <p:nvSpPr>
          <p:cNvPr id="76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product development process starts with the search for ideas. Some marketing experts believe the greatest opportunities and highest leverage with new products are found by uncovering the best possible set of unmet customer needs or technological innovation. New-product ideas can come from interacting with various groups and using creativity-generating techniques. The Marketing Memo explains ten ways (listed on this slide and the next) to find great new-product idea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1CBB-887C-450F-B96C-591BF5645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93760" y="703440"/>
            <a:ext cx="4689360" cy="3517560"/>
          </a:xfrm>
          <a:prstGeom prst="rect">
            <a:avLst/>
          </a:prstGeom>
          <a:ln w="0">
            <a:noFill/>
          </a:ln>
        </p:spPr>
      </p:sp>
      <p:sp>
        <p:nvSpPr>
          <p:cNvPr id="766"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33E08-E84F-4F86-8117-CC1B96431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93760" y="703440"/>
            <a:ext cx="4689360" cy="3517560"/>
          </a:xfrm>
          <a:prstGeom prst="rect">
            <a:avLst/>
          </a:prstGeom>
          <a:ln w="0">
            <a:noFill/>
          </a:ln>
        </p:spPr>
      </p:sp>
      <p:sp>
        <p:nvSpPr>
          <p:cNvPr id="76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can be a great place to get new idea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93760" y="703440"/>
            <a:ext cx="4689360" cy="3517560"/>
          </a:xfrm>
          <a:prstGeom prst="rect">
            <a:avLst/>
          </a:prstGeom>
          <a:ln w="0">
            <a:noFill/>
          </a:ln>
        </p:spPr>
      </p:sp>
      <p:sp>
        <p:nvSpPr>
          <p:cNvPr id="77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first innovation and growth (DIG) framework is designed to provide companies with an unbiased view and an outside-in perspective of demand opportunities. It has three parts: the demand landscape, the opportunity space, and the strategic bluepr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landscape is based on the consumer needs and wants gleaned from observational, anthropological, and ethnographic meth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portunity space uses a conceptual lens and structured innovative thinking tools to achieve market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c blueprint sketches out where the new product will fit in the lives of consumers. </a:t>
            </a:r>
            <a:endParaRPr b="0" lang="en-US" sz="1200" spc="-1" strike="noStrike">
              <a:solidFill>
                <a:srgbClr val="000000"/>
              </a:solidFill>
              <a:latin typeface="Arial"/>
            </a:endParaRPr>
          </a:p>
        </p:txBody>
      </p:sp>
      <p:sp>
        <p:nvSpPr>
          <p:cNvPr id="772"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BF24A-6B9E-4DE3-A173-2490E6B02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D62D-5D08-45B9-AB48-942A039F7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93760" y="703440"/>
            <a:ext cx="4689360" cy="3517560"/>
          </a:xfrm>
          <a:prstGeom prst="rect">
            <a:avLst/>
          </a:prstGeom>
          <a:ln w="0">
            <a:noFill/>
          </a:ln>
        </p:spPr>
      </p:sp>
      <p:sp>
        <p:nvSpPr>
          <p:cNvPr id="77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list is a sampling of techniques for stimulating creativity in individuals and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tribute listing is a list of the attributes of an object that is then mod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d relationships means to list several ideas and to consider how each relates to the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phological analysis involves starting with a problem,  and then identifying the dimensions, the medium, and the power 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verse assumption analysis, list all the normal assumptions about an entity and then reverse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d mapping is to see what dimensions occur in relationship to the concept for as far as can be mapp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E04D5-93E7-4827-A4DC-62656133B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PlaceHolder 1"/>
          <p:cNvSpPr>
            <a:spLocks noGrp="1"/>
          </p:cNvSpPr>
          <p:nvPr>
            <p:ph type="sldImg"/>
          </p:nvPr>
        </p:nvSpPr>
        <p:spPr>
          <a:xfrm>
            <a:off x="1193760" y="703440"/>
            <a:ext cx="4689360" cy="3517560"/>
          </a:xfrm>
          <a:prstGeom prst="rect">
            <a:avLst/>
          </a:prstGeom>
          <a:ln w="0">
            <a:noFill/>
          </a:ln>
        </p:spPr>
      </p:sp>
      <p:sp>
        <p:nvSpPr>
          <p:cNvPr id="77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ly, new-product ideas arise from lateral marketing that combines two product concepts or ideas to create a new offering.  The slide identifies several successful examples and presents an example of a candy + to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93760" y="703440"/>
            <a:ext cx="4689360" cy="3517560"/>
          </a:xfrm>
          <a:prstGeom prst="rect">
            <a:avLst/>
          </a:prstGeom>
          <a:ln w="0">
            <a:noFill/>
          </a:ln>
        </p:spPr>
      </p:sp>
      <p:sp>
        <p:nvSpPr>
          <p:cNvPr id="78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n rate the surviving ideas using a weighted-index method like that in Table 20.2. The first column lists factors required for successful product launches, and the second column assigns importance weights. The third column scores the product idea on a scale from 0 to 1.0, with 1.0 the highest score. The final step multiplies each factor’s importance by the product score to obtain an overall rating. In this example, the product idea scores 0.69, which places it in the “good idea” level. The purpose of this basic rating device is to promote systematic evaluation and discussion. It is not supposed to make the decision for management.</a:t>
            </a:r>
            <a:endParaRPr b="0" lang="en-US" sz="1200" spc="-1" strike="noStrike">
              <a:solidFill>
                <a:srgbClr val="000000"/>
              </a:solidFill>
              <a:latin typeface="Arial"/>
            </a:endParaRPr>
          </a:p>
        </p:txBody>
      </p:sp>
      <p:sp>
        <p:nvSpPr>
          <p:cNvPr id="781"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72D0E-E29C-42D3-BFBC-10F92B96D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93760" y="703440"/>
            <a:ext cx="4689360" cy="3517560"/>
          </a:xfrm>
          <a:prstGeom prst="rect">
            <a:avLst/>
          </a:prstGeom>
          <a:ln w="0">
            <a:noFill/>
          </a:ln>
        </p:spPr>
      </p:sp>
      <p:sp>
        <p:nvSpPr>
          <p:cNvPr id="78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represents the typical things that are said about a new idea at each stage of its development. </a:t>
            </a:r>
            <a:endParaRPr b="0" lang="en-US" sz="1200" spc="-1" strike="noStrike">
              <a:solidFill>
                <a:srgbClr val="000000"/>
              </a:solidFill>
              <a:latin typeface="Arial"/>
            </a:endParaRPr>
          </a:p>
        </p:txBody>
      </p:sp>
      <p:sp>
        <p:nvSpPr>
          <p:cNvPr id="784"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2302-75FE-4BD6-9EF0-BFEDC74A5F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93760" y="703440"/>
            <a:ext cx="4689360" cy="3517560"/>
          </a:xfrm>
          <a:prstGeom prst="rect">
            <a:avLst/>
          </a:prstGeom>
          <a:ln w="0">
            <a:noFill/>
          </a:ln>
        </p:spPr>
      </p:sp>
      <p:sp>
        <p:nvSpPr>
          <p:cNvPr id="78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20.3a uses the two dimensions of cost and preparation time to create a product positioning map for the breakfast drink. An instant breakfast drink offers low cost and quick preparation. Its nearest competitor is cold cereal or breakfast bars; its most distant is bacon and eggs. These contrasts can help communicate and promote the concept to the market. Next, the product concept becomes a brand concept. Figure 20.3b is a brand-positioning map, a perceptual map showing the current positions of three existing brands of instant breakfast drinks (A–C), as seen by consumers. It can also be useful to overlay consumer preferences on to the map in terms of their current or desired preferences. Figure 20.3b also shows four segments of consumers (1–4) whose preferences are clustered around the points on the map. The brand-positioning map helps the company to decide how much to charge and how calorific to make its drink. Three segments (1–3) are well served by existing brands (A–C). The company would not want to position itself next to one of those existing brands, unless that brand is weak or inferior or market demand was high enough to be shared. As it turns out, the new brand would be distinctive in the medium-price, medium-calorie market or in the high-price, high-calorie market. There is also a segment of consumers (4) clustered fairly near the medium-price, medium-calorie market, suggesting that this may offer the greatest opportunity.</a:t>
            </a:r>
            <a:endParaRPr b="0" lang="en-US" sz="1200" spc="-1" strike="noStrike">
              <a:solidFill>
                <a:srgbClr val="000000"/>
              </a:solidFill>
              <a:latin typeface="Arial"/>
            </a:endParaRPr>
          </a:p>
        </p:txBody>
      </p:sp>
      <p:sp>
        <p:nvSpPr>
          <p:cNvPr id="787"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3205-9EA6-4AEF-8754-007BD2765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5B7D-8F1A-4775-84A3-60FE7AB3A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93760" y="703440"/>
            <a:ext cx="4689360" cy="3517560"/>
          </a:xfrm>
          <a:prstGeom prst="rect">
            <a:avLst/>
          </a:prstGeom>
          <a:ln w="0">
            <a:noFill/>
          </a:ln>
        </p:spPr>
      </p:sp>
      <p:sp>
        <p:nvSpPr>
          <p:cNvPr id="73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product development shapes the company’s future. Improved or replacement products and services can maintain or build sales; new-to-the-world products and services can transform industries and companies and change lives. But the low success rate of new products and services points to the many challenges they face. Companies are doing more than just talking about innovation. They are challenging industry norms and past conventions to develop new products and services that delight and engage consumers. This chapter provides a detailed analysis of the new-product development proces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5E567-1473-4826-8A81-B1978C95E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93760" y="703440"/>
            <a:ext cx="4689360" cy="3517560"/>
          </a:xfrm>
          <a:prstGeom prst="rect">
            <a:avLst/>
          </a:prstGeom>
          <a:ln w="0">
            <a:noFill/>
          </a:ln>
        </p:spPr>
      </p:sp>
      <p:sp>
        <p:nvSpPr>
          <p:cNvPr id="79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 testing means presenting the product concept to target consumers, physically or symbolically, and getting their reactions. In the past, creating physical prototypes was costly and time consuming, but today firms can use </a:t>
            </a:r>
            <a:r>
              <a:rPr b="0" i="1" lang="en-US" sz="1200" spc="-1" strike="noStrike">
                <a:solidFill>
                  <a:srgbClr val="000000"/>
                </a:solidFill>
                <a:latin typeface="Arial"/>
              </a:rPr>
              <a:t>rapid prototyping to design products on a computer and then produce rough models to show potential </a:t>
            </a:r>
            <a:r>
              <a:rPr b="0" lang="en-US" sz="1200" spc="-1" strike="noStrike">
                <a:solidFill>
                  <a:srgbClr val="000000"/>
                </a:solidFill>
                <a:latin typeface="Arial"/>
              </a:rPr>
              <a:t>consumers for their reactions. After receiving this information, researchers measure product dimensions by having consumers respond to questions like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mmunicability and believability—“Are the benefits clear to you and believable?” If the scores are low, the concept must be refined or rev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eed level—“Do you see this product solving a problem or filling a need for you?” The stronger the need, the higher the expected consumer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ap level—“Do other products currently meet this need and satisfy you?” The greater the gap, the higher the expected consumer interest. Marketers can multiply the need level by the gap Purchase intention—“Would you (definitely, probably, probably not, definitely not) buy the product?” Consumers who answered the first three questions positively should answer “Definitely”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erceived value—“Is the price reasonable in relationship to value?” The higher the perceived value, the higher is expected consumer inter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93760" y="703440"/>
            <a:ext cx="4689360" cy="3517560"/>
          </a:xfrm>
          <a:prstGeom prst="rect">
            <a:avLst/>
          </a:prstGeom>
          <a:ln w="0">
            <a:noFill/>
          </a:ln>
        </p:spPr>
      </p:sp>
      <p:sp>
        <p:nvSpPr>
          <p:cNvPr id="79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eferences for alternative product concepts can be measured with conjoint analysis, a method for deriving the utility values that consumers attach to varying levels of a product’s attributes. Conjoint analysis has become one of the most popular concept-development and testing tools. For example, Marriott used it to design its Courtyard hotel concept. With conjoint analysis, respondents see different hypothetical offers formed by combining varying levels of the attributes, then rank the various offers. Management can identify the most appealing offer and its estimated market share and profit. In a classic illustration, academic research pioneers Green and Wind used this approach in connection with developing a new spot removing, carpet-cleaning agent for home use. Suppose the new-product marketer is considering five design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ree package designs (A, B, C – as shown in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ree brand names (K2R, Glory, Biss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ree prices ($1.19, $1.39, $1.5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ossible Good Housekeeping seal (yes,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ossible money-back guarantee (yes, no)</a:t>
            </a:r>
            <a:endParaRPr b="0" lang="en-US" sz="1200" spc="-1" strike="noStrike">
              <a:solidFill>
                <a:srgbClr val="000000"/>
              </a:solidFill>
              <a:latin typeface="Arial"/>
            </a:endParaRPr>
          </a:p>
        </p:txBody>
      </p:sp>
      <p:sp>
        <p:nvSpPr>
          <p:cNvPr id="793"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F522-6958-496E-9265-24629192B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93760" y="703440"/>
            <a:ext cx="4689360" cy="3517560"/>
          </a:xfrm>
          <a:prstGeom prst="rect">
            <a:avLst/>
          </a:prstGeom>
          <a:ln w="0">
            <a:noFill/>
          </a:ln>
        </p:spPr>
      </p:sp>
      <p:sp>
        <p:nvSpPr>
          <p:cNvPr id="79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researcher can form 108 possible product concepts, it would be too much to ask consumers to rank them all from most to least preferred. A sample of, say, 18 contrasting product concepts is feasible. The marketer now uses a statistical program to derive the consumer’s utility functions for each of the five attributes as shown in Figure 20.5.Utility ranges between zero and one; the higher the utility, the stronger the consumer’s preference for that level of the attribute. Looking at packaging, package B is the most favored, followed by C and then A (A hardly has any utility). The preferred names are Bissell, K2R, and Glory, in that order. The consumer’s utility varies inversely with price. A Good Housekeeping seal is preferred, but it does not add that much utility and may not be worth the effort to obtain it. A money-back guarantee is strongly preferred. The consumer’s most desired offer is package design B, brand name Bissell, priced at $1.19, with a Good Housekeeping seal and a money-back guarantee. We can also determine the relative importance of each attribute to this consumer—the difference between the highest and lowest utility level for that attribute. The greater the difference, the more important the attribute. Clearly, this consumer sees price and package design as the most important attributes, followed by money-back guarantee, brand name, and a Good Housekeeping seal.</a:t>
            </a:r>
            <a:endParaRPr b="0" lang="en-US" sz="1200" spc="-1" strike="noStrike">
              <a:solidFill>
                <a:srgbClr val="000000"/>
              </a:solidFill>
              <a:latin typeface="Arial"/>
            </a:endParaRPr>
          </a:p>
        </p:txBody>
      </p:sp>
      <p:sp>
        <p:nvSpPr>
          <p:cNvPr id="796"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B7E6-BCC3-460C-94EF-0F8167B8D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93760" y="703440"/>
            <a:ext cx="4689360" cy="3517560"/>
          </a:xfrm>
          <a:prstGeom prst="rect">
            <a:avLst/>
          </a:prstGeom>
          <a:ln w="0">
            <a:noFill/>
          </a:ln>
        </p:spPr>
      </p:sp>
      <p:sp>
        <p:nvSpPr>
          <p:cNvPr id="79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estimated sales are the sum of estimated first-time sales, replacement sales, and repeat sales. Sales-estimation methods depend on whether the product is purchased once (such as an engagement ring or retirement home), infrequently, or often. For onetime products, sales rise at the beginning, peak, and approach zero as the number of potential buyers is exhausted (as shown  in Figure 20.6a). If new buyers keep entering the market, the curve will not go down to z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equently purchased products—such as automobiles, toasters, and industrial equipment - exhibit replacement cycles dictated by physical wear or obsolescence associated with changing styles, features, and performance. Sales forecasting for this product category calls for estimating first-time sales and replacement sales separately (as shown in Figure 20.6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purchased products, such as consumer and industrial nondurables, have product life-cycle sales resembling Figure 20.6c. The number of first-time buyers initially increases and then decreases as fewer buyers are left (assuming a fixed population). Repeat purchases occur soon, providing the product satisfies some buyers. The sales curve eventually falls to a plateau representing a level of steady repeat-purchase volume; by this time, the product is no longer a new product. </a:t>
            </a:r>
            <a:endParaRPr b="0" lang="en-US" sz="1200" spc="-1" strike="noStrike">
              <a:solidFill>
                <a:srgbClr val="000000"/>
              </a:solidFill>
              <a:latin typeface="Arial"/>
            </a:endParaRPr>
          </a:p>
        </p:txBody>
      </p:sp>
      <p:sp>
        <p:nvSpPr>
          <p:cNvPr id="799"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813D1-CEFE-4435-80BB-B5D2C094E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93760" y="703440"/>
            <a:ext cx="4689360" cy="3517560"/>
          </a:xfrm>
          <a:prstGeom prst="rect">
            <a:avLst/>
          </a:prstGeom>
          <a:ln w="0">
            <a:noFill/>
          </a:ln>
        </p:spPr>
      </p:sp>
      <p:sp>
        <p:nvSpPr>
          <p:cNvPr id="801" name="PlaceHolder 2"/>
          <p:cNvSpPr>
            <a:spLocks noGrp="1"/>
          </p:cNvSpPr>
          <p:nvPr>
            <p:ph type="body"/>
          </p:nvPr>
        </p:nvSpPr>
        <p:spPr>
          <a:xfrm>
            <a:off x="707760" y="4455720"/>
            <a:ext cx="5661000" cy="47307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are estimated by the R&amp;D, manufacturing, marketing, and finance departments. Table 20.3 illustrates a five-year projection of sales, costs, and profits for the instant breakfast drink. Row 1 shows projected sales revenue over the five-year period. The company expects to sell $11,889,000 (approximately 500,000 cases at $24 per case) in the first year. Row 2 shows the cost of goods sold, which hovers around 33 percent of sales revenue. We find this cost by estimating the average cost of labor, ingredients, and packaging per case. Row 3 shows the expected gross margin, the difference between sales revenue and cost of goods sold. Row 4 shows anticipated development costs of $3.5 million, including product-development cost, marketing research costs, and manufacturing development costs. Row 5 shows the estimated marketing costs over the five-year period. Row 6 shows the allocated overhead to this new product to cover its share of the cost of executive salaries, heat, light, and so on. Row 7, the gross contribution, is gross margin minus the preceding three costs. Row 8, supplementary contribution, lists any change in income to other company products caused by the new product introduction. Row 9 shows net contribution, which in this case is the same as gross contribution. Row 10 shows discounted contribution. Row 11 shows the cumulative discounted cash flow, the accumulation of the annual contributions in row 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oints are of central interest. First is the maximum investment exposure, the highest loss the project can create. The company will be in a maximum loss position of $4,613,000 in year 1. The second is the payback period, the time when the company recovers all its investment, including the built-in return of 15 percent. The payback period here is about three and a half years.</a:t>
            </a:r>
            <a:endParaRPr b="0" lang="en-US" sz="1200" spc="-1" strike="noStrike">
              <a:solidFill>
                <a:srgbClr val="000000"/>
              </a:solidFill>
              <a:latin typeface="Arial"/>
            </a:endParaRPr>
          </a:p>
        </p:txBody>
      </p:sp>
      <p:sp>
        <p:nvSpPr>
          <p:cNvPr id="802"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5802-8241-4A35-879D-286A938D3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94E4-D5B3-4DCD-BADD-71ABB1593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4" name="PlaceHolder 1"/>
          <p:cNvSpPr>
            <a:spLocks noGrp="1"/>
          </p:cNvSpPr>
          <p:nvPr>
            <p:ph type="sldImg"/>
          </p:nvPr>
        </p:nvSpPr>
        <p:spPr>
          <a:xfrm>
            <a:off x="1193760" y="703440"/>
            <a:ext cx="4689360" cy="3517560"/>
          </a:xfrm>
          <a:prstGeom prst="rect">
            <a:avLst/>
          </a:prstGeom>
          <a:ln w="0">
            <a:noFill/>
          </a:ln>
        </p:spPr>
      </p:sp>
      <p:sp>
        <p:nvSpPr>
          <p:cNvPr id="80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R&amp;D department is to find a prototype that embodies the key attributes in the product-concept statement, performs safely under normal use and conditions, and can be produced within budgeted manufacturing costs. When the prototypes are ready, they must be put through rigorous functional and customer tests before they enter the marketplace. Alpha testing tests the product within the firm to see how it performs in different applications. After refining the prototype further, the company moves to beta testing with customers</a:t>
            </a:r>
            <a:r>
              <a:rPr b="0" i="1" lang="en-US" sz="1200" spc="-1" strike="noStrike">
                <a:solidFill>
                  <a:srgbClr val="000000"/>
                </a:solidFill>
                <a:latin typeface="Arial"/>
              </a:rPr>
              <a:t>. </a:t>
            </a:r>
            <a:r>
              <a:rPr b="0" lang="en-US" sz="1200" spc="-1" strike="noStrike">
                <a:solidFill>
                  <a:srgbClr val="000000"/>
                </a:solidFill>
                <a:latin typeface="Arial"/>
              </a:rPr>
              <a:t>After management is satisfied with functional and psychological performance, the product is ready to be branded with a name, logo, and packaging and go into a market tes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2A330-0BDF-4909-90A7-75CF480D9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93760" y="703440"/>
            <a:ext cx="4689360" cy="3517560"/>
          </a:xfrm>
          <a:prstGeom prst="rect">
            <a:avLst/>
          </a:prstGeom>
          <a:ln w="0">
            <a:noFill/>
          </a:ln>
        </p:spPr>
      </p:sp>
      <p:sp>
        <p:nvSpPr>
          <p:cNvPr id="80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four major methods of consumer-goods market testing, from least to most costly.</a:t>
            </a:r>
            <a:r>
              <a:rPr b="1"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ales-wave research, consumers who initially try the product at no cost are reoffered it, or a competitor’s product, at slightly reduced prices. The offer may be made as many as five times (sales waves), while the company notes how many customers select it again and their reported level of satisf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simulated test marketing, qualified shoppers are asked about brand familiarity and preferences in a specific product category and attend a brief screening of TV commercials or print ads. One ad advertises the new product but is not singled out for attention. Consumers are invited into a store where they may buy any items. The company notes how many consumers buy the new brand and competing brands. This provides a measure of the ad’s relative effectiveness against competing ads in stimulating t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ntrolled test marketing, the company with the new product specifies the number of stores and geographic locations it wants to test. A research firm delivers the product to a panel of participating stores and controls shelf position, pricing, and number of facings, displays, and point-of-purchase promotions. Electronic scanners measure sales at check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markets are discussed further on the next slid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F8C2-93AE-4677-B9EB-D9C7D1076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93760" y="703440"/>
            <a:ext cx="4689360" cy="3517560"/>
          </a:xfrm>
          <a:prstGeom prst="rect">
            <a:avLst/>
          </a:prstGeom>
          <a:ln w="0">
            <a:noFill/>
          </a:ln>
        </p:spPr>
      </p:sp>
      <p:sp>
        <p:nvSpPr>
          <p:cNvPr id="81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ltimate way to test a new consumer product is to put it into full-blown test markets. The company chooses a few representative cities and puts on a full marketing communications campaign, and the sales force tries to sell the trade on carrying the product and giving it good shelf exposure. Test marketing also measures the impact of alternative marketing plans by implementing them in different cities. A full-scale test can cost over $1 million, depending on the number of test cities, the test duration, and the amount of data the company wants to collect. Management faces several decisions listed in the slid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9964-1FD0-4A79-8594-1C78CD255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93760" y="703440"/>
            <a:ext cx="4689360" cy="3517560"/>
          </a:xfrm>
          <a:prstGeom prst="rect">
            <a:avLst/>
          </a:prstGeom>
          <a:ln w="0">
            <a:noFill/>
          </a:ln>
        </p:spPr>
      </p:sp>
      <p:sp>
        <p:nvSpPr>
          <p:cNvPr id="81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ization incurs the company’s highest costs to date. The firm will need to contract for manufacture or build or rent a full-scale manufacturing facility. To introduce a major new consumer packaged good into the national market can cost $25 million to $100 million in advertising, promotion, and other communications in the first year. For new food products, marketing expenditures typically represent 57 percent of first-year sales. Most new-product campaigns rely on a sequenced mix of market communication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a company has almost completed the development work on its new product and learns a competitor is nearing the end of its development work. The company must decide whether to enter first, parallel, or late. First entry firms enjoy a first mover advantage. Parallel entry is timed with the competitors’ entry. Late entry can benefit from seeing how the competition far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3D5B8-3E4A-4FF4-B8A0-0BE2B9258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93760" y="703440"/>
            <a:ext cx="4689360" cy="3517560"/>
          </a:xfrm>
          <a:prstGeom prst="rect">
            <a:avLst/>
          </a:prstGeom>
          <a:ln w="0">
            <a:noFill/>
          </a:ln>
        </p:spPr>
      </p:sp>
      <p:sp>
        <p:nvSpPr>
          <p:cNvPr id="81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option decision is that made when a consumer decides to become a user of a produc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5C4C0-3626-48E8-939A-12C99AA83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93760" y="703440"/>
            <a:ext cx="4689360" cy="3517560"/>
          </a:xfrm>
          <a:prstGeom prst="rect">
            <a:avLst/>
          </a:prstGeom>
          <a:ln w="0">
            <a:noFill/>
          </a:ln>
        </p:spPr>
      </p:sp>
      <p:sp>
        <p:nvSpPr>
          <p:cNvPr id="739"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8E3C-EA02-4D48-BFDD-EE48C0353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9" name="PlaceHolder 1"/>
          <p:cNvSpPr>
            <a:spLocks noGrp="1"/>
          </p:cNvSpPr>
          <p:nvPr>
            <p:ph type="sldImg"/>
          </p:nvPr>
        </p:nvSpPr>
        <p:spPr>
          <a:xfrm>
            <a:off x="1193760" y="703440"/>
            <a:ext cx="4689360" cy="3517560"/>
          </a:xfrm>
          <a:prstGeom prst="rect">
            <a:avLst/>
          </a:prstGeom>
          <a:ln w="0">
            <a:noFill/>
          </a:ln>
        </p:spPr>
      </p:sp>
      <p:sp>
        <p:nvSpPr>
          <p:cNvPr id="82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novation is any good, service, or idea that someone perceives as new, no matter how long its history. The innovation diffusion process is “the spread of a new idea from its source of invention or creation to its ultimate users or adopters.” In other words, it is the process over which consumers adopt innovations. The steps include awareness, interest, evaluation, trial, and adoption.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93760" y="703440"/>
            <a:ext cx="4689360" cy="3517560"/>
          </a:xfrm>
          <a:prstGeom prst="rect">
            <a:avLst/>
          </a:prstGeom>
          <a:ln w="0">
            <a:noFill/>
          </a:ln>
        </p:spPr>
      </p:sp>
      <p:sp>
        <p:nvSpPr>
          <p:cNvPr id="82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level of innovativeness as “the degree to which an individual is relatively earlier in adopting new ideas than the other members of his social system.” Some people are the first to adopt new clothing fashions or new appliances; some doctors are the first to prescribe new medic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opter categories are shown in Figure 20.7. After a slow start, an increasing number of people adopt the innovation, the number reaches a peak, and then it diminishes as fewer nonadopters rem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novators are technology enthusiasts; they are venturesome and enjoy tinkering with new products and mastering their intricac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rly adopters are opinion leaders who carefully search for new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ight give them a dramatic competitive advan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rly majority are deliberate pragmatists who adopt the new technology w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enefits are proven and a lot of adoption has already taken pl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 majority are skeptical conservatives who are risk averse, technology shy, and price 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ggards are tradition-bound and resist the innovation until the status quo is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er defensible.</a:t>
            </a:r>
            <a:endParaRPr b="0" lang="en-US" sz="1200" spc="-1" strike="noStrike">
              <a:solidFill>
                <a:srgbClr val="000000"/>
              </a:solidFill>
              <a:latin typeface="Arial"/>
            </a:endParaRPr>
          </a:p>
        </p:txBody>
      </p:sp>
      <p:sp>
        <p:nvSpPr>
          <p:cNvPr id="823"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FBC9-CF18-49EB-8649-31712CD96E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A08E9-D541-4F2D-9291-A632E94B8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93760" y="703440"/>
            <a:ext cx="4689360" cy="3517560"/>
          </a:xfrm>
          <a:prstGeom prst="rect">
            <a:avLst/>
          </a:prstGeom>
          <a:ln w="0">
            <a:noFill/>
          </a:ln>
        </p:spPr>
      </p:sp>
      <p:sp>
        <p:nvSpPr>
          <p:cNvPr id="82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ive characteristics that explain the adoption of innovations. The first characteristic is relative advantage—the degree to which the innovation appears superior to existing products. The second is compatibility—the degree to which the innovation matches the values and experiences of the individuals. Third is complexity—the degree to which the innovation is difficult to understand or use. Fourth is divisibility—the degree to which the innovation can be tried on a limited basis. Fifth is communicability—the degree to which the benefits of use are observable or describable to others.  Other characteristics that influence the rate of adoption are cost, risk and uncertainty, scientific credibility, and social approval. The new-product marketer must research all these factors and give the key ones maximum attention in designing the product and marketing progr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93760" y="703440"/>
            <a:ext cx="4689360" cy="3517560"/>
          </a:xfrm>
          <a:prstGeom prst="rect">
            <a:avLst/>
          </a:prstGeom>
          <a:ln w="0">
            <a:noFill/>
          </a:ln>
        </p:spPr>
      </p:sp>
      <p:sp>
        <p:nvSpPr>
          <p:cNvPr id="82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vered several questions with this chapter. </a:t>
            </a:r>
            <a:endParaRPr b="0" lang="en-US" sz="1200" spc="-1" strike="noStrike">
              <a:solidFill>
                <a:srgbClr val="000000"/>
              </a:solidFill>
              <a:latin typeface="Arial"/>
            </a:endParaRPr>
          </a:p>
        </p:txBody>
      </p:sp>
      <p:sp>
        <p:nvSpPr>
          <p:cNvPr id="829"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33AF1-2BE2-41A1-AA65-5CB70A792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7E681-83B7-415B-8A75-8CF99F7CD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93760" y="703440"/>
            <a:ext cx="4689360" cy="3517560"/>
          </a:xfrm>
          <a:prstGeom prst="rect">
            <a:avLst/>
          </a:prstGeom>
          <a:ln w="0">
            <a:noFill/>
          </a:ln>
        </p:spPr>
      </p:sp>
      <p:sp>
        <p:nvSpPr>
          <p:cNvPr id="74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range from new-to-the-world products that create an entirely new market to minor improvements or revisions of existing products. Most new-product activity is devoted to improving existing products. Some of the most successful recent new consumer products have been brand extensions: Tide Total Care, Gillette Venus Embrace, Bounce Extra Soft, Always Infinity, and Secret Flawless deodorant. At Sony, modifications of established products account for over 80 percent of new-product activity. It is increasingly difficult to identify blockbuster products that will transform a market, but continuous innovation can force competitors to play catch-up and also broaden the brand mean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93760" y="703440"/>
            <a:ext cx="4689360" cy="3517560"/>
          </a:xfrm>
          <a:prstGeom prst="rect">
            <a:avLst/>
          </a:prstGeom>
          <a:ln w="0">
            <a:noFill/>
          </a:ln>
        </p:spPr>
      </p:sp>
      <p:sp>
        <p:nvSpPr>
          <p:cNvPr id="74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Nintendo helped create the $30 billion global video game business, its U.S. sales had shrunk in half by 2006. CEO Satoru Iwata and game designer Shigeru Miyamoto decided to address two troubling trends in the industry: As players got older and acquired families and careers, they played less often, and as video game consoles got more powerful, they grew more expensive. Nintendo’s solution? Redesign the game controllers and the way they interacted with the consoles. Bucking industry trends, Nintendo chose a cheaper, lower-power chip with fewer graphics capabilities, creating a totally different style of play based on physical gestures. A sleek white design and a new motion-sensitive wireless controller made it much more engaging and interactive. Nintendo’s decision to embrace outside software developers meant a number of titles quickly became available. Thus Wii was born.</a:t>
            </a:r>
            <a:endParaRPr b="0" lang="en-US" sz="1200" spc="-1" strike="noStrike">
              <a:solidFill>
                <a:srgbClr val="000000"/>
              </a:solidFill>
              <a:latin typeface="Arial"/>
            </a:endParaRPr>
          </a:p>
        </p:txBody>
      </p:sp>
      <p:sp>
        <p:nvSpPr>
          <p:cNvPr id="745"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1846-A54A-4032-9F79-2240B7716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02AA-2619-43B8-8808-B7E6A7084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93760" y="703440"/>
            <a:ext cx="4689360" cy="3517560"/>
          </a:xfrm>
          <a:prstGeom prst="rect">
            <a:avLst/>
          </a:prstGeom>
          <a:ln w="0">
            <a:noFill/>
          </a:ln>
        </p:spPr>
      </p:sp>
      <p:sp>
        <p:nvSpPr>
          <p:cNvPr id="74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continue to fail at estimated rates as high as 50 percent or even 95 percent in the United States and 90 percent in Europe. They fail for many reasons: ignored or misinterpreted market research; overestimates of market size; high development costs; poor design or ineffectual performance; incorrect positioning, advertising, or price; insufficient distribution support; competitors who fight back hard; and inadequate ROI or payback. Some additional drawbacks are listed in the slid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93760" y="703440"/>
            <a:ext cx="4689360" cy="3517560"/>
          </a:xfrm>
          <a:prstGeom prst="rect">
            <a:avLst/>
          </a:prstGeom>
          <a:ln w="0">
            <a:noFill/>
          </a:ln>
        </p:spPr>
      </p:sp>
      <p:sp>
        <p:nvSpPr>
          <p:cNvPr id="75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20.1 shows how a company might calculate the cost of new-product development. The new-products manager at a large consumer packaged-goods company reviewed 64 ideas. Sixteen passed the screening stage and cost $1,000 each to review at this point. Half those, or eight, survived the concept-testing stage, at a cost of $20,000 each. Half these, or four, survived the product-development stage, at a cost of $200,000 each. Two did well in the test market, costing $500,000 each. When they were launched, at a cost of $5 million each, one was highly successful. Thus, this one successful idea cost the company $5,721,000 to develop, while 63 others fell by the wayside for a total development cost of $13,984,000.Unless the company can improve its pass ratios and reduce costs at each stage, it will need to budget nearly $14 million for each successful new idea it hopes to find.</a:t>
            </a:r>
            <a:endParaRPr b="0" lang="en-US" sz="1200" spc="-1" strike="noStrike">
              <a:solidFill>
                <a:srgbClr val="000000"/>
              </a:solidFill>
              <a:latin typeface="Arial"/>
            </a:endParaRPr>
          </a:p>
        </p:txBody>
      </p:sp>
      <p:sp>
        <p:nvSpPr>
          <p:cNvPr id="751"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E6F0-44C9-42AF-922A-FD9DDDDE3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995D-EAEE-419D-83A3-47F884886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93760" y="703440"/>
            <a:ext cx="4689360" cy="3517560"/>
          </a:xfrm>
          <a:prstGeom prst="rect">
            <a:avLst/>
          </a:prstGeom>
          <a:ln w="0">
            <a:noFill/>
          </a:ln>
        </p:spPr>
      </p:sp>
      <p:sp>
        <p:nvSpPr>
          <p:cNvPr id="75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have assigned new-product development to venture teams. Venture teams are cross-functional groups charged with developing a specific product or business. These “intrapreneurs” are relieved of other duties and given a budget, time frame, and “skunkworks” setting. Skunkworks are informal workplaces, sometimes garages, where intrapreneurial teams attempt to develop new products. Cross-functional teams can collaborate and use concurrent new-product development to push new products to marke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011FE-1FA9-408F-964D-FBB20B384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93760" y="703440"/>
            <a:ext cx="4689360" cy="3517560"/>
          </a:xfrm>
          <a:prstGeom prst="rect">
            <a:avLst/>
          </a:prstGeom>
          <a:ln w="0">
            <a:noFill/>
          </a:ln>
        </p:spPr>
      </p:sp>
      <p:sp>
        <p:nvSpPr>
          <p:cNvPr id="75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affing for venture teams, organizations should keep these criteria in mind. There’s no right or wrong make up of the team but all of these concerns will influence how the team func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20-</a:t>
            </a:r>
            <a:fld id="{FE00E8EC-812B-44DA-8B2B-8C4EF5066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8A4D14F6-B1E1-458A-B896-B0C8AFC031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41984C93-C21A-4CF4-8E63-CB80F1B0AB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2C601549-3B9E-4878-9ED4-88D9149A79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20" name="PlaceHolder 3"/>
          <p:cNvSpPr>
            <a:spLocks noGrp="1"/>
          </p:cNvSpPr>
          <p:nvPr>
            <p:ph type="ftr" idx="1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20-</a:t>
            </a:r>
            <a:fld id="{A0B08927-F9A6-4984-9255-193C1BE969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63" name="PlaceHolder 3"/>
          <p:cNvSpPr>
            <a:spLocks noGrp="1"/>
          </p:cNvSpPr>
          <p:nvPr>
            <p:ph type="ftr" idx="1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20-</a:t>
            </a:r>
            <a:fld id="{DEBB759F-A41E-4895-9FC4-21ED393F95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0-</a:t>
            </a:r>
            <a:fld id="{A99E9767-76BF-4C3B-9A15-58FF6C423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9A43044E-D130-4617-B8ED-9792D812E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0-</a:t>
            </a:r>
            <a:fld id="{B98D5124-71B3-41CA-86CA-B20E750E9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C2B006AF-1F90-4B32-9CA5-314F4C9084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0-</a:t>
            </a:r>
            <a:fld id="{ECBDB632-CA95-4FE3-A7C0-77C2ACE39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0-</a:t>
            </a:r>
            <a:fld id="{09407E39-7634-455C-8D1E-BF9FE4F8D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DD46C8A6-7027-4698-8C42-857713623C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73.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7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7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7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4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20</a:t>
            </a:r>
            <a:br>
              <a:rPr sz="4000"/>
            </a:br>
            <a:r>
              <a:rPr b="1" lang="en-US" sz="4000" spc="-1" strike="noStrike">
                <a:solidFill>
                  <a:srgbClr val="000000"/>
                </a:solidFill>
                <a:latin typeface="Garamond"/>
              </a:rPr>
              <a:t>Introducing New Market Offerings</a:t>
            </a:r>
            <a:endParaRPr b="1" lang="en-US" sz="4000" spc="-1" strike="noStrike">
              <a:solidFill>
                <a:srgbClr val="000000"/>
              </a:solidFill>
              <a:latin typeface="Arial"/>
            </a:endParaRPr>
          </a:p>
        </p:txBody>
      </p:sp>
      <p:sp>
        <p:nvSpPr>
          <p:cNvPr id="608"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20.1 New-Product Development Decision Process</a:t>
            </a:r>
            <a:endParaRPr b="1" lang="en-US" sz="3600" spc="-1" strike="noStrike">
              <a:solidFill>
                <a:srgbClr val="000000"/>
              </a:solidFill>
              <a:latin typeface="Arial"/>
            </a:endParaRPr>
          </a:p>
        </p:txBody>
      </p:sp>
      <p:sp>
        <p:nvSpPr>
          <p:cNvPr id="63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0B06AE2C-ED63-4385-B39E-76DE4A896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39" name="Picture 2" descr=""/>
          <p:cNvPicPr/>
          <p:nvPr/>
        </p:nvPicPr>
        <p:blipFill>
          <a:blip r:embed="rId1"/>
          <a:stretch/>
        </p:blipFill>
        <p:spPr>
          <a:xfrm>
            <a:off x="609480" y="1828800"/>
            <a:ext cx="7128000" cy="36576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02353AF8-ED89-46B1-AF1E-0A957FEBC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ays to Find Great New Ideas </a:t>
            </a:r>
            <a:endParaRPr b="1" lang="en-US" sz="3600" spc="-1" strike="noStrike">
              <a:solidFill>
                <a:srgbClr val="000000"/>
              </a:solidFill>
              <a:latin typeface="Arial"/>
            </a:endParaRPr>
          </a:p>
        </p:txBody>
      </p:sp>
      <p:sp>
        <p:nvSpPr>
          <p:cNvPr id="642"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informal sessions with custom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time off for technical people to putter on pet projec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customer brainstorming a part of plant tou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 your custom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take “fly on the wall” research to customers</a:t>
            </a: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E3B90630-8EA8-4766-B56A-F6B6B667D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re Ways to Find Great Ideas</a:t>
            </a:r>
            <a:endParaRPr b="1" lang="en-US" sz="3600" spc="-1" strike="noStrike">
              <a:solidFill>
                <a:srgbClr val="000000"/>
              </a:solidFill>
              <a:latin typeface="Arial"/>
            </a:endParaRPr>
          </a:p>
        </p:txBody>
      </p:sp>
      <p:sp>
        <p:nvSpPr>
          <p:cNvPr id="645"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iterative rounds with custom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up a keyword search to scan trade publica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 trade shows as intelligence miss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employees visit supplier lab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up an idea vault</a:t>
            </a: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7445F2F1-AC9B-437A-9578-3B24C14F3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rawing Ideas from Customers</a:t>
            </a:r>
            <a:endParaRPr b="1" lang="en-US" sz="3600" spc="-1" strike="noStrike">
              <a:solidFill>
                <a:srgbClr val="000000"/>
              </a:solidFill>
              <a:latin typeface="Arial"/>
            </a:endParaRPr>
          </a:p>
        </p:txBody>
      </p:sp>
      <p:sp>
        <p:nvSpPr>
          <p:cNvPr id="648"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 customers using produc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customers about problems with produc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customers about their dream produc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customer advisory board or a brand community of enthusiasts to discuss product</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mand-First Innovation and Growth (DIG) Framework</a:t>
            </a:r>
            <a:endParaRPr b="1" lang="en-US" sz="3600" spc="-1" strike="noStrike">
              <a:solidFill>
                <a:srgbClr val="000000"/>
              </a:solidFill>
              <a:latin typeface="Arial"/>
            </a:endParaRPr>
          </a:p>
        </p:txBody>
      </p:sp>
      <p:sp>
        <p:nvSpPr>
          <p:cNvPr id="65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2065D45E-21FC-4BBB-AB85-42E14B417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Rounded Rectangle 4"/>
          <p:cNvSpPr/>
          <p:nvPr/>
        </p:nvSpPr>
        <p:spPr>
          <a:xfrm>
            <a:off x="2743200" y="2209680"/>
            <a:ext cx="350532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Landscape</a:t>
            </a:r>
            <a:endParaRPr b="0" lang="en-US" sz="2800" spc="-1" strike="noStrike">
              <a:solidFill>
                <a:srgbClr val="000000"/>
              </a:solidFill>
              <a:latin typeface="Arial"/>
            </a:endParaRPr>
          </a:p>
        </p:txBody>
      </p:sp>
      <p:sp>
        <p:nvSpPr>
          <p:cNvPr id="652" name="Rounded Rectangle 5"/>
          <p:cNvSpPr/>
          <p:nvPr/>
        </p:nvSpPr>
        <p:spPr>
          <a:xfrm>
            <a:off x="2743200" y="3276720"/>
            <a:ext cx="350532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rtunity Space</a:t>
            </a:r>
            <a:endParaRPr b="0" lang="en-US" sz="2800" spc="-1" strike="noStrike">
              <a:solidFill>
                <a:srgbClr val="000000"/>
              </a:solidFill>
              <a:latin typeface="Arial"/>
            </a:endParaRPr>
          </a:p>
        </p:txBody>
      </p:sp>
      <p:sp>
        <p:nvSpPr>
          <p:cNvPr id="653" name="Rounded Rectangle 6"/>
          <p:cNvSpPr/>
          <p:nvPr/>
        </p:nvSpPr>
        <p:spPr>
          <a:xfrm>
            <a:off x="2743200" y="4343400"/>
            <a:ext cx="3505320" cy="9144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Blueprint</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484BE3D4-3BBA-4960-88F5-831063B63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a Generation: </a:t>
            </a:r>
            <a:br>
              <a:rPr sz="3200"/>
            </a:br>
            <a:r>
              <a:rPr b="1" lang="en-US" sz="3200" spc="-1" strike="noStrike">
                <a:solidFill>
                  <a:srgbClr val="000000"/>
                </a:solidFill>
                <a:latin typeface="Arial"/>
              </a:rPr>
              <a:t>Creativity Techniques</a:t>
            </a:r>
            <a:endParaRPr b="1" lang="en-US" sz="3200" spc="-1" strike="noStrike">
              <a:solidFill>
                <a:srgbClr val="000000"/>
              </a:solidFill>
              <a:latin typeface="Arial"/>
            </a:endParaRPr>
          </a:p>
        </p:txBody>
      </p:sp>
      <p:sp>
        <p:nvSpPr>
          <p:cNvPr id="65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ibute lis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d relationship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phological analysi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rse assumption analysi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ntex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d mapping</a:t>
            </a:r>
            <a:endParaRPr b="0" lang="en-US" sz="2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56C6C691-6218-4A8D-A5C3-20EECADA0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teral Mapping</a:t>
            </a:r>
            <a:endParaRPr b="1" lang="en-US" sz="3600" spc="-1" strike="noStrike">
              <a:solidFill>
                <a:srgbClr val="000000"/>
              </a:solidFill>
              <a:latin typeface="Arial"/>
            </a:endParaRPr>
          </a:p>
        </p:txBody>
      </p:sp>
      <p:sp>
        <p:nvSpPr>
          <p:cNvPr id="659"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s stations + foo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feteria + Interne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eal + snack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dy + to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 + portable</a:t>
            </a:r>
            <a:endParaRPr b="0" lang="en-US" sz="2800" spc="-1" strike="noStrike">
              <a:solidFill>
                <a:srgbClr val="000000"/>
              </a:solidFill>
              <a:latin typeface="Arial"/>
            </a:endParaRPr>
          </a:p>
        </p:txBody>
      </p:sp>
      <p:pic>
        <p:nvPicPr>
          <p:cNvPr id="660" name="Picture 2" descr=""/>
          <p:cNvPicPr/>
          <p:nvPr/>
        </p:nvPicPr>
        <p:blipFill>
          <a:blip r:embed="rId1"/>
          <a:stretch/>
        </p:blipFill>
        <p:spPr>
          <a:xfrm>
            <a:off x="4800600" y="1143000"/>
            <a:ext cx="2600280" cy="386244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20.2 Product Idea </a:t>
            </a:r>
            <a:br>
              <a:rPr sz="3600"/>
            </a:br>
            <a:r>
              <a:rPr b="1" lang="en-US" sz="3600" spc="-1" strike="noStrike">
                <a:solidFill>
                  <a:srgbClr val="000000"/>
                </a:solidFill>
                <a:latin typeface="Arial"/>
              </a:rPr>
              <a:t>Rating Device</a:t>
            </a:r>
            <a:endParaRPr b="1" lang="en-US" sz="3600" spc="-1" strike="noStrike">
              <a:solidFill>
                <a:srgbClr val="000000"/>
              </a:solidFill>
              <a:latin typeface="Arial"/>
            </a:endParaRPr>
          </a:p>
        </p:txBody>
      </p:sp>
      <p:sp>
        <p:nvSpPr>
          <p:cNvPr id="66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E2A4B3F3-EA8A-44C5-BC0C-AEB0EBF62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63" name="Picture 2" descr=""/>
          <p:cNvPicPr/>
          <p:nvPr/>
        </p:nvPicPr>
        <p:blipFill>
          <a:blip r:embed="rId1"/>
          <a:stretch/>
        </p:blipFill>
        <p:spPr>
          <a:xfrm>
            <a:off x="452520" y="2133720"/>
            <a:ext cx="7880400" cy="271440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20.2 Forces Fighting </a:t>
            </a:r>
            <a:br>
              <a:rPr sz="3600"/>
            </a:br>
            <a:r>
              <a:rPr b="1" lang="en-US" sz="3600" spc="-1" strike="noStrike">
                <a:solidFill>
                  <a:srgbClr val="000000"/>
                </a:solidFill>
                <a:latin typeface="Arial"/>
              </a:rPr>
              <a:t>New Ideas</a:t>
            </a:r>
            <a:endParaRPr b="1" lang="en-US" sz="3600" spc="-1" strike="noStrike">
              <a:solidFill>
                <a:srgbClr val="000000"/>
              </a:solidFill>
              <a:latin typeface="Arial"/>
            </a:endParaRPr>
          </a:p>
        </p:txBody>
      </p:sp>
      <p:sp>
        <p:nvSpPr>
          <p:cNvPr id="665"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83B56FDE-954D-49C1-A008-DF29BB84F0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66" name="Picture 2" descr=""/>
          <p:cNvPicPr/>
          <p:nvPr/>
        </p:nvPicPr>
        <p:blipFill>
          <a:blip r:embed="rId1"/>
          <a:stretch/>
        </p:blipFill>
        <p:spPr>
          <a:xfrm>
            <a:off x="3200400" y="914400"/>
            <a:ext cx="1895400" cy="1838160"/>
          </a:xfrm>
          <a:prstGeom prst="rect">
            <a:avLst/>
          </a:prstGeom>
          <a:ln w="0">
            <a:noFill/>
          </a:ln>
        </p:spPr>
      </p:pic>
      <p:pic>
        <p:nvPicPr>
          <p:cNvPr id="667" name="Picture 3" descr=""/>
          <p:cNvPicPr/>
          <p:nvPr/>
        </p:nvPicPr>
        <p:blipFill>
          <a:blip r:embed="rId2"/>
          <a:stretch/>
        </p:blipFill>
        <p:spPr>
          <a:xfrm>
            <a:off x="5562720" y="1371600"/>
            <a:ext cx="1857240" cy="1457280"/>
          </a:xfrm>
          <a:prstGeom prst="rect">
            <a:avLst/>
          </a:prstGeom>
          <a:ln w="0">
            <a:noFill/>
          </a:ln>
        </p:spPr>
      </p:pic>
      <p:pic>
        <p:nvPicPr>
          <p:cNvPr id="668" name="Picture 4" descr=""/>
          <p:cNvPicPr/>
          <p:nvPr/>
        </p:nvPicPr>
        <p:blipFill>
          <a:blip r:embed="rId3"/>
          <a:stretch/>
        </p:blipFill>
        <p:spPr>
          <a:xfrm>
            <a:off x="3276720" y="2971800"/>
            <a:ext cx="2009520" cy="1380960"/>
          </a:xfrm>
          <a:prstGeom prst="rect">
            <a:avLst/>
          </a:prstGeom>
          <a:ln w="0">
            <a:noFill/>
          </a:ln>
        </p:spPr>
      </p:pic>
      <p:pic>
        <p:nvPicPr>
          <p:cNvPr id="669" name="Picture 5" descr=""/>
          <p:cNvPicPr/>
          <p:nvPr/>
        </p:nvPicPr>
        <p:blipFill>
          <a:blip r:embed="rId4"/>
          <a:stretch/>
        </p:blipFill>
        <p:spPr>
          <a:xfrm>
            <a:off x="914400" y="2743200"/>
            <a:ext cx="2019240" cy="1362240"/>
          </a:xfrm>
          <a:prstGeom prst="rect">
            <a:avLst/>
          </a:prstGeom>
          <a:ln w="0">
            <a:noFill/>
          </a:ln>
        </p:spPr>
      </p:pic>
      <p:pic>
        <p:nvPicPr>
          <p:cNvPr id="670" name="Picture 6" descr=""/>
          <p:cNvPicPr/>
          <p:nvPr/>
        </p:nvPicPr>
        <p:blipFill>
          <a:blip r:embed="rId5"/>
          <a:stretch/>
        </p:blipFill>
        <p:spPr>
          <a:xfrm>
            <a:off x="5638680" y="3200400"/>
            <a:ext cx="1724040" cy="1295280"/>
          </a:xfrm>
          <a:prstGeom prst="rect">
            <a:avLst/>
          </a:prstGeom>
          <a:ln w="0">
            <a:noFill/>
          </a:ln>
        </p:spPr>
      </p:pic>
      <p:pic>
        <p:nvPicPr>
          <p:cNvPr id="671" name="Picture 7" descr=""/>
          <p:cNvPicPr/>
          <p:nvPr/>
        </p:nvPicPr>
        <p:blipFill>
          <a:blip r:embed="rId6"/>
          <a:stretch/>
        </p:blipFill>
        <p:spPr>
          <a:xfrm>
            <a:off x="380880" y="4419720"/>
            <a:ext cx="1486080" cy="1447560"/>
          </a:xfrm>
          <a:prstGeom prst="rect">
            <a:avLst/>
          </a:prstGeom>
          <a:ln w="0">
            <a:noFill/>
          </a:ln>
        </p:spPr>
      </p:pic>
      <p:pic>
        <p:nvPicPr>
          <p:cNvPr id="672" name="Picture 8" descr=""/>
          <p:cNvPicPr/>
          <p:nvPr/>
        </p:nvPicPr>
        <p:blipFill>
          <a:blip r:embed="rId7"/>
          <a:stretch/>
        </p:blipFill>
        <p:spPr>
          <a:xfrm>
            <a:off x="2438280" y="4572000"/>
            <a:ext cx="1457280" cy="1419120"/>
          </a:xfrm>
          <a:prstGeom prst="rect">
            <a:avLst/>
          </a:prstGeom>
          <a:ln w="0">
            <a:noFill/>
          </a:ln>
        </p:spPr>
      </p:pic>
      <p:pic>
        <p:nvPicPr>
          <p:cNvPr id="673" name="Picture 9" descr=""/>
          <p:cNvPicPr/>
          <p:nvPr/>
        </p:nvPicPr>
        <p:blipFill>
          <a:blip r:embed="rId8"/>
          <a:stretch/>
        </p:blipFill>
        <p:spPr>
          <a:xfrm>
            <a:off x="4267080" y="4572000"/>
            <a:ext cx="1791000" cy="1247760"/>
          </a:xfrm>
          <a:prstGeom prst="rect">
            <a:avLst/>
          </a:prstGeom>
          <a:ln w="0">
            <a:noFill/>
          </a:ln>
        </p:spPr>
      </p:pic>
      <p:pic>
        <p:nvPicPr>
          <p:cNvPr id="674" name="Picture 10" descr=""/>
          <p:cNvPicPr/>
          <p:nvPr/>
        </p:nvPicPr>
        <p:blipFill>
          <a:blip r:embed="rId9"/>
          <a:stretch/>
        </p:blipFill>
        <p:spPr>
          <a:xfrm>
            <a:off x="6172200" y="4495680"/>
            <a:ext cx="1695600" cy="141948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20.3 Product and </a:t>
            </a:r>
            <a:br>
              <a:rPr sz="3600"/>
            </a:br>
            <a:r>
              <a:rPr b="1" lang="en-US" sz="3600" spc="-1" strike="noStrike">
                <a:solidFill>
                  <a:srgbClr val="000000"/>
                </a:solidFill>
                <a:latin typeface="Arial"/>
              </a:rPr>
              <a:t>Brand Positioning</a:t>
            </a:r>
            <a:endParaRPr b="1" lang="en-US" sz="3600" spc="-1" strike="noStrike">
              <a:solidFill>
                <a:srgbClr val="000000"/>
              </a:solidFill>
              <a:latin typeface="Arial"/>
            </a:endParaRPr>
          </a:p>
        </p:txBody>
      </p:sp>
      <p:sp>
        <p:nvSpPr>
          <p:cNvPr id="676"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AF6558A3-3F37-4DA3-9003-6628E1CC7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77" name="Picture 2" descr=""/>
          <p:cNvPicPr/>
          <p:nvPr/>
        </p:nvPicPr>
        <p:blipFill>
          <a:blip r:embed="rId1"/>
          <a:stretch/>
        </p:blipFill>
        <p:spPr>
          <a:xfrm>
            <a:off x="609480" y="1676520"/>
            <a:ext cx="3657600" cy="3657600"/>
          </a:xfrm>
          <a:prstGeom prst="rect">
            <a:avLst/>
          </a:prstGeom>
          <a:ln w="0">
            <a:noFill/>
          </a:ln>
        </p:spPr>
      </p:pic>
      <p:pic>
        <p:nvPicPr>
          <p:cNvPr id="678" name="Picture 3" descr=""/>
          <p:cNvPicPr/>
          <p:nvPr/>
        </p:nvPicPr>
        <p:blipFill>
          <a:blip r:embed="rId2"/>
          <a:stretch/>
        </p:blipFill>
        <p:spPr>
          <a:xfrm>
            <a:off x="4038480" y="1600200"/>
            <a:ext cx="3689640" cy="37339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610" name="PlaceHolder 2"/>
          <p:cNvSpPr>
            <a:spLocks noGrp="1"/>
          </p:cNvSpPr>
          <p:nvPr>
            <p:ph/>
          </p:nvPr>
        </p:nvSpPr>
        <p:spPr>
          <a:xfrm>
            <a:off x="533520" y="1600200"/>
            <a:ext cx="77724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hallenges does a company face in developing new products and servi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rganizational structures and processes do managers use to oversee new-product develop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in stages in developing new products and services?</a:t>
            </a:r>
            <a:endParaRPr b="0" lang="en-US" sz="2800" spc="-1" strike="noStrike">
              <a:solidFill>
                <a:srgbClr val="000000"/>
              </a:solidFill>
              <a:latin typeface="Arial"/>
            </a:endParaRPr>
          </a:p>
        </p:txBody>
      </p:sp>
      <p:sp>
        <p:nvSpPr>
          <p:cNvPr id="61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5EB50346-9641-42EF-B5D3-8715FD5C6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Footer Placeholder 3"/>
          <p:cNvSpPr/>
          <p:nvPr/>
        </p:nvSpPr>
        <p:spPr>
          <a:xfrm>
            <a:off x="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DE3B9CAB-13D8-4E4E-A4B6-5CEB5BD4A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ept Testing</a:t>
            </a:r>
            <a:endParaRPr b="1" lang="en-US" sz="3600" spc="-1" strike="noStrike">
              <a:solidFill>
                <a:srgbClr val="000000"/>
              </a:solidFill>
              <a:latin typeface="Arial"/>
            </a:endParaRPr>
          </a:p>
        </p:txBody>
      </p:sp>
      <p:sp>
        <p:nvSpPr>
          <p:cNvPr id="681"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bility and believabi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leve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p leve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ived valu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e inten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targets, purchase occasions,   purchasing frequency</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20.4 Conjoint Analysis</a:t>
            </a:r>
            <a:endParaRPr b="1" lang="en-US" sz="3600" spc="-1" strike="noStrike">
              <a:solidFill>
                <a:srgbClr val="000000"/>
              </a:solidFill>
              <a:latin typeface="Arial"/>
            </a:endParaRPr>
          </a:p>
        </p:txBody>
      </p:sp>
      <p:sp>
        <p:nvSpPr>
          <p:cNvPr id="68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6780DE99-2C8A-4014-A8DA-5ECE55476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84" name="Picture 2" descr=""/>
          <p:cNvPicPr/>
          <p:nvPr/>
        </p:nvPicPr>
        <p:blipFill>
          <a:blip r:embed="rId1"/>
          <a:stretch/>
        </p:blipFill>
        <p:spPr>
          <a:xfrm>
            <a:off x="2133720" y="1752480"/>
            <a:ext cx="4276440" cy="39974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20.5 Utility Functions Based on Conjoint Analysis</a:t>
            </a:r>
            <a:endParaRPr b="1" lang="en-US" sz="3600" spc="-1" strike="noStrike">
              <a:solidFill>
                <a:srgbClr val="000000"/>
              </a:solidFill>
              <a:latin typeface="Arial"/>
            </a:endParaRPr>
          </a:p>
        </p:txBody>
      </p:sp>
      <p:sp>
        <p:nvSpPr>
          <p:cNvPr id="686"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A0ED85EA-D427-4D12-8CD1-4BDE0C6A2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87" name="Picture 2" descr=""/>
          <p:cNvPicPr/>
          <p:nvPr/>
        </p:nvPicPr>
        <p:blipFill>
          <a:blip r:embed="rId1"/>
          <a:stretch/>
        </p:blipFill>
        <p:spPr>
          <a:xfrm>
            <a:off x="1676520" y="1676520"/>
            <a:ext cx="5333760" cy="456876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20.6 Product Life-Cycle Sales for Three Types of Products</a:t>
            </a:r>
            <a:endParaRPr b="1" lang="en-US" sz="3600" spc="-1" strike="noStrike">
              <a:solidFill>
                <a:srgbClr val="000000"/>
              </a:solidFill>
              <a:latin typeface="Arial"/>
            </a:endParaRPr>
          </a:p>
        </p:txBody>
      </p:sp>
      <p:sp>
        <p:nvSpPr>
          <p:cNvPr id="689"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056C831B-B071-406E-A8ED-4D6DF1001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90" name="Picture 2" descr=""/>
          <p:cNvPicPr/>
          <p:nvPr/>
        </p:nvPicPr>
        <p:blipFill>
          <a:blip r:embed="rId1"/>
          <a:stretch/>
        </p:blipFill>
        <p:spPr>
          <a:xfrm>
            <a:off x="0" y="1905120"/>
            <a:ext cx="2809800" cy="3066840"/>
          </a:xfrm>
          <a:prstGeom prst="rect">
            <a:avLst/>
          </a:prstGeom>
          <a:ln w="0">
            <a:noFill/>
          </a:ln>
        </p:spPr>
      </p:pic>
      <p:pic>
        <p:nvPicPr>
          <p:cNvPr id="691" name="Picture 3" descr=""/>
          <p:cNvPicPr/>
          <p:nvPr/>
        </p:nvPicPr>
        <p:blipFill>
          <a:blip r:embed="rId2"/>
          <a:stretch/>
        </p:blipFill>
        <p:spPr>
          <a:xfrm>
            <a:off x="2666880" y="1905120"/>
            <a:ext cx="2733840" cy="3038400"/>
          </a:xfrm>
          <a:prstGeom prst="rect">
            <a:avLst/>
          </a:prstGeom>
          <a:ln w="0">
            <a:noFill/>
          </a:ln>
        </p:spPr>
      </p:pic>
      <p:pic>
        <p:nvPicPr>
          <p:cNvPr id="692" name="Picture 4" descr=""/>
          <p:cNvPicPr/>
          <p:nvPr/>
        </p:nvPicPr>
        <p:blipFill>
          <a:blip r:embed="rId3"/>
          <a:stretch/>
        </p:blipFill>
        <p:spPr>
          <a:xfrm>
            <a:off x="5562720" y="1905120"/>
            <a:ext cx="2828880" cy="30574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20.3 Projected Five-Year Cash Flow Statement </a:t>
            </a:r>
            <a:endParaRPr b="1" lang="en-US" sz="3600" spc="-1" strike="noStrike">
              <a:solidFill>
                <a:srgbClr val="000000"/>
              </a:solidFill>
              <a:latin typeface="Arial"/>
            </a:endParaRPr>
          </a:p>
        </p:txBody>
      </p:sp>
      <p:sp>
        <p:nvSpPr>
          <p:cNvPr id="694"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E3E27EA9-CE90-4B4C-BFE8-9E67A37F3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95" name="Picture 2" descr=""/>
          <p:cNvPicPr/>
          <p:nvPr/>
        </p:nvPicPr>
        <p:blipFill>
          <a:blip r:embed="rId1"/>
          <a:stretch/>
        </p:blipFill>
        <p:spPr>
          <a:xfrm>
            <a:off x="380880" y="2209680"/>
            <a:ext cx="7599600" cy="285300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5CFBF9B9-6D31-4988-9156-A597BF83D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otype Testing</a:t>
            </a:r>
            <a:endParaRPr b="1" lang="en-US" sz="3600" spc="-1" strike="noStrike">
              <a:solidFill>
                <a:srgbClr val="000000"/>
              </a:solidFill>
              <a:latin typeface="Arial"/>
            </a:endParaRPr>
          </a:p>
        </p:txBody>
      </p:sp>
      <p:sp>
        <p:nvSpPr>
          <p:cNvPr id="698"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pha tes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a testing</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k-order method</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red-comparison method</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adic-rating metho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testing</a:t>
            </a:r>
            <a:endParaRPr b="0"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umer Goods Market Testing</a:t>
            </a:r>
            <a:endParaRPr b="1" lang="en-US" sz="3600" spc="-1" strike="noStrike">
              <a:solidFill>
                <a:srgbClr val="000000"/>
              </a:solidFill>
              <a:latin typeface="Arial"/>
            </a:endParaRPr>
          </a:p>
        </p:txBody>
      </p:sp>
      <p:sp>
        <p:nvSpPr>
          <p:cNvPr id="700"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Wave Research</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ed Test 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d Test 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Marke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1" name="Footer Placeholder 5"/>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A0F62D66-1A2F-4180-BE4A-DAE492E2D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DD4CE74F-3475-4733-A406-B782B851C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st Market Decisions</a:t>
            </a:r>
            <a:endParaRPr b="1" lang="en-US" sz="3600" spc="-1" strike="noStrike">
              <a:solidFill>
                <a:srgbClr val="000000"/>
              </a:solidFill>
              <a:latin typeface="Arial"/>
            </a:endParaRPr>
          </a:p>
        </p:txBody>
      </p:sp>
      <p:sp>
        <p:nvSpPr>
          <p:cNvPr id="704"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test cit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it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of tes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nformation to collec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ction to take?</a:t>
            </a:r>
            <a:endParaRPr b="0" lang="en-US" sz="28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iming of Market Entry</a:t>
            </a:r>
            <a:endParaRPr b="1" lang="en-US" sz="3600" spc="-1" strike="noStrike">
              <a:solidFill>
                <a:srgbClr val="000000"/>
              </a:solidFill>
              <a:latin typeface="Arial"/>
            </a:endParaRPr>
          </a:p>
        </p:txBody>
      </p:sp>
      <p:sp>
        <p:nvSpPr>
          <p:cNvPr id="706"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entr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 entr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 entry</a:t>
            </a:r>
            <a:endParaRPr b="0" lang="en-US" sz="2800" spc="-1" strike="noStrike">
              <a:solidFill>
                <a:srgbClr val="000000"/>
              </a:solidFill>
              <a:latin typeface="Arial"/>
            </a:endParaRPr>
          </a:p>
        </p:txBody>
      </p:sp>
      <p:sp>
        <p:nvSpPr>
          <p:cNvPr id="707" name="Footer Placeholder 4"/>
          <p:cNvSpPr/>
          <p:nvPr/>
        </p:nvSpPr>
        <p:spPr>
          <a:xfrm>
            <a:off x="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53BC1BB5-C399-41FF-BF54-605E418F8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11 Pearson Education, Inc.  Publishing as Prentice Hal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20-</a:t>
            </a:r>
            <a:fld id="{EFD25D6A-2F2A-477A-9063-669A19A5C1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doption? </a:t>
            </a:r>
            <a:endParaRPr b="1" lang="en-US" sz="3600" spc="-1" strike="noStrike">
              <a:solidFill>
                <a:srgbClr val="000000"/>
              </a:solidFill>
              <a:latin typeface="Arial"/>
            </a:endParaRPr>
          </a:p>
        </p:txBody>
      </p:sp>
      <p:sp>
        <p:nvSpPr>
          <p:cNvPr id="710" name="PlaceHolder 2"/>
          <p:cNvSpPr>
            <a:spLocks noGrp="1"/>
          </p:cNvSpPr>
          <p:nvPr>
            <p:ph/>
          </p:nvPr>
        </p:nvSpPr>
        <p:spPr>
          <a:xfrm>
            <a:off x="761760" y="1600200"/>
            <a:ext cx="7391160" cy="4572000"/>
          </a:xfrm>
          <a:prstGeom prst="rect">
            <a:avLst/>
          </a:prstGeom>
          <a:noFill/>
          <a:ln w="0">
            <a:noFill/>
          </a:ln>
        </p:spPr>
        <p:txBody>
          <a:bodyPr anchor="t">
            <a:normAutofit/>
          </a:bodyPr>
          <a:p>
            <a:pPr marL="343080"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option</a:t>
            </a:r>
            <a:r>
              <a:rPr b="0" lang="en-US" sz="2800" spc="-1" strike="noStrike">
                <a:solidFill>
                  <a:srgbClr val="000000"/>
                </a:solidFill>
                <a:latin typeface="Arial"/>
              </a:rPr>
              <a:t> is an individual’s decision to become a regular user of a product. </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1" name="Picture 2" descr=""/>
          <p:cNvPicPr/>
          <p:nvPr/>
        </p:nvPicPr>
        <p:blipFill>
          <a:blip r:embed="rId1"/>
          <a:stretch/>
        </p:blipFill>
        <p:spPr>
          <a:xfrm>
            <a:off x="2895480" y="2743200"/>
            <a:ext cx="2820960" cy="32148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F013B18F-B0A8-48E8-B098-D7E60FD7C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614" name="PlaceHolder 2"/>
          <p:cNvSpPr>
            <a:spLocks noGrp="1"/>
          </p:cNvSpPr>
          <p:nvPr>
            <p:ph/>
          </p:nvPr>
        </p:nvSpPr>
        <p:spPr>
          <a:xfrm>
            <a:off x="762120" y="1447920"/>
            <a:ext cx="76960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est way to manage the new-product development proc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factors affect the rate of diffusion and consumer adoption of newly launched products and services? </a:t>
            </a:r>
            <a:endParaRPr b="0" lang="en-US" sz="2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E983A87A-10CA-4763-830C-ABC8C49B4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s in the Adoption Process</a:t>
            </a:r>
            <a:endParaRPr b="1" lang="en-US" sz="3200" spc="-1" strike="noStrike">
              <a:solidFill>
                <a:srgbClr val="000000"/>
              </a:solidFill>
              <a:latin typeface="Arial"/>
            </a:endParaRPr>
          </a:p>
        </p:txBody>
      </p:sp>
      <p:sp>
        <p:nvSpPr>
          <p:cNvPr id="714" name="Rounded Rectangle 8"/>
          <p:cNvSpPr/>
          <p:nvPr/>
        </p:nvSpPr>
        <p:spPr>
          <a:xfrm>
            <a:off x="990720" y="1676520"/>
            <a:ext cx="3200400" cy="6858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ness</a:t>
            </a:r>
            <a:endParaRPr b="0" lang="en-US" sz="2400" spc="-1" strike="noStrike">
              <a:solidFill>
                <a:srgbClr val="000000"/>
              </a:solidFill>
              <a:latin typeface="Arial"/>
            </a:endParaRPr>
          </a:p>
        </p:txBody>
      </p:sp>
      <p:sp>
        <p:nvSpPr>
          <p:cNvPr id="715" name="Rounded Rectangle 9"/>
          <p:cNvSpPr/>
          <p:nvPr/>
        </p:nvSpPr>
        <p:spPr>
          <a:xfrm>
            <a:off x="1752480" y="2514600"/>
            <a:ext cx="3200400" cy="6858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a:t>
            </a:r>
            <a:endParaRPr b="0" lang="en-US" sz="2400" spc="-1" strike="noStrike">
              <a:solidFill>
                <a:srgbClr val="000000"/>
              </a:solidFill>
              <a:latin typeface="Arial"/>
            </a:endParaRPr>
          </a:p>
        </p:txBody>
      </p:sp>
      <p:sp>
        <p:nvSpPr>
          <p:cNvPr id="716" name="Rounded Rectangle 10"/>
          <p:cNvSpPr/>
          <p:nvPr/>
        </p:nvSpPr>
        <p:spPr>
          <a:xfrm>
            <a:off x="2438280" y="3352680"/>
            <a:ext cx="3200400" cy="6858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a:t>
            </a:r>
            <a:endParaRPr b="0" lang="en-US" sz="2400" spc="-1" strike="noStrike">
              <a:solidFill>
                <a:srgbClr val="000000"/>
              </a:solidFill>
              <a:latin typeface="Arial"/>
            </a:endParaRPr>
          </a:p>
        </p:txBody>
      </p:sp>
      <p:sp>
        <p:nvSpPr>
          <p:cNvPr id="717" name="Rounded Rectangle 11"/>
          <p:cNvSpPr/>
          <p:nvPr/>
        </p:nvSpPr>
        <p:spPr>
          <a:xfrm>
            <a:off x="3352680" y="4191120"/>
            <a:ext cx="3200400" cy="6858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a:t>
            </a:r>
            <a:endParaRPr b="0" lang="en-US" sz="2400" spc="-1" strike="noStrike">
              <a:solidFill>
                <a:srgbClr val="000000"/>
              </a:solidFill>
              <a:latin typeface="Arial"/>
            </a:endParaRPr>
          </a:p>
        </p:txBody>
      </p:sp>
      <p:sp>
        <p:nvSpPr>
          <p:cNvPr id="718" name="Rounded Rectangle 12"/>
          <p:cNvSpPr/>
          <p:nvPr/>
        </p:nvSpPr>
        <p:spPr>
          <a:xfrm>
            <a:off x="4267080" y="5029200"/>
            <a:ext cx="3200400" cy="6858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ion</a:t>
            </a:r>
            <a:endParaRPr b="0" lang="en-US" sz="24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762120" y="274320"/>
            <a:ext cx="7696080" cy="147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20.7 Adopter Categorization on the Basis of Relative time of Adoption</a:t>
            </a:r>
            <a:endParaRPr b="1" lang="en-US" sz="3600" spc="-1" strike="noStrike">
              <a:solidFill>
                <a:srgbClr val="000000"/>
              </a:solidFill>
              <a:latin typeface="Arial"/>
            </a:endParaRPr>
          </a:p>
        </p:txBody>
      </p:sp>
      <p:sp>
        <p:nvSpPr>
          <p:cNvPr id="720"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C2219760-DA85-4737-A6A0-C64D2EE47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721" name="Picture 2" descr=""/>
          <p:cNvPicPr/>
          <p:nvPr/>
        </p:nvPicPr>
        <p:blipFill>
          <a:blip r:embed="rId1"/>
          <a:stretch/>
        </p:blipFill>
        <p:spPr>
          <a:xfrm>
            <a:off x="547560" y="1932120"/>
            <a:ext cx="7453440" cy="325440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racteristics of an Innovation</a:t>
            </a:r>
            <a:endParaRPr b="1" lang="en-US" sz="3600" spc="-1" strike="noStrike">
              <a:solidFill>
                <a:srgbClr val="000000"/>
              </a:solidFill>
              <a:latin typeface="Arial"/>
            </a:endParaRPr>
          </a:p>
        </p:txBody>
      </p:sp>
      <p:sp>
        <p:nvSpPr>
          <p:cNvPr id="723"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 advanta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tibi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sibi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bility</a:t>
            </a:r>
            <a:endParaRPr b="0" lang="en-US" sz="2800" spc="-1" strike="noStrike">
              <a:solidFill>
                <a:srgbClr val="000000"/>
              </a:solidFill>
              <a:latin typeface="Arial"/>
            </a:endParaRPr>
          </a:p>
        </p:txBody>
      </p:sp>
      <p:sp>
        <p:nvSpPr>
          <p:cNvPr id="724" name="Footer Placeholder 4"/>
          <p:cNvSpPr/>
          <p:nvPr/>
        </p:nvSpPr>
        <p:spPr>
          <a:xfrm>
            <a:off x="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760E8B39-D94B-4521-A9BD-1DC1F4D7B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726"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hallenges does a company face in developing new products and servi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rganizational structures and processes do managers use to oversee new-product develop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in stages in developing new products and servi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7" name="Footer Placeholder 4"/>
          <p:cNvSpPr/>
          <p:nvPr/>
        </p:nvSpPr>
        <p:spPr>
          <a:xfrm>
            <a:off x="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6352FA23-BC68-4DBC-98CA-8305BA440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729"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est way to manage the new-product development proc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factors affect the rate of diffusion and consumer adoption of newly launched products and services? </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471AE04E-F6CF-4B91-974D-50F78E0C4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3D3B5B71-6E14-4D41-BB00-A752C4CB1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egories of New Products</a:t>
            </a:r>
            <a:endParaRPr b="1" lang="en-US" sz="3600" spc="-1" strike="noStrike">
              <a:solidFill>
                <a:srgbClr val="000000"/>
              </a:solidFill>
              <a:latin typeface="Arial"/>
            </a:endParaRPr>
          </a:p>
        </p:txBody>
      </p:sp>
      <p:sp>
        <p:nvSpPr>
          <p:cNvPr id="617" name="Rounded Rectangle 9"/>
          <p:cNvSpPr/>
          <p:nvPr/>
        </p:nvSpPr>
        <p:spPr>
          <a:xfrm>
            <a:off x="762120" y="1295280"/>
            <a:ext cx="3352680" cy="8384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o the World</a:t>
            </a:r>
            <a:endParaRPr b="0" lang="en-US" sz="2400" spc="-1" strike="noStrike">
              <a:solidFill>
                <a:srgbClr val="000000"/>
              </a:solidFill>
              <a:latin typeface="Arial"/>
            </a:endParaRPr>
          </a:p>
        </p:txBody>
      </p:sp>
      <p:sp>
        <p:nvSpPr>
          <p:cNvPr id="618" name="Rounded Rectangle 11"/>
          <p:cNvSpPr/>
          <p:nvPr/>
        </p:nvSpPr>
        <p:spPr>
          <a:xfrm>
            <a:off x="1523880" y="2286000"/>
            <a:ext cx="335304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s</a:t>
            </a:r>
            <a:endParaRPr b="0" lang="en-US" sz="2400" spc="-1" strike="noStrike">
              <a:solidFill>
                <a:srgbClr val="000000"/>
              </a:solidFill>
              <a:latin typeface="Arial"/>
            </a:endParaRPr>
          </a:p>
        </p:txBody>
      </p:sp>
      <p:sp>
        <p:nvSpPr>
          <p:cNvPr id="619" name="Rounded Rectangle 12"/>
          <p:cNvSpPr/>
          <p:nvPr/>
        </p:nvSpPr>
        <p:spPr>
          <a:xfrm>
            <a:off x="2590920" y="3276720"/>
            <a:ext cx="335268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ments</a:t>
            </a:r>
            <a:endParaRPr b="0" lang="en-US" sz="2400" spc="-1" strike="noStrike">
              <a:solidFill>
                <a:srgbClr val="000000"/>
              </a:solidFill>
              <a:latin typeface="Arial"/>
            </a:endParaRPr>
          </a:p>
        </p:txBody>
      </p:sp>
      <p:sp>
        <p:nvSpPr>
          <p:cNvPr id="620" name="Rounded Rectangle 13"/>
          <p:cNvSpPr/>
          <p:nvPr/>
        </p:nvSpPr>
        <p:spPr>
          <a:xfrm>
            <a:off x="3657600" y="4267080"/>
            <a:ext cx="3352680" cy="8384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sitionings</a:t>
            </a:r>
            <a:endParaRPr b="0" lang="en-US" sz="2400" spc="-1" strike="noStrike">
              <a:solidFill>
                <a:srgbClr val="000000"/>
              </a:solidFill>
              <a:latin typeface="Arial"/>
            </a:endParaRPr>
          </a:p>
        </p:txBody>
      </p:sp>
      <p:sp>
        <p:nvSpPr>
          <p:cNvPr id="621" name="Rounded Rectangle 14"/>
          <p:cNvSpPr/>
          <p:nvPr/>
        </p:nvSpPr>
        <p:spPr>
          <a:xfrm>
            <a:off x="4495680" y="5257800"/>
            <a:ext cx="335304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reductions</a:t>
            </a:r>
            <a:endParaRPr b="0" lang="en-US" sz="24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novation of Wii</a:t>
            </a:r>
            <a:endParaRPr b="1" lang="en-US" sz="3600" spc="-1" strike="noStrike">
              <a:solidFill>
                <a:srgbClr val="000000"/>
              </a:solidFill>
              <a:latin typeface="Arial"/>
            </a:endParaRPr>
          </a:p>
        </p:txBody>
      </p:sp>
      <p:sp>
        <p:nvSpPr>
          <p:cNvPr id="623"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5079E362-FA57-42D6-83A6-09F978BE6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24" name="Picture 2" descr=""/>
          <p:cNvPicPr/>
          <p:nvPr/>
        </p:nvPicPr>
        <p:blipFill>
          <a:blip r:embed="rId1"/>
          <a:stretch/>
        </p:blipFill>
        <p:spPr>
          <a:xfrm>
            <a:off x="1219320" y="1752480"/>
            <a:ext cx="6019560" cy="43293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28A4CCD3-FEA0-485B-B03D-8FE97359D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s That Limit </a:t>
            </a:r>
            <a:br>
              <a:rPr sz="3200"/>
            </a:br>
            <a:r>
              <a:rPr b="1" lang="en-US" sz="3200" spc="-1" strike="noStrike">
                <a:solidFill>
                  <a:srgbClr val="000000"/>
                </a:solidFill>
                <a:latin typeface="Arial"/>
              </a:rPr>
              <a:t>New Product Development</a:t>
            </a:r>
            <a:endParaRPr b="1" lang="en-US" sz="3200" spc="-1" strike="noStrike">
              <a:solidFill>
                <a:srgbClr val="000000"/>
              </a:solidFill>
              <a:latin typeface="Arial"/>
            </a:endParaRPr>
          </a:p>
        </p:txBody>
      </p:sp>
      <p:sp>
        <p:nvSpPr>
          <p:cNvPr id="627"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age of idea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mented marke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and governmental constrai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of developme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al shortag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required development tim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er product life cycles</a:t>
            </a:r>
            <a:endParaRPr b="0" lang="en-US" sz="2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201. Finding One Successful Product</a:t>
            </a:r>
            <a:endParaRPr b="1" lang="en-US" sz="3600" spc="-1" strike="noStrike">
              <a:solidFill>
                <a:srgbClr val="000000"/>
              </a:solidFill>
              <a:latin typeface="Arial"/>
            </a:endParaRPr>
          </a:p>
        </p:txBody>
      </p:sp>
      <p:sp>
        <p:nvSpPr>
          <p:cNvPr id="62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492A74A4-1C3D-4D4A-AEA5-4B7F22CCD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30" name="Picture 2" descr=""/>
          <p:cNvPicPr/>
          <p:nvPr/>
        </p:nvPicPr>
        <p:blipFill>
          <a:blip r:embed="rId1"/>
          <a:srcRect l="0" t="9449" r="0" b="0"/>
          <a:stretch/>
        </p:blipFill>
        <p:spPr>
          <a:xfrm>
            <a:off x="461880" y="2362320"/>
            <a:ext cx="7756560" cy="25714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Venture Team?</a:t>
            </a:r>
            <a:endParaRPr b="1" lang="en-US" sz="3600" spc="-1" strike="noStrike">
              <a:solidFill>
                <a:srgbClr val="000000"/>
              </a:solidFill>
              <a:latin typeface="Arial"/>
            </a:endParaRPr>
          </a:p>
        </p:txBody>
      </p:sp>
      <p:sp>
        <p:nvSpPr>
          <p:cNvPr id="632" name="PlaceHolder 2"/>
          <p:cNvSpPr>
            <a:spLocks noGrp="1"/>
          </p:cNvSpPr>
          <p:nvPr>
            <p:ph/>
          </p:nvPr>
        </p:nvSpPr>
        <p:spPr>
          <a:xfrm>
            <a:off x="533520" y="1600200"/>
            <a:ext cx="76960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venture team </a:t>
            </a:r>
            <a:r>
              <a:rPr b="0" lang="en-US" sz="2800" spc="-1" strike="noStrike">
                <a:solidFill>
                  <a:srgbClr val="000000"/>
                </a:solidFill>
                <a:latin typeface="Arial"/>
              </a:rPr>
              <a:t>is a cross-functional group charged with developing a specific product or business.</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60B039EE-8B40-42A2-97E0-E977CCF8C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20-</a:t>
            </a:r>
            <a:fld id="{E73F07FB-9404-4E79-AF45-E3A698DEE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iteria for Staffing Venture Teams</a:t>
            </a:r>
            <a:endParaRPr b="1" lang="en-US" sz="3200" spc="-1" strike="noStrike">
              <a:solidFill>
                <a:srgbClr val="000000"/>
              </a:solidFill>
              <a:latin typeface="Arial"/>
            </a:endParaRPr>
          </a:p>
        </p:txBody>
      </p:sp>
      <p:sp>
        <p:nvSpPr>
          <p:cNvPr id="63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red team leadership styl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red level of leader expertis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member skills and expertis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of interest in concep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for personal rewar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ty of team members</a:t>
            </a: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8:43Z</dcterms:modified>
  <cp:revision>425</cp:revision>
  <dc:subject/>
  <dc:title>Kotler Keller 2</dc:title>
</cp:coreProperties>
</file>