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33AB-3E6B-48CD-9F25-FE798007E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3682-9A5D-42A1-94CA-7FBD8B3E6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 and women have different attitudes and behave differently, based partly on genetic makeup and partly on socialization. Women tend to be more communal-minded and men more self-expressive and goal-directed; women tend to take in more of the data in their immediate environment and men to focus on the part of the environment that helps them achieve a goal. A research study examining how men and women shop found that men often need to be invited to touch a product, whereas women are likely to pick it up without prompting. Men often like to read product information; women may relate to a product on a more personal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oria’s Secret  studied women and learned that while women need underwear, they want lingerie. It went on to develop the retail chain very successfully based on this in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segmentation is a long-standing practice in such categories as automobiles, clothing, cosmetics, financial services, and travel. However, income does not always predict the best customers for a given product. Blue-collar workers were among the first purchasers of color television sets; it was cheaper for them to buy these sets than to go to movies and restaurants.</a:t>
            </a:r>
            <a:endParaRPr b="0" lang="en-US" sz="1200" spc="-1" strike="noStrike">
              <a:solidFill>
                <a:srgbClr val="000000"/>
              </a:solidFill>
              <a:latin typeface="Arial"/>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E4B3-83A4-4BE2-9262-663218FD1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eneration or cohort is profoundly influenced by the times in which it grows up—the music, movies, politics, and defining events of that period. Members share the same major cultural, political, and economic experiences and have similar outlooks and values. Marketers often advertise to a cohort by using the icons and images prominent in its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ennials are also known as the Echo Boomers, these consumers have been “wired” almost from birth— playing computer games, navigating the Web, downloading music, connecting with friends via instant messaging and mobile phones. They have a sense of entitlement and abundance from growing up during the economic boom and being pampered by their boomer parents. Yet they are highly socially conscious and concerned about environmental issues. They are selective, confident, and im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 Xers feel self-sufficiency and the ability to handle any circumstance are key. Technology is an enabler for them, not a barrier. Unlike the more optimistic, team oriented Gen Yers, Gen Xers are more pragmatic and individu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baby boomers moving into their 60s and even the last and youngest wave bearing down on 50, demand has exploded for products to turn back the hands of time. According to one survey, nearly one in five boomers was actively resisting the aging process, driven by the mantra, “Fifty is the new thi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4A16-A456-4EF8-BE76-A1DC7F096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cultural marketing is an approach recognizing that different ethnic and cultural segments have sufficiently different needs and wants to require targeted marketing activities, and that a mass market approach is not refined enough for the diversity of the marketplace. The Hispanic American, African American, and Asian American markets are all growing at two to three times the rate of nonmulticultural populations, with numerous submarkets, and their buying power is expanding. Multicultural markets also vary in whether they are first and second (or more) generation, and whether they are immigrants or born and raised in the United States. The norms, language nuances, buying habits, and business practices of multicultural markets need to be factored into the initial formulation of a marketing strategy, rather than added as an afterthough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Farm decided to make its Hispanic American marketing a priority in 2008. The firm sponsored local Latino community events, soccer matches, the Latin Music Awards, and Univision’s highly rated Saturday night variety show, Sabádo Gigante. Perhaps State Farm’s most original marketing activity, however, was the support and sponsorship of a new band. Los Felinos de la Noche (The Felines of the Night), as the six men (primarily Hispanic immigrants) are called, play the percussion heavy pop-rock sound of Norteño or Northern Mexico regional music. With State Farm’s support, the band recorded singles, shot music videos, and played live concerts to make a name for themselves.</a:t>
            </a:r>
            <a:endParaRPr b="0" lang="en-US" sz="1200" spc="-1" strike="noStrike">
              <a:solidFill>
                <a:srgbClr val="000000"/>
              </a:solidFill>
              <a:latin typeface="Arial"/>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996E-89F9-4BF8-886C-3FF0F8622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sychographics is the science of using psychology and demographics to better understand consumers. In psychographic segmentation, buyers are divided into different groups on the basis of psychological/personality traits, lifestyle, or values. People within the same demographic group can exhibit very different psychographic profiles. One of the most popular commercially available classification systems based on psychographic measurements is Strategic Business Insight’s (SBI) VALS™ framework. VALS, signifying values and lifestyles, classifies U.S. adults into eight primary group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Innovators—Successful, sophisticated, active, “take-charge” people with high self-esteem.</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Thinkers—Mature, satisfied, and reflective people motivated by ideals and who value order, knowledge, and responsibility. They seek durability, functionality, and value in product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Achievers—Successful, goal-oriented people who focus on career and family. They favor premium products that demonstrate success to their peer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 Experiencers—Young, enthusiastic, impulsive people who seek variety and excitement. They spend a comparatively high proportion of income on fashion, entertainment, and socializ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 Believers—Conservative, conventional, and traditional people with concrete beliefs. They prefer familiar, U.S.-made products and are loyal to established brand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 Strivers—Trendy and fun-loving people who are resource-constrained. They favor stylish products that emulate the purchases of those with greater material wealth.</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 Makers—Practical, down-to-earth, self-sufficient people who like to work with their hands. They seek U.S.-made products with a practical or functional purpos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 Survivors—Elderly, passive people concerned about change and loyal to their favorite brands</a:t>
            </a:r>
            <a:endParaRPr b="0" lang="en-US" sz="1100" spc="-1" strike="noStrike">
              <a:solidFill>
                <a:srgbClr val="000000"/>
              </a:solidFill>
              <a:latin typeface="Arial"/>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E706-E354-45A7-806E-B3841E324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based or benefit-based segmentation is a widely used approach because it identifies distinct market segments with clear marketing implications. Constellation Wines identified six different benefit segments in the U.S. premium wine market ($5.50 a bottle a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husiast (12 percent of the market). Skewing female, their average income is about $76,000 a year. About 3 percent are “luxury enthusiasts” who skew more male with a higher in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age Seekers (20 percent). The only segment that skews male, with an average age of 35. They use wine basically as a badge to say who they are, and they’re willing to pay more to make sure they’re getting the right bo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vvy Shoppers (15 percent). They love to shop and believe they don’t have to spend a lot to get a good bottle of wine. Happy to use the bargain b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itionalist (16 percent). With very traditional values, they like to buy brands they’ve heard of and from wineries that have been around a long time. Their average age is 50 and they are 68 percent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tisfied Sippers (14 percent). Not knowing much about wine, they tend to buy the same brands. About half of what they drink is white zinfan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verwhelmed (23 percent). A potentially attractive target market, they find purchasing wine confusing.</a:t>
            </a:r>
            <a:endParaRPr b="0" lang="en-US" sz="1200" spc="-1" strike="noStrike">
              <a:solidFill>
                <a:srgbClr val="000000"/>
              </a:solidFill>
              <a:latin typeface="Arial"/>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F267-2AB9-42B6-9C34-E61CA966E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2D27-F586-4DC7-B684-D089080D0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play five roles in a buying decision: Initiator, Influencer, Decider, Buyer, and User. For example, assume a wife initiates a purchase by requesting a new treadmill for her birthday. The husband may then seek information from many sources, including his best friend who has a treadmill and is a key influencer in what models to consider. After presenting the alternative choices to his wife, he purchases her preferred model, which ends up being used by the entire famil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6D9B-5F0B-455E-97EE-329127F17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rketers believe variables related to various aspects of users or their are good starting points for constructing market segments. Occasions mark a time of day, week, month, year, or other well-defined temporal aspects of a consumer’s life. We can distinguish buyers according to the occasions when they develop a need, purchase a product, or use a product. Every product has its nonusers, ex-users, potential users, first-time users, and regular users. We can segment markets into light, medium, and heavy product users. Heavy users are often a small slice but account for a high percentage of total consumption. Some people are unaware of the product, some are aware, some are informed, some are interested, some desire the product, and some intend to buy. Marketers usually envision four groups based on brand loyalty status. Five consumer attitudes about products are: enthusiastic, positive, indifferent, negative, and host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1616-90C6-4339-8A19-74CAE98AA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characterize how many people are at different stages and how well they have converted people from one stage to another, marketers can employ a marketing funnel to break down the market into different buyer-readiness stages. The proportions of consumers at different stages make a big difference in designing the marketing progr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020CF-4D12-42BB-A63E-980A58CC4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Status Marketers usually envision four groups based on brand loyalty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ard-core loyals—Consumers who buy only one brand all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plit loyals—Consumers who are loyal to two or three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hifting loyals—Consumers who shift loyalty from one brand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witchers—Consumers who show no loyalty to any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 can learn a great deal by analyzing degrees of brand loyalty: Hard-core loyals can help identify the products’ strengths; split loyals can show the firm which brands are most competitive with its own; and by looking at customers dropping its brand, the company can learn about its marketing weaknesses and attempt to correct them. One caution: What appear to be brand-loyal purchase patterns may reflect habit, indifference, a low price, a high switching cost, or the unavailability of other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tend to be loyal to their favorite soda brand but less so to airline bran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ing different behavioral bases can provide a more comprehensive and cohesive view of a market and its segments. Figure 8.3 depicts one possible way to break down a target market by various behavioral segmentation bases.</a:t>
            </a:r>
            <a:endParaRPr b="0" lang="en-US" sz="1200" spc="-1" strike="noStrike">
              <a:solidFill>
                <a:srgbClr val="000000"/>
              </a:solidFill>
              <a:latin typeface="Arial"/>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7609-5485-474D-9CE3-477A6C665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5642-92B8-490C-84E7-87BD8170F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cannot connect with all customers in large, broad, or diverse markets. But they can divide such markets into groups of consumers or segments with distinct needs and wants. A company then needs to identify which market segments it can serve effectively. This decision requires a keen understanding of consumer behavior and careful strategic thinking. To develop the best marketing plans, managers need to understand what makes each segment unique and different. Identifying and satisfying the right market segments is often the key to marketing succ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F17C-5D72-4471-B0F3-6AD41ABB7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gment business markets with some of the same variables we use in consumer markets, such as geography, benefits sought, and usage rate, but business marketers also use other variables. Table 8.5 shows one set of these. The demographic variables are the most important, followed by the operating variables—down to the personal characteristics of the buyer. The table lists major questions that business marketers should ask in determining which segments and customers to serv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E3AD-803C-4B49-B5E2-CB9918072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statistical techniques for developing market segments.53 Once the firm has identified its market-segment opportunities, it must decide how many and which ones to target. Marketers are increasingly combining several variables in an effort to identify smaller, better-defined target groups. Thus, a bank may not only identify a group of wealthy retired adults but within that group distinguish several segments depending on current income, assets, savings, and risk preferences. This has led some market researchers to advocate a needs-based market segmentation approach, as introduced previously. Roger Best proposed the seven-step approach shown in Table 8.6.</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7EC2-A5DC-4886-83C4-02772B18E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useful, market segments must rate favorably on five key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purchasing power, and characteristics of the segments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gments are large and profitable enough to serve. A segment should be the largest possible homogeneous group worth going after with a tailored marketing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gments can be effectively reached and 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gments are conceptually distinguishable and respond differently to different marketing-mix elements and programs. If married and unmarried women respond similarly to a sale on perfume, they do not constitute separate seg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rograms can be formulated for attracting and serving the segmen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forces determine the intrinsic long-run attractiveness of a market or market segment: industry competitors, potential entrants, substitutes, buyers, and suppliers. The threats these forces pose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reat of intense segment rivalry—A segment is unattractive if it already contains numerous, strong, or aggressive compet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reat of new entrants—The most attractive segment is one in which entry barriers are high and exit barriers are 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reat of substitute products—A segment is unattractive when there are actual or potential substitutes for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reat of buyers’ growing bargaining power—A segment is unattractive if buyers possess strong or growing bargaining po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reat of suppliers’ growing bargaining power—A segment is unattractive if the company’s suppliers are able to raise prices or reduce quantity supplied.  </a:t>
            </a:r>
            <a:endParaRPr b="0" lang="en-US" sz="1200" spc="-1" strike="noStrike">
              <a:solidFill>
                <a:srgbClr val="000000"/>
              </a:solidFill>
              <a:latin typeface="Arial"/>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0445-6D5D-4871-9EBC-8F2BBC000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a range or continuum of possible levels of segmentation that can guide their target market decisions. As Figure 8.4 shows, at one end is a mass market of essentially one segment; at the other are individuals or segments of one person. Between lie multiple segments and single segments. We describe each of the four approaches next. With full market coverage, a firm attempts to serve all customer groups with all the products they might need. With selective specialization, a firm selects a subset of all the possible segments, each objectively attractive and appropriate. With single-segment concentration, the firm markets to only one particular segment. The ultimate level of segmentation leads to “segments of one,” “customized marketing,” or “one-to-one marketing.</a:t>
            </a:r>
            <a:endParaRPr b="0" lang="en-US" sz="1200" spc="-1" strike="noStrike">
              <a:solidFill>
                <a:srgbClr val="000000"/>
              </a:solidFill>
              <a:latin typeface="Arial"/>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0059-D625-4103-9283-AC67434E2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hapter we have reviewed answers to these questions.</a:t>
            </a:r>
            <a:endParaRPr b="0" lang="en-US" sz="1200" spc="-1" strike="noStrike">
              <a:solidFill>
                <a:srgbClr val="000000"/>
              </a:solidFill>
              <a:latin typeface="Arial"/>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8CA7-8C94-4D59-925E-B3E9896A4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2B64-F95A-482D-8208-264A3BE5A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cannot connect with all customers in large, broad, or diverse markets. But they can divide such markets into groups of consumers or segments with distinct needs and wants. A company then needs to identify which market segments it can serve effectively. This decision requires a keen understanding of consumer behavior and careful strategic thinking. To develop the best marketing plans, managers need to understand what makes each segment unique and different. Identifying and satisfying the right market segments is often the key to marketing succes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C83F-A606-4559-B83F-993599618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divides a market into well-defined slices. A market segment consists of a group of customers who share a similar set of needs and wants. The marketer’s task is to identify the appropriate number and nature of market segments and decide which one(s) to target. We use two broad groups of variables to segment consumer markets. Some researchers try to define segments by looking at descriptive characteristics: geographic, demographic, and psychographic. Then they examine whether these customer segments exhibit different needs or product responses. For example, they might examine the differing attitudes of “professionals,”“blue collars,” and other groups toward, say, “safety” as a car benefit. Other researchers try to define segments by looking at behavioral considerations, such as consumer responses to benefits, usage occasions, or brand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FCC7-02D0-4C6B-BB7C-DE43A2EAF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segmentation variables—geographic, demographic, psychographic, and behavioral segmentation—are summarized in Table 8.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divides the market into geographical units such as nations, states, regions, counties, cities, or neighborhoods. The company can operate in one or a few areas, or it can operate in all but pay attention to local variations. In that way it can tailor marketing programs to the needs and wants of local customer groups in trading areas, neighborhoods, even individual stores.</a:t>
            </a:r>
            <a:endParaRPr b="0" lang="en-US" sz="1200" spc="-1" strike="noStrike">
              <a:solidFill>
                <a:srgbClr val="000000"/>
              </a:solidFill>
              <a:latin typeface="Arial"/>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0ABF-7033-45C0-B849-0F44385F2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6FC0-E352-4DE2-8FBD-775C0ED1E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pproaches combine geographic data with demographic data to yield even richer descriptions of consumers and neighborhoods. Nielsen Claritas has developed a geoclustering approach called PRIZM (Potential Rating Index by Zip Markets) that classifies over half a million U.S. residential neighborhoods into 14 distinct groups and 66 distinct lifestyle segments called PRIZM Clusters. The groupings take into consideration 39 factors in five broad categories: (1) education and affluence, (2) family life cycle, (3) urbanization, (4) race and ethnicity, and (5) mobility. The neighborhoods are broken down by zip code, zip+4, or census tract and block group. The clusters have descriptive titles such as Blue Blood Estates, Winner’s Circle, Hometown Retired, Shotguns and Pickups, and Back Country Folks. The inhabitants in a cluster tend to lead similar lives, drive similar cars, have similar jobs, and read similar magazines. Table 8.2 has examples of four PRIZM cluste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2DC5-5A90-4B00-883D-7F83F80F6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mographic segmentation, we divide the market on variables such as age, family size, family life cycle, gender, income, occupation, education, religion, race, generation, nationality, and social class. One reason demographic variables are so popular with marketers is that they’re often associated with consumer needs and wants. Another is that they’re easy to measure. Even when we describe the target market in nondemographic terms (say, by personality type), we may need the link back to demographic characteristics in order to estimate the size of the market and the media we should use to reach it efficient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ants and abilities change with age. People in the same part of the life cycle may still differ in their life stage. Life stage defines a person’s major concern, such as going through a divorce, going into a second marriage, taking care of an older parent, deciding to cohabit with another person, deciding to buy a new home, and so on. These life stages present opportunities for marketers who can help people cope with their major concerns</a:t>
            </a:r>
            <a:endParaRPr b="0" lang="en-US" sz="1200" spc="-1" strike="noStrike">
              <a:solidFill>
                <a:srgbClr val="000000"/>
              </a:solidFill>
              <a:latin typeface="Arial"/>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FF89-537D-4E7F-806E-7336AC9D0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8-</a:t>
            </a:r>
            <a:fld id="{8129E9E0-5357-4C08-80D7-0947B38CF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7A5F1A9E-AF17-4EAD-8FDE-912A272A6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E11174A1-6064-4CEA-9827-3692BEFDA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5B6F9923-CC83-4611-858D-16B9B44478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a:t>
            </a:r>
            <a:fld id="{AE3B74FA-5109-4E0D-9056-7ADF43994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921FA1A8-8187-415C-A1BC-784CD09D6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a:t>
            </a:r>
            <a:fld id="{017DF8DF-0B20-43FD-8FE2-9799942D6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25B1A2B9-B6B0-4164-8BB3-0F3A6DDBC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a:t>
            </a:r>
            <a:fld id="{894260AF-3CE2-45D6-BC9C-D29ECBA02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a:t>
            </a:r>
            <a:fld id="{9D53C359-0BFC-430D-8BF6-011A8C3C8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C5685B33-C27C-4927-BF6E-88DC8D44A8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8</a:t>
            </a:r>
            <a:br>
              <a:rPr sz="4000"/>
            </a:br>
            <a:r>
              <a:rPr b="1" lang="en-US" sz="4000" spc="-1" strike="noStrike">
                <a:solidFill>
                  <a:srgbClr val="000000"/>
                </a:solidFill>
                <a:latin typeface="Garamond"/>
              </a:rPr>
              <a:t>Identifying Market Segments and Targets</a:t>
            </a:r>
            <a:endParaRPr b="1" lang="en-US" sz="4000" spc="-1" strike="noStrike">
              <a:solidFill>
                <a:srgbClr val="000000"/>
              </a:solidFill>
              <a:latin typeface="Arial"/>
            </a:endParaRPr>
          </a:p>
        </p:txBody>
      </p:sp>
      <p:sp>
        <p:nvSpPr>
          <p:cNvPr id="522"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der and Income</a:t>
            </a:r>
            <a:endParaRPr b="1" lang="en-US" sz="3600" spc="-1" strike="noStrike">
              <a:solidFill>
                <a:srgbClr val="000000"/>
              </a:solidFill>
              <a:latin typeface="Arial"/>
            </a:endParaRPr>
          </a:p>
        </p:txBody>
      </p:sp>
      <p:sp>
        <p:nvSpPr>
          <p:cNvPr id="552"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EAC32E08-9B58-4B8F-903F-0580BC2D8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3" name="Picture 2" descr=""/>
          <p:cNvPicPr/>
          <p:nvPr/>
        </p:nvPicPr>
        <p:blipFill>
          <a:blip r:embed="rId1"/>
          <a:stretch/>
        </p:blipFill>
        <p:spPr>
          <a:xfrm>
            <a:off x="1828800" y="1752480"/>
            <a:ext cx="5102280" cy="33530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rational Influences</a:t>
            </a:r>
            <a:endParaRPr b="1" lang="en-US" sz="3600" spc="-1" strike="noStrike">
              <a:solidFill>
                <a:srgbClr val="000000"/>
              </a:solidFill>
              <a:latin typeface="Arial"/>
            </a:endParaRPr>
          </a:p>
        </p:txBody>
      </p:sp>
      <p:sp>
        <p:nvSpPr>
          <p:cNvPr id="555"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20FA3005-1674-4CF6-B070-848A4FCD2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6" name="Picture 2" descr=""/>
          <p:cNvPicPr/>
          <p:nvPr/>
        </p:nvPicPr>
        <p:blipFill>
          <a:blip r:embed="rId1"/>
          <a:stretch/>
        </p:blipFill>
        <p:spPr>
          <a:xfrm>
            <a:off x="2438280" y="1371600"/>
            <a:ext cx="3618000" cy="473400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ce and Culture</a:t>
            </a:r>
            <a:endParaRPr b="1" lang="en-US" sz="3600" spc="-1" strike="noStrike">
              <a:solidFill>
                <a:srgbClr val="000000"/>
              </a:solidFill>
              <a:latin typeface="Arial"/>
            </a:endParaRPr>
          </a:p>
        </p:txBody>
      </p:sp>
      <p:sp>
        <p:nvSpPr>
          <p:cNvPr id="558"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938DEA4F-A6FC-4DE0-9ADE-11C6EF3E7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9" name="Picture 2" descr=""/>
          <p:cNvPicPr/>
          <p:nvPr/>
        </p:nvPicPr>
        <p:blipFill>
          <a:blip r:embed="rId1"/>
          <a:stretch/>
        </p:blipFill>
        <p:spPr>
          <a:xfrm>
            <a:off x="1600200" y="1371600"/>
            <a:ext cx="5610240" cy="42861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sychographic Segmentation </a:t>
            </a:r>
            <a:br>
              <a:rPr sz="3600"/>
            </a:br>
            <a:r>
              <a:rPr b="1" lang="en-US" sz="3600" spc="-1" strike="noStrike">
                <a:solidFill>
                  <a:srgbClr val="000000"/>
                </a:solidFill>
                <a:latin typeface="Arial"/>
              </a:rPr>
              <a:t>and The VALS Framework</a:t>
            </a:r>
            <a:endParaRPr b="1" lang="en-US" sz="3600" spc="-1" strike="noStrike">
              <a:solidFill>
                <a:srgbClr val="000000"/>
              </a:solidFill>
              <a:latin typeface="Arial"/>
            </a:endParaRPr>
          </a:p>
        </p:txBody>
      </p:sp>
      <p:sp>
        <p:nvSpPr>
          <p:cNvPr id="561"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A9299B16-B263-453B-BD99-9633CDC29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2" name="Picture 2" descr=""/>
          <p:cNvPicPr/>
          <p:nvPr/>
        </p:nvPicPr>
        <p:blipFill>
          <a:blip r:embed="rId1"/>
          <a:stretch/>
        </p:blipFill>
        <p:spPr>
          <a:xfrm>
            <a:off x="2666880" y="1600200"/>
            <a:ext cx="3086280" cy="43178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havioral Segmentation Based on Needs and Benefits </a:t>
            </a:r>
            <a:endParaRPr b="1" lang="en-US" sz="3600" spc="-1" strike="noStrike">
              <a:solidFill>
                <a:srgbClr val="000000"/>
              </a:solidFill>
              <a:latin typeface="Arial"/>
            </a:endParaRPr>
          </a:p>
        </p:txBody>
      </p:sp>
      <p:sp>
        <p:nvSpPr>
          <p:cNvPr id="564"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69EFC0BC-AD34-4BCC-A771-9A8D79CE8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5" name="Picture 2" descr=""/>
          <p:cNvPicPr/>
          <p:nvPr/>
        </p:nvPicPr>
        <p:blipFill>
          <a:blip r:embed="rId1"/>
          <a:stretch/>
        </p:blipFill>
        <p:spPr>
          <a:xfrm>
            <a:off x="1981080" y="2057400"/>
            <a:ext cx="4538880" cy="32227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7E3BF099-CC71-4F1C-9F00-2F4ED7D7F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havioral Segmentation: Decision Roles</a:t>
            </a:r>
            <a:endParaRPr b="1" lang="en-US" sz="3600" spc="-1" strike="noStrike">
              <a:solidFill>
                <a:srgbClr val="000000"/>
              </a:solidFill>
              <a:latin typeface="Arial"/>
            </a:endParaRPr>
          </a:p>
        </p:txBody>
      </p:sp>
      <p:sp>
        <p:nvSpPr>
          <p:cNvPr id="568" name="Rounded Rectangle 5"/>
          <p:cNvSpPr/>
          <p:nvPr/>
        </p:nvSpPr>
        <p:spPr>
          <a:xfrm>
            <a:off x="2590920" y="2057400"/>
            <a:ext cx="327636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or</a:t>
            </a:r>
            <a:endParaRPr b="0" lang="en-US" sz="2800" spc="-1" strike="noStrike">
              <a:solidFill>
                <a:srgbClr val="000000"/>
              </a:solidFill>
              <a:latin typeface="Arial"/>
            </a:endParaRPr>
          </a:p>
        </p:txBody>
      </p:sp>
      <p:sp>
        <p:nvSpPr>
          <p:cNvPr id="569" name="Rounded Rectangle 6"/>
          <p:cNvSpPr/>
          <p:nvPr/>
        </p:nvSpPr>
        <p:spPr>
          <a:xfrm>
            <a:off x="2590920" y="2819520"/>
            <a:ext cx="327636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cer</a:t>
            </a:r>
            <a:endParaRPr b="0" lang="en-US" sz="2800" spc="-1" strike="noStrike">
              <a:solidFill>
                <a:srgbClr val="000000"/>
              </a:solidFill>
              <a:latin typeface="Arial"/>
            </a:endParaRPr>
          </a:p>
        </p:txBody>
      </p:sp>
      <p:sp>
        <p:nvSpPr>
          <p:cNvPr id="570" name="Rounded Rectangle 7"/>
          <p:cNvSpPr/>
          <p:nvPr/>
        </p:nvSpPr>
        <p:spPr>
          <a:xfrm>
            <a:off x="2590920" y="3581280"/>
            <a:ext cx="327636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r</a:t>
            </a:r>
            <a:endParaRPr b="0" lang="en-US" sz="2800" spc="-1" strike="noStrike">
              <a:solidFill>
                <a:srgbClr val="000000"/>
              </a:solidFill>
              <a:latin typeface="Arial"/>
            </a:endParaRPr>
          </a:p>
        </p:txBody>
      </p:sp>
      <p:sp>
        <p:nvSpPr>
          <p:cNvPr id="571" name="Rounded Rectangle 8"/>
          <p:cNvSpPr/>
          <p:nvPr/>
        </p:nvSpPr>
        <p:spPr>
          <a:xfrm>
            <a:off x="2590920" y="4343400"/>
            <a:ext cx="327636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er</a:t>
            </a:r>
            <a:endParaRPr b="0" lang="en-US" sz="2800" spc="-1" strike="noStrike">
              <a:solidFill>
                <a:srgbClr val="000000"/>
              </a:solidFill>
              <a:latin typeface="Arial"/>
            </a:endParaRPr>
          </a:p>
        </p:txBody>
      </p:sp>
      <p:sp>
        <p:nvSpPr>
          <p:cNvPr id="572" name="Rounded Rectangle 9"/>
          <p:cNvSpPr/>
          <p:nvPr/>
        </p:nvSpPr>
        <p:spPr>
          <a:xfrm>
            <a:off x="2590920" y="5105520"/>
            <a:ext cx="327636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a:t>
            </a: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havioral Segmentation: Behavioral Variables</a:t>
            </a:r>
            <a:endParaRPr b="1" lang="en-US" sz="3600" spc="-1" strike="noStrike">
              <a:solidFill>
                <a:srgbClr val="000000"/>
              </a:solidFill>
              <a:latin typeface="Arial"/>
            </a:endParaRPr>
          </a:p>
        </p:txBody>
      </p:sp>
      <p:sp>
        <p:nvSpPr>
          <p:cNvPr id="574" name=""/>
          <p:cNvSpPr txBox="1"/>
          <p:nvPr/>
        </p:nvSpPr>
        <p:spPr>
          <a:xfrm>
            <a:off x="761760" y="1828440"/>
            <a:ext cx="3771720" cy="4343400"/>
          </a:xfrm>
          <a:prstGeom prst="rect">
            <a:avLst/>
          </a:prstGeom>
          <a:noFill/>
          <a:ln w="0">
            <a:noFill/>
          </a:ln>
        </p:spPr>
        <p:txBody>
          <a:bodyPr anchor="t">
            <a:normAutofit/>
          </a:bodyPr>
          <a:p>
            <a:pPr marL="343080" indent="-343080">
              <a:spcBef>
                <a:spcPts val="400"/>
              </a:spcBef>
              <a:spcAft>
                <a:spcPts val="4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asions</a:t>
            </a:r>
            <a:endParaRPr b="0" lang="en-US" sz="3200" spc="-1" strike="noStrike">
              <a:solidFill>
                <a:srgbClr val="000000"/>
              </a:solidFill>
              <a:latin typeface="Arial"/>
            </a:endParaRPr>
          </a:p>
          <a:p>
            <a:pPr marL="343080" indent="-343080">
              <a:spcBef>
                <a:spcPts val="400"/>
              </a:spcBef>
              <a:spcAft>
                <a:spcPts val="4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a:t>
            </a:r>
            <a:endParaRPr b="0" lang="en-US" sz="3200" spc="-1" strike="noStrike">
              <a:solidFill>
                <a:srgbClr val="000000"/>
              </a:solidFill>
              <a:latin typeface="Arial"/>
            </a:endParaRPr>
          </a:p>
          <a:p>
            <a:pPr marL="343080" indent="-343080">
              <a:spcBef>
                <a:spcPts val="400"/>
              </a:spcBef>
              <a:spcAft>
                <a:spcPts val="4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Status</a:t>
            </a:r>
            <a:endParaRPr b="0" lang="en-US" sz="3200" spc="-1" strike="noStrike">
              <a:solidFill>
                <a:srgbClr val="000000"/>
              </a:solidFill>
              <a:latin typeface="Arial"/>
            </a:endParaRPr>
          </a:p>
          <a:p>
            <a:pPr marL="343080" indent="-343080">
              <a:spcBef>
                <a:spcPts val="400"/>
              </a:spcBef>
              <a:spcAft>
                <a:spcPts val="4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ge Rate</a:t>
            </a:r>
            <a:endParaRPr b="0" lang="en-US" sz="3200" spc="-1" strike="noStrike">
              <a:solidFill>
                <a:srgbClr val="000000"/>
              </a:solidFill>
              <a:latin typeface="Arial"/>
            </a:endParaRPr>
          </a:p>
        </p:txBody>
      </p:sp>
      <p:sp>
        <p:nvSpPr>
          <p:cNvPr id="575" name=""/>
          <p:cNvSpPr txBox="1"/>
          <p:nvPr/>
        </p:nvSpPr>
        <p:spPr>
          <a:xfrm>
            <a:off x="4686120" y="1752120"/>
            <a:ext cx="3771720" cy="441972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er-Readin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yalty Statu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1F1C8E98-AB3F-4257-B45D-C0BC9DD50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8.2 Example of a Brand Funnel</a:t>
            </a:r>
            <a:endParaRPr b="1" lang="en-US" sz="3200" spc="-1" strike="noStrike">
              <a:solidFill>
                <a:srgbClr val="000000"/>
              </a:solidFill>
              <a:latin typeface="Arial"/>
            </a:endParaRPr>
          </a:p>
        </p:txBody>
      </p:sp>
      <p:sp>
        <p:nvSpPr>
          <p:cNvPr id="57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F8E5900A-0492-4059-9FF8-E48175031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9" name="Picture 2" descr=""/>
          <p:cNvPicPr/>
          <p:nvPr/>
        </p:nvPicPr>
        <p:blipFill>
          <a:blip r:embed="rId1"/>
          <a:stretch/>
        </p:blipFill>
        <p:spPr>
          <a:xfrm>
            <a:off x="990720" y="1905120"/>
            <a:ext cx="6386400" cy="32940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4DE8131E-8014-4AD5-AFBC-F8042374C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yalty Status</a:t>
            </a:r>
            <a:endParaRPr b="1" lang="en-US" sz="3600" spc="-1" strike="noStrike">
              <a:solidFill>
                <a:srgbClr val="000000"/>
              </a:solidFill>
              <a:latin typeface="Arial"/>
            </a:endParaRPr>
          </a:p>
        </p:txBody>
      </p:sp>
      <p:sp>
        <p:nvSpPr>
          <p:cNvPr id="58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co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it loya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fting loya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ers</a:t>
            </a:r>
            <a:endParaRPr b="0" lang="en-US" sz="2800" spc="-1" strike="noStrike">
              <a:solidFill>
                <a:srgbClr val="000000"/>
              </a:solidFill>
              <a:latin typeface="Arial"/>
            </a:endParaRPr>
          </a:p>
        </p:txBody>
      </p:sp>
      <p:sp>
        <p:nvSpPr>
          <p:cNvPr id="583" name="AutoShape 3"/>
          <p:cNvSpPr/>
          <p:nvPr/>
        </p:nvSpPr>
        <p:spPr>
          <a:xfrm>
            <a:off x="2590920" y="1828800"/>
            <a:ext cx="5790960" cy="4191120"/>
          </a:xfrm>
          <a:prstGeom prst="triangle">
            <a:avLst>
              <a:gd name="adj" fmla="val 50000"/>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AutoShape 7"/>
          <p:cNvSpPr/>
          <p:nvPr/>
        </p:nvSpPr>
        <p:spPr>
          <a:xfrm>
            <a:off x="4267080" y="2362320"/>
            <a:ext cx="2438640" cy="2057400"/>
          </a:xfrm>
          <a:prstGeom prst="triangle">
            <a:avLst>
              <a:gd name="adj" fmla="val 50000"/>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5" name="Picture 1" descr=""/>
          <p:cNvPicPr/>
          <p:nvPr/>
        </p:nvPicPr>
        <p:blipFill>
          <a:blip r:embed="rId1"/>
          <a:stretch/>
        </p:blipFill>
        <p:spPr>
          <a:xfrm>
            <a:off x="3809880" y="2133720"/>
            <a:ext cx="3875040" cy="35337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8.3 Behavioral Segmentation Breakdown</a:t>
            </a:r>
            <a:endParaRPr b="1" lang="en-US" sz="3600" spc="-1" strike="noStrike">
              <a:solidFill>
                <a:srgbClr val="000000"/>
              </a:solidFill>
              <a:latin typeface="Arial"/>
            </a:endParaRPr>
          </a:p>
        </p:txBody>
      </p:sp>
      <p:sp>
        <p:nvSpPr>
          <p:cNvPr id="58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C3346915-C32B-4949-9E60-354AB91B6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88" name="Picture 2" descr=""/>
          <p:cNvPicPr/>
          <p:nvPr/>
        </p:nvPicPr>
        <p:blipFill>
          <a:blip r:embed="rId1"/>
          <a:srcRect l="11223" t="0" r="19654" b="0"/>
          <a:stretch/>
        </p:blipFill>
        <p:spPr>
          <a:xfrm>
            <a:off x="1066680" y="1676520"/>
            <a:ext cx="6248520" cy="4647960"/>
          </a:xfrm>
          <a:prstGeom prst="rect">
            <a:avLst/>
          </a:prstGeom>
          <a:ln w="0">
            <a:noFill/>
          </a:ln>
        </p:spPr>
      </p:pic>
      <p:sp>
        <p:nvSpPr>
          <p:cNvPr id="589" name="Rectangle 5"/>
          <p:cNvSpPr/>
          <p:nvPr/>
        </p:nvSpPr>
        <p:spPr>
          <a:xfrm>
            <a:off x="6172200" y="1600200"/>
            <a:ext cx="1295280" cy="1219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8A6FD135-C92F-4B7B-8E8A-0001143E0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2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t levels of market segment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a company divide a market into segm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quirements for effective segment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business markets be segment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a company choose the most attractive target markets?</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9A3450E4-6BF7-445D-B4A1-F7BF54C9F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gmenting for Business Markets</a:t>
            </a:r>
            <a:endParaRPr b="1" lang="en-US" sz="3200" spc="-1" strike="noStrike">
              <a:solidFill>
                <a:srgbClr val="000000"/>
              </a:solidFill>
              <a:latin typeface="Arial"/>
            </a:endParaRPr>
          </a:p>
        </p:txBody>
      </p:sp>
      <p:sp>
        <p:nvSpPr>
          <p:cNvPr id="59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variab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ing approach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al facto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haracteristics</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B0B5C6F7-3E21-4277-990A-DA8542DE0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eps in Segmentation Process</a:t>
            </a:r>
            <a:endParaRPr b="1" lang="en-US" sz="3600" spc="-1" strike="noStrike">
              <a:solidFill>
                <a:srgbClr val="000000"/>
              </a:solidFill>
              <a:latin typeface="Arial"/>
            </a:endParaRPr>
          </a:p>
        </p:txBody>
      </p:sp>
      <p:sp>
        <p:nvSpPr>
          <p:cNvPr id="59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based segment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ment identific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ment attractiven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ment profitabi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ment position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ment acid tes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mix strategy</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597A8080-A97A-4A10-A533-1CB554A2C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 Segmentation Criteria</a:t>
            </a:r>
            <a:endParaRPr b="1" lang="en-US" sz="3200" spc="-1" strike="noStrike">
              <a:solidFill>
                <a:srgbClr val="000000"/>
              </a:solidFill>
              <a:latin typeface="Arial"/>
            </a:endParaRPr>
          </a:p>
        </p:txBody>
      </p:sp>
      <p:sp>
        <p:nvSpPr>
          <p:cNvPr id="598"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ab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a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ib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b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able</a:t>
            </a:r>
            <a:endParaRPr b="0" lang="en-US" sz="2800" spc="-1" strike="noStrike">
              <a:solidFill>
                <a:srgbClr val="000000"/>
              </a:solidFill>
              <a:latin typeface="Arial"/>
            </a:endParaRPr>
          </a:p>
        </p:txBody>
      </p:sp>
      <p:pic>
        <p:nvPicPr>
          <p:cNvPr id="599" name="Picture 2" descr="http://www.faqs.org/photo-dict/photofiles/list/620/4139ruler.jpg"/>
          <p:cNvPicPr/>
          <p:nvPr/>
        </p:nvPicPr>
        <p:blipFill>
          <a:blip r:embed="rId1"/>
          <a:stretch/>
        </p:blipFill>
        <p:spPr>
          <a:xfrm>
            <a:off x="3886200" y="2514600"/>
            <a:ext cx="3184560" cy="243828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rter’s 5 Forces Model</a:t>
            </a:r>
            <a:endParaRPr b="1" lang="en-US" sz="3600" spc="-1" strike="noStrike">
              <a:solidFill>
                <a:srgbClr val="000000"/>
              </a:solidFill>
              <a:latin typeface="Arial"/>
            </a:endParaRPr>
          </a:p>
        </p:txBody>
      </p:sp>
      <p:sp>
        <p:nvSpPr>
          <p:cNvPr id="60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768FCAD0-EEE5-4293-BF89-883947336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Rectangle 6"/>
          <p:cNvSpPr/>
          <p:nvPr/>
        </p:nvSpPr>
        <p:spPr>
          <a:xfrm>
            <a:off x="3200400" y="1676520"/>
            <a:ext cx="2133720" cy="106668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t of Rivalry</a:t>
            </a:r>
            <a:endParaRPr b="0" lang="en-US" sz="1800" spc="-1" strike="noStrike">
              <a:solidFill>
                <a:srgbClr val="000000"/>
              </a:solidFill>
              <a:latin typeface="Arial"/>
            </a:endParaRPr>
          </a:p>
        </p:txBody>
      </p:sp>
      <p:sp>
        <p:nvSpPr>
          <p:cNvPr id="603" name="Rectangle 7"/>
          <p:cNvSpPr/>
          <p:nvPr/>
        </p:nvSpPr>
        <p:spPr>
          <a:xfrm>
            <a:off x="4572000" y="2971800"/>
            <a:ext cx="2133720" cy="106668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t of Suppli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gaining Power</a:t>
            </a:r>
            <a:endParaRPr b="0" lang="en-US" sz="1800" spc="-1" strike="noStrike">
              <a:solidFill>
                <a:srgbClr val="000000"/>
              </a:solidFill>
              <a:latin typeface="Arial"/>
            </a:endParaRPr>
          </a:p>
        </p:txBody>
      </p:sp>
      <p:sp>
        <p:nvSpPr>
          <p:cNvPr id="604" name="Rectangle 8"/>
          <p:cNvSpPr/>
          <p:nvPr/>
        </p:nvSpPr>
        <p:spPr>
          <a:xfrm>
            <a:off x="1905120" y="2971800"/>
            <a:ext cx="2133360" cy="106668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t of Buyer Bargaining Power</a:t>
            </a:r>
            <a:endParaRPr b="0" lang="en-US" sz="1800" spc="-1" strike="noStrike">
              <a:solidFill>
                <a:srgbClr val="000000"/>
              </a:solidFill>
              <a:latin typeface="Arial"/>
            </a:endParaRPr>
          </a:p>
        </p:txBody>
      </p:sp>
      <p:sp>
        <p:nvSpPr>
          <p:cNvPr id="605" name="Rectangle 9"/>
          <p:cNvSpPr/>
          <p:nvPr/>
        </p:nvSpPr>
        <p:spPr>
          <a:xfrm>
            <a:off x="4572000" y="4267080"/>
            <a:ext cx="2133720" cy="106704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t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Entrants</a:t>
            </a:r>
            <a:endParaRPr b="0" lang="en-US" sz="1800" spc="-1" strike="noStrike">
              <a:solidFill>
                <a:srgbClr val="000000"/>
              </a:solidFill>
              <a:latin typeface="Arial"/>
            </a:endParaRPr>
          </a:p>
        </p:txBody>
      </p:sp>
      <p:sp>
        <p:nvSpPr>
          <p:cNvPr id="606" name="Rectangle 10"/>
          <p:cNvSpPr/>
          <p:nvPr/>
        </p:nvSpPr>
        <p:spPr>
          <a:xfrm>
            <a:off x="1905120" y="4267080"/>
            <a:ext cx="2133360" cy="106704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t of Substitutes</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8.4 Possible Levels </a:t>
            </a:r>
            <a:br>
              <a:rPr sz="3600"/>
            </a:br>
            <a:r>
              <a:rPr b="1" lang="en-US" sz="3600" spc="-1" strike="noStrike">
                <a:solidFill>
                  <a:srgbClr val="000000"/>
                </a:solidFill>
                <a:latin typeface="Arial"/>
              </a:rPr>
              <a:t>of Segmentation</a:t>
            </a:r>
            <a:endParaRPr b="1" lang="en-US" sz="3600" spc="-1" strike="noStrike">
              <a:solidFill>
                <a:srgbClr val="000000"/>
              </a:solidFill>
              <a:latin typeface="Arial"/>
            </a:endParaRPr>
          </a:p>
        </p:txBody>
      </p:sp>
      <p:sp>
        <p:nvSpPr>
          <p:cNvPr id="60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2FEF4FC2-33B8-4CC4-842D-36EE36DFB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09" name="Picture 2" descr=""/>
          <p:cNvPicPr/>
          <p:nvPr/>
        </p:nvPicPr>
        <p:blipFill>
          <a:blip r:embed="rId1"/>
          <a:stretch/>
        </p:blipFill>
        <p:spPr>
          <a:xfrm>
            <a:off x="328680" y="2286000"/>
            <a:ext cx="7893000" cy="24717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11"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t levels of market segment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a company divide a market into segm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quirements for effective segment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business markets be segment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a company choose the most attractive target marke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FDEDD9AF-1ADC-491A-8440-DBABB1855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0FF98B1D-23AC-4625-8B38-A22316752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fective Targeting Requires…</a:t>
            </a:r>
            <a:endParaRPr b="1" lang="en-US" sz="3600" spc="-1" strike="noStrike">
              <a:solidFill>
                <a:srgbClr val="000000"/>
              </a:solidFill>
              <a:latin typeface="Arial"/>
            </a:endParaRPr>
          </a:p>
        </p:txBody>
      </p:sp>
      <p:sp>
        <p:nvSpPr>
          <p:cNvPr id="528"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nd profile distinct groups of buyers who differ in their needs and preferen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one or more market segments to ente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nd communicate the distinctive benefits of the market offering</a:t>
            </a: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56EC3E67-73CB-4B8B-9641-8239AB994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Market Segment?</a:t>
            </a:r>
            <a:endParaRPr b="1" lang="en-US" sz="3600" spc="-1" strike="noStrike">
              <a:solidFill>
                <a:srgbClr val="000000"/>
              </a:solidFill>
              <a:latin typeface="Arial"/>
            </a:endParaRPr>
          </a:p>
        </p:txBody>
      </p:sp>
      <p:sp>
        <p:nvSpPr>
          <p:cNvPr id="531" name="PlaceHolder 2"/>
          <p:cNvSpPr>
            <a:spLocks noGrp="1"/>
          </p:cNvSpPr>
          <p:nvPr>
            <p:ph/>
          </p:nvPr>
        </p:nvSpPr>
        <p:spPr>
          <a:xfrm>
            <a:off x="762120" y="1600200"/>
            <a:ext cx="685800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market segment</a:t>
            </a:r>
            <a:r>
              <a:rPr b="0" lang="en-US" sz="2800" spc="-1" strike="noStrike">
                <a:solidFill>
                  <a:srgbClr val="000000"/>
                </a:solidFill>
                <a:latin typeface="Arial"/>
              </a:rPr>
              <a:t> consists of a group of customers who share a similar set of </a:t>
            </a:r>
            <a:endParaRPr b="0" lang="en-US" sz="2800" spc="-1" strike="noStrike">
              <a:solidFill>
                <a:srgbClr val="000000"/>
              </a:solidFill>
              <a:latin typeface="Arial"/>
            </a:endParaRPr>
          </a:p>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nd wants. </a:t>
            </a:r>
            <a:endParaRPr b="0" lang="en-US" sz="2800" spc="-1" strike="noStrike">
              <a:solidFill>
                <a:srgbClr val="000000"/>
              </a:solidFill>
              <a:latin typeface="Arial"/>
            </a:endParaRPr>
          </a:p>
        </p:txBody>
      </p:sp>
      <p:pic>
        <p:nvPicPr>
          <p:cNvPr id="532" name="Picture 2" descr=""/>
          <p:cNvPicPr/>
          <p:nvPr/>
        </p:nvPicPr>
        <p:blipFill>
          <a:blip r:embed="rId1"/>
          <a:stretch/>
        </p:blipFill>
        <p:spPr>
          <a:xfrm>
            <a:off x="2209680" y="2666880"/>
            <a:ext cx="2055960" cy="312444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765BD633-9A1D-46C8-A090-E2DE62540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gmenting Consumer Markets</a:t>
            </a:r>
            <a:endParaRPr b="1" lang="en-US" sz="3600" spc="-1" strike="noStrike">
              <a:solidFill>
                <a:srgbClr val="000000"/>
              </a:solidFill>
              <a:latin typeface="Arial"/>
            </a:endParaRPr>
          </a:p>
        </p:txBody>
      </p:sp>
      <p:sp>
        <p:nvSpPr>
          <p:cNvPr id="535" name="Rounded Rectangle 4"/>
          <p:cNvSpPr/>
          <p:nvPr/>
        </p:nvSpPr>
        <p:spPr>
          <a:xfrm>
            <a:off x="2286000" y="1981080"/>
            <a:ext cx="396252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a:t>
            </a:r>
            <a:endParaRPr b="0" lang="en-US" sz="2800" spc="-1" strike="noStrike">
              <a:solidFill>
                <a:srgbClr val="000000"/>
              </a:solidFill>
              <a:latin typeface="Arial"/>
            </a:endParaRPr>
          </a:p>
        </p:txBody>
      </p:sp>
      <p:sp>
        <p:nvSpPr>
          <p:cNvPr id="536" name="Rounded Rectangle 5"/>
          <p:cNvSpPr/>
          <p:nvPr/>
        </p:nvSpPr>
        <p:spPr>
          <a:xfrm>
            <a:off x="2286000" y="2743200"/>
            <a:ext cx="396252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a:t>
            </a:r>
            <a:endParaRPr b="0" lang="en-US" sz="2800" spc="-1" strike="noStrike">
              <a:solidFill>
                <a:srgbClr val="000000"/>
              </a:solidFill>
              <a:latin typeface="Arial"/>
            </a:endParaRPr>
          </a:p>
        </p:txBody>
      </p:sp>
      <p:sp>
        <p:nvSpPr>
          <p:cNvPr id="537" name="Rounded Rectangle 6"/>
          <p:cNvSpPr/>
          <p:nvPr/>
        </p:nvSpPr>
        <p:spPr>
          <a:xfrm>
            <a:off x="2286000" y="3505320"/>
            <a:ext cx="396252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graphic</a:t>
            </a:r>
            <a:endParaRPr b="0" lang="en-US" sz="2800" spc="-1" strike="noStrike">
              <a:solidFill>
                <a:srgbClr val="000000"/>
              </a:solidFill>
              <a:latin typeface="Arial"/>
            </a:endParaRPr>
          </a:p>
        </p:txBody>
      </p:sp>
      <p:sp>
        <p:nvSpPr>
          <p:cNvPr id="538" name="Rounded Rectangle 7"/>
          <p:cNvSpPr/>
          <p:nvPr/>
        </p:nvSpPr>
        <p:spPr>
          <a:xfrm>
            <a:off x="2286000" y="4267080"/>
            <a:ext cx="396252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al</a:t>
            </a:r>
            <a:endParaRPr b="0"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ographic Segmentation</a:t>
            </a:r>
            <a:endParaRPr b="1" lang="en-US" sz="3600" spc="-1" strike="noStrike">
              <a:solidFill>
                <a:srgbClr val="000000"/>
              </a:solidFill>
              <a:latin typeface="Arial"/>
            </a:endParaRPr>
          </a:p>
        </p:txBody>
      </p:sp>
      <p:sp>
        <p:nvSpPr>
          <p:cNvPr id="54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E3ECACC7-4653-4A11-AC39-A7653AB18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41" name="Picture 2" descr=""/>
          <p:cNvPicPr/>
          <p:nvPr/>
        </p:nvPicPr>
        <p:blipFill>
          <a:blip r:embed="rId1"/>
          <a:stretch/>
        </p:blipFill>
        <p:spPr>
          <a:xfrm>
            <a:off x="2057400" y="1371600"/>
            <a:ext cx="4191120" cy="44686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2293839C-AE97-4B7D-ABAE-639A18EF9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ritas’ Prizm</a:t>
            </a:r>
            <a:endParaRPr b="1" lang="en-US" sz="3600" spc="-1" strike="noStrike">
              <a:solidFill>
                <a:srgbClr val="000000"/>
              </a:solidFill>
              <a:latin typeface="Arial"/>
            </a:endParaRPr>
          </a:p>
        </p:txBody>
      </p:sp>
      <p:sp>
        <p:nvSpPr>
          <p:cNvPr id="54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and afflue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life cyc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baniz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e and ethnic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bility</a:t>
            </a:r>
            <a:endParaRPr b="0" lang="en-US" sz="2800" spc="-1" strike="noStrike">
              <a:solidFill>
                <a:srgbClr val="000000"/>
              </a:solidFill>
              <a:latin typeface="Arial"/>
            </a:endParaRPr>
          </a:p>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CF194819-CCAE-4BB0-B0C2-95A495C43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mographic Segmentation</a:t>
            </a:r>
            <a:endParaRPr b="1" lang="en-US" sz="3600" spc="-1" strike="noStrike">
              <a:solidFill>
                <a:srgbClr val="000000"/>
              </a:solidFill>
              <a:latin typeface="Arial"/>
            </a:endParaRPr>
          </a:p>
        </p:txBody>
      </p:sp>
      <p:sp>
        <p:nvSpPr>
          <p:cNvPr id="54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 and life cyc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sta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cla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e and Culture</a:t>
            </a:r>
            <a:endParaRPr b="0"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e and Lifecycle Stage</a:t>
            </a:r>
            <a:endParaRPr b="1" lang="en-US" sz="3600" spc="-1" strike="noStrike">
              <a:solidFill>
                <a:srgbClr val="000000"/>
              </a:solidFill>
              <a:latin typeface="Arial"/>
            </a:endParaRPr>
          </a:p>
        </p:txBody>
      </p:sp>
      <p:sp>
        <p:nvSpPr>
          <p:cNvPr id="54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a:t>
            </a:r>
            <a:fld id="{CC2B1120-928A-4D85-8765-C68F46FBC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0" name="Picture 2" descr=""/>
          <p:cNvPicPr/>
          <p:nvPr/>
        </p:nvPicPr>
        <p:blipFill>
          <a:blip r:embed="rId1"/>
          <a:stretch/>
        </p:blipFill>
        <p:spPr>
          <a:xfrm>
            <a:off x="1905120" y="1447920"/>
            <a:ext cx="4495680" cy="37922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2:34Z</dcterms:modified>
  <cp:revision>418</cp:revision>
  <dc:subject/>
  <dc:title>Kotler Keller 2</dc:title>
</cp:coreProperties>
</file>