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050C-C537-43CC-8100-F8BE487E9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79CF-981E-437C-9FAD-B602EA13D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flying for only a few years, Virgin America became an award-winning airline that passengers adore and that makes money. It is not unusual for the company to receive e-mails from customers saying they actually wished their flights lasted longer! Virgin America set out to reinvent the entire travel experience, starting with an easy-to-use and friendly Web site and check-in. In flight, passengers revel in Wi-Fi, spacious leather seats, mood lighting, and in-seat food and beverage ordering through touch-screen panels.</a:t>
            </a:r>
            <a:endParaRPr b="0" lang="en-US" sz="1200" spc="-1" strike="noStrike">
              <a:solidFill>
                <a:srgbClr val="000000"/>
              </a:solidFill>
              <a:latin typeface="Arial"/>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604B-A4B3-4D25-89D6-30518371C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4F21-C534-40D9-BCFE-030FBDAF8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brand makes a promise to its customers. The promise is expressed in the brand’s promotional work but must be delivered when the product is us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FDF8-2FFA-42C7-B542-3ED4E90B3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rketers agree about basic branding principles, a number of models of brand equity offer some differing perspectiv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2906-EED1-435A-9F15-7E9A9F972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gency Young and Rubicam (Y&amp;R) developed a model of brand equity called the BrandAsset® Valuator (BAV). Based on research with almost 800,000 consumers in 51 countries, BAV compares the brand equity of thousands of brands across hundreds of different categories. There are four key components—or pillars—of brand equity, according to BAV (see Figure 9.1). Energized differentiation measures the degree to which a brand is seen as different from others, and its perceived momentum and leadership. Relevance measures the appropriateness and breadth of a brand’s appeal. Esteem measures perceptions of quality and loyalty, or how well the brand is regarded and respected. Knowledge measures how aware and familiar consumers are with the brand. The relationships among these dimensions—a brand’s “pillar pattern”—reveal much about a brand’s current and future statu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ized differentiation and relevance combine to determine brand strength—a leading indicator that predicts future growth and value. Esteem and knowledge together create brand stature, a “report card” on past performance and a current indicator of current value. The relationships among these dimensions—a brand’s “pillar pattern”—reveal much about a brand’s current and future status. Energized brand strength and brand stature combine to form the power grid, depicting stages in the cycle of brand development in successive quadrants (see Figure 9.2). Strong new brands show higher levels of differentiation and energy than relevance, whereas both esteem and knowledge are lower still. Leadership brands show high levels on all pillars. Finally, declining brands show high knowledge—evidence of past performance— a lower level of esteem, and even lower relevance, energy, and differentiation.</a:t>
            </a:r>
            <a:endParaRPr b="0" lang="en-US" sz="1200" spc="-1" strike="noStrike">
              <a:solidFill>
                <a:srgbClr val="000000"/>
              </a:solidFill>
              <a:latin typeface="Arial"/>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7DD4-6116-4755-A91C-27B332C7F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research consultants Millward Brown and WPP have developed the BrandZ model of brand strength, at the heart of which is the BrandDynamics pyramid. According to this model, brand building follows a series of steps (see Figure 9.3). For any one brand, each person interviewed is assigned to one level of the pyramid depending on their responses to a set of questions. The BrandDynamics Pyramid shows the number of consumers who have reached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nding. Rational and emotional attachments to the brand to the exclusion of most other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vantage. Belief that the brand has an emotional or rational advantage over other brands in the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formance. Belief that it delivers acceptable product performance and is on the consumer’s short-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evance. Relevance to consumer’s needs, in the right price range or in the consideration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ce. Active familiarity based on past trial, saliency, or knowledge of brand pro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re consumers at the lower levels, so the challenge for marketers is to help them move up.</a:t>
            </a:r>
            <a:endParaRPr b="0" lang="en-US" sz="1200" spc="-1" strike="noStrike">
              <a:solidFill>
                <a:srgbClr val="000000"/>
              </a:solidFill>
              <a:latin typeface="Arial"/>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B423-F3AF-4448-BBA3-3297EDFF0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and resonance model also views brand building as an ascending series of steps, from bottom to top: (1) ensuring customers identify the brand and associate it with a specific product class or need; (2) firmly establishing the brand meaning in customers’ minds by strategically linking a host of tangible and intangible brand associations; (3) eliciting the proper customer responses in terms of brand-related judgment and feelings; and (4) converting customers’ brand response to an intense, active loyalty. According to this model, enacting the four steps means establishing a pyramid of six “brand building blocks” as illustrated in Figure 9.4. The model emphasizes the duality of brands—the rational route to brand building is on the left side of the pyramid and the emotional route is on the right side.</a:t>
            </a:r>
            <a:endParaRPr b="0" lang="en-US" sz="1200" spc="-1" strike="noStrike">
              <a:solidFill>
                <a:srgbClr val="000000"/>
              </a:solidFill>
              <a:latin typeface="Arial"/>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4859-66F7-48FD-861E-FF02A9677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significant brand equity requires reaching the top of the brand pyramid, which occurs only if the right building blocks are put into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nd salience is how often and how easily customers think of the brand under various purchase or consumption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nd performance is how well the product or service meets customers’ functiona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nd imagery describes the extrinsic properties of the product or service, including the ways in which the brand attempts to meet customers’ psychological or socia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nd judgments focus on customers’ own personal opinions and eval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nd feelings are customers’ emotional responses and reactions with respect to the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nd resonance describes the relationship customers have with the brand and the extent to which they feel they’re “in sync” with it.</a:t>
            </a:r>
            <a:endParaRPr b="0" lang="en-US" sz="1200" spc="-1" strike="noStrike">
              <a:solidFill>
                <a:srgbClr val="000000"/>
              </a:solidFill>
              <a:latin typeface="Arial"/>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45DE-C23B-4A85-AEE6-FF536FD8E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erCard is a brand with duality, because it emphasizes both the rational advantages of the credit card—its acceptance at establishments worldwide—as well as the emotional advantages, expressed in the award-winning “Priceless” advertising campaign (“There are some things money can’t buy; for everything else, there’s MasterCard).</a:t>
            </a:r>
            <a:endParaRPr b="0" lang="en-US" sz="1200" spc="-1" strike="noStrike">
              <a:solidFill>
                <a:srgbClr val="000000"/>
              </a:solidFill>
              <a:latin typeface="Arial"/>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1A09-B42E-46FC-8EE7-C80FC982D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B1AF-62EB-4200-8207-25FA4EE75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 choices for the brand elements or identities making up the brand includes brand names, URLs, logos, symbols, characters, spokespeople, slogans, jingles, packages, and signage. Microsoft chose the name Bing for its new search engine because it felt it unambiguously conveyed search and the “aha” moment of finding what a person is looking for. It is also short, appealing, memorable, active, and effective multicultur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lso have to choose the product and service and all accompanying marketing activities and supporting marketing programs. Liz Claiborne’s fastest-growing label is Juicy Couture, whose edgy, contemporary sportswear and accessories have a strong lifestyle appeal to women, men, and kids. Positioned as an affordable luxury, the brand creates its exclusive cachet via limited distribution and a somewhat risqué name and rebellious attitude. Other associations indirectly transferred to the brand by linking it to some other entity (a person, place, or thing)—The brand name of New Zealand vodka 42BELOW refers to both a latitude that runs through New Zealand and the percentage of its alcohol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7167-DAFF-4B19-952C-43C6A1014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valuable intangible assets of a firm is its brands, and it is incumbent on marketing to properly manage their value. Building a strong brand is both an art and a science. It requires careful planning, a deep long-term commitment, and creatively designed and executed marketing. A strong brand commands intense consumer loyalty—at its heart is a great product or service. In this chapter, we focus on building brand equity and the benefits we derive from brand equit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9DFB-CB58-4BD3-91C1-E2667CD66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elements are devices, which can be trademarked, that identify and differentiate the brand. Most strong brands employ multiple brand elements. Nike has the distinctive “swoosh” logo, the empowering “Just Do It” slogan, and the “Nike” name from the Greek winged goddess of victory. Marketers should choose brand elements to build as much brand equity as possible. The test is what consumers would think or feel about the product if the brand element were all they knew. Based on its name alone, for instance, a consumer might expect SnackWell’s products to be healthful snack foods and Panasonic Toughbook laptop computers to be durable and reliab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6F0F-35EB-4A1C-AA7E-11E6465FF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ix criteria for choosing brand elements. The first three memorable, meaningful, and likable—are “brand building.” The latter three—transferable, adaptable, and protectable—are “defensive” and help leverage and preserve brand equity against challe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riteria can be assessed with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easily do consumers recall and recognize the brand element, and when—at both purchase and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brand element credible? Does it suggest the corresponding category and a product ingredient or the type of person who might use the br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esthetically appealing is the brand el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he brand element introduce new products in the same or different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daptable and updatable is the brand el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legally protectable is the brand element? How competitively protect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8E50-A6E7-4B04-B3C6-9A81BE387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brand names, slogans are an extremely efficient means to build brand equity. They can function as useful “hooks” to help consumers grasp what the brand is and what makes it special. Can you name the brands that match these sloga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nd final way to build brand equity is, in effect, to “borrow” it. That is, create brand equity by linking the brand to other information in memory that conveys meaning to consumers as shown in Figure 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ondary” brand associations can link the brand to sources, such as the company itself (through branding strategies), to countries or other geographical regions (through identification of product origin), and to channels of distribution (through channel strategy); as well as to other brands (through ingredient or co-branding), characters (through licensing), spokespeople (through endorsements), sporting or cultural events (through sponsorship), or some other third party sources (through awards or reviews).</a:t>
            </a:r>
            <a:endParaRPr b="0" lang="en-US" sz="1200" spc="-1" strike="noStrike">
              <a:solidFill>
                <a:srgbClr val="000000"/>
              </a:solidFill>
              <a:latin typeface="Arial"/>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14D9-963E-4290-8101-3DF521ADB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1A8D-E047-40A1-860B-904DCBD25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now “walk the walk” to deliver the brand promise. They must adopt an internal perspective to be sure employees and marketing partners appreciate and understand basic branding notions and how they can help—or hurt—brand equity. Internal branding consists of activities and processes that help inform and inspire employees. Brand bonding occurs when customers experience the company as delivering on its brand promise. All the customers’ contacts with company employees and communications must be positive. The brand promise will not be delivered unless everyone in the company lives the br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oose the right moment. Turning points are ideal opportunities to capture employees’ attention and imag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ink internal and external marketing. Internal and external messages must match. use of Interne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ring the brand alive for employees. Internal communications should be informative and energiz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and value chain is a structured approach to assessing the sources and outcomes of brand equity and the way marketing activities create brand value (see Figure 9.6). It is based on several premises. First, brand value creation begins when the firm targets actual or potential customers by investing in a marketing program to develop the brand, including product research, development, and design; trade or intermediary support; and marketing communications. Next, we assume customers’ mind-sets, buying behavior, and response to price will change as a result of the marketing program; the question is how. Finally, the investment community will consider market performance, replacement cost, and purchase price in acquisitions (among other factors) to assess shareholder value in general and the value of a brand in particular. The model also assumes that three multipliers moderate the transfer between the marketing program and the subsequent three value stages. The program multiplier determines the marketing program’s ability to affect the customer mind-set and is a function of the quality of the program investment. The customer multiplier determines the extent to which value created in the minds of customers affects market performance. The market multiplier determines the extent to which the value shown by the market performance of a brand is manifested in shareholder value.</a:t>
            </a:r>
            <a:endParaRPr b="0" lang="en-US" sz="1200" spc="-1" strike="noStrike">
              <a:solidFill>
                <a:srgbClr val="000000"/>
              </a:solidFill>
              <a:latin typeface="Arial"/>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2DCF-30BA-48FC-BFC8-B0C0E6B49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F1D3-0189-4E44-BC2A-1E82FE626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audit is a consumer-focused series of procedures to assess the health of the brand, uncover its sources of brand equity, and suggest ways to improve and leverage its equity. Marketers should conduct a brand audit when setting up marketing plans and when considering shifts in strategic direction. Conducting brand audits on a regular basis, such as annually, allows marketers to keep their fingers on the pulse of their brands so they can manage them more proactively and respons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tracking studies collect quantitative data from consumers over time to provide consistent, baseline information about how brands and marketing programs are performing. Tracking studies help us understand where, how much, and in what ways brand value is being created, to facilitate day-to-day decision making. Marketers should distinguish brand equity from brand valuation, which is the job of estimating the total financial value of the bran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3ED2-D11B-4527-BF97-38B7166A9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9.4 displays the world’s most valuable brands in 2009 according to one ranking. In these well-known companies, brand value is typically over half the total company market capitaliz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brand-management firm Interbrand has developed a model to formally estimate the dollar value of a brand. It defines brand value as the net present value of the future earnings that can be attributed to the brand alone. The firm believes marketing and financial analyses are equally important in determining the value of a brand. Its process follows five steps as shown in Figure 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rket Segmentation—The first step is to divide the market(s) in which the brand is sold into mutually exclusive segments that help determine variances in the brand’s economic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inancial Analysis—Interbrand assesses purchase price, volume, and frequency to help calculate accurate forecasts of future brand sales and reven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randing—Interbrand next attributes a proportion of Intangible Earnings to the brand in each market segment, by first identifying the various drivers of demand, then determining the degree to which the brand directly influences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Strength—Interbrand then assesses the brand’s strength profile to determine the likelihood that the brand will realize forecasted Brand Ear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we have the Brand Value Calculation—Brand Value is the net present value (NPV) of the forecasted Brand Earnings, discounted by the Brand Discount Rate. </a:t>
            </a:r>
            <a:endParaRPr b="0" lang="en-US"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5D71-A50C-49FC-B43E-F6A8BAEA5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4724-24D5-4D22-A928-ED2A6CFE1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can reinforce brand equity by consistently conveying the brand’s meaning in terms of: (1) What products it represents, what core benefits it supplies, and what needs it satisfies, and (2) how the brand makes products superior, and which strong, favorable, and unique brand associations should exist in consumers’ minds. Often, the first thing to do in revitalizing a brand is to understand what the sources of brand equity were to begin with. Are positive associations losing their strength or uniqueness? Have negative associations become linked to the brand? Then decide whether to retain the same positioning or create a new one, and if so, which new one. The beginning of the 21st century was not kind to 165-year-old Pabst Brewing Company. Revenue from its portfolio of legacy brands—including Pabst Blue Ribbon, Old Milwaukee, Lone Star, Rainier, Stroh’s, and Schlitz—declined from an overall barrelage of 9.5 million in 2000 to 6.5 million in 2005. In response, new management set the company on a new course, including contract brewing with carefully selected partners and a new emphasis on its distributor network. PBR, as it became known as, was suddenly hip. The brand’s resurgence was marked by a 25 percent increase in sales in 2009 that far exceeded even other sub-premium brew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03ED-80DC-48E4-812D-19F82BF55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successful 21st-century brands must excel at the strategic brand management process. Strategic brand management combines the design and implementation of marketing activities and programs to build, measure, and manage brands to maximize their value. The strategic brand management process has four mai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ing and establishing brand posi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ning and implementing brand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ing and interpreting bran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ing and sustaining brand value deals with brand positioning.</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6733-3490-4590-B6ED-E331A50A6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s branding strategy—often called the brand architecture—reflects the number and nature of both common and distinctive brand elements. Deciding how to brand new products is especially critical. A firm has three main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t can develop new brand elements for the new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t can apply some of its existing brand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t can use a combination of new and existing brand elemen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788C-7EBA-4B1A-AC7B-360DFA792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line consists of all products—original as well as line and category extensions—sold under a particular brand. A brand mix (or brand assortment) is the set of all brand lines that a particular seller makes. When a firm uses an established brand to introduce a new product, the product is called a brand extension. When marketers combine a new brand with an existing brand, the brand extension can also be called a sub-brand, such as Hershey Kisses candy, Adobe Acrobat software, Toyota Camry automobiles, and American Express Blue cards. The existing brand that gives birth to a brand extension or sub-brand is the parent brand. If the parent brand is already associated with multiple products through brand extensions, it can also be called a master brand or family brand. Brand extensions fall into two general categories:63 In a line extension, the parent brand covers a new product within a product category it currently serves, such as with new flavors, forms, colors, ingredients, and package sizes. In a category extension, marketers use the parent brand to enter a different product category, such as Swiss Army watches. Many companies are introducing branded variants, which are specific brand lines supplied to specific retailers or distribution channels. A licensed product is one whose brand name has been licensed to other manufacturers that actually make the produc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5D79-F201-4BFF-83AB-9274F0562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can only be stretched so far, and all the segments the firm would like to target may not view the same brand equally favorably. Marketers often need multiple brands in order to pursue these multiple segments. Some other reasons for introducing multiple brands in a category include increasing shelf presence and retailer dependence in the store, attracting consumers seeking variety, increasing internal competition within the firm, and yielding economies of scale in advertising, sales, merchandising, and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E8AF-406D-45B1-9E28-D79C7CBFB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s can also play a number of specific roles as part of a port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nker or “fighter” brands are positioned with respect to competitors’ brands so that more important (and more profitable) </a:t>
            </a:r>
            <a:r>
              <a:rPr b="0" i="1" lang="en-US" sz="1200" spc="-1" strike="noStrike">
                <a:solidFill>
                  <a:srgbClr val="000000"/>
                </a:solidFill>
                <a:latin typeface="Arial"/>
              </a:rPr>
              <a:t>flagship brands can retain their desired positioning. </a:t>
            </a:r>
            <a:r>
              <a:rPr b="0" lang="en-US" sz="1200" spc="-1" strike="noStrike">
                <a:solidFill>
                  <a:srgbClr val="000000"/>
                </a:solidFill>
                <a:latin typeface="Arial"/>
              </a:rPr>
              <a:t>Some brands may be kept around despite dwindling sales because they manage to maintain their profitability with virtually no marketing support. Companies can effectively “milk” these “cash cow” brands by capitalizing on their reservoir of brand equity. The role of a relatively low-priced brand in the portfolio often may be to attract customers to the brand franchise. Retailers like to feature these “traffic builders” because they are able to “trade up” customers to a higher-priced brand. The role of a relatively high-priced brand often is to add prestige and credibility to the entire portfoli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irms have decided to leverage their most valuable asset by introducing a host of new products under their strongest brand names. Most new products are in fact line extensions—typically 80 percent to 90 percent in any one year. Moreover, many of the most successful new products, as rated by various sources, are extensions. Two main advantages of brand extensions are that they can facilitate new-product acceptance and provide positive feedback to the parent brand and company.</a:t>
            </a:r>
            <a:endParaRPr b="0" lang="en-US" sz="1200" spc="-1" strike="noStrike">
              <a:solidFill>
                <a:srgbClr val="000000"/>
              </a:solidFill>
              <a:latin typeface="Arial"/>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03CE-B72C-4AAA-AFD0-04E1E7C85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hapter, we have addressed the key questions listed above.</a:t>
            </a:r>
            <a:endParaRPr b="0" lang="en-US" sz="1200" spc="-1" strike="noStrike">
              <a:solidFill>
                <a:srgbClr val="000000"/>
              </a:solidFill>
              <a:latin typeface="Arial"/>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FDF1-4290-4633-B77B-1AA29E25D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C422-338A-4D72-A23B-38660332D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distinctive skill of professional marketers is their ability to create, maintain, enhance, and protect brands.  The American Marketing Association defines a brand as “a name, term, sign, symbol, or design, or a combination of them, intended to identify the goods or services of one seller or group of sellers and to differentiate them from those of competitors.” A brand is thus a product or service whose dimensions differentiate it in some way from other products or services designed to satisfy the same need. These differences may be functional, rational, or tangible—related to product performance of the brand. They may also be more symbolic, emotional, or intangible—related to what the brand represents or means in a more abstract sen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D4A6-6624-450A-9C46-1DB2B5E00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s identify the source or maker of a product and allow consumers—either individuals or organizations—to assign responsibility for its performance to a particular manufacturer or distributor. Consumers may evaluate the identical product differently depending on how it is branded. They learn about brands through past experiences with the product and its marketing program, finding out which brands satisfy their needs and which do not. As consumers’ lives become more complicated, rushed, and time-starved, a brand’s ability to simplify decision making and reduce risk becomes invaluable. Brands also perform valuable functions for firms. First, they simplify product handling or tracing. Brands help to organize inventory and accounting records. A brand also offers the firm legal protection for unique features or aspects of the produ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2256-2600-4947-9CE1-D03D92C0A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and name can be protected through registered trademarks; manufacturing processes can be protected through patents; and packaging can be protected through copyrights and proprietary designs. These intellectual property rights ensure that the firm can safely invest in the brand and reap the benefits of a valuable asset. A credible brand signals a certain level of quality so that satisfied buyers can easily choose the product again. Brand loyalty provides predictability and security of demand for the firm, and it creates barriers to entry that make it difficult for other firms to enter the market. Loyalty also can translate into customer willingness to pay a higher price often 20 percent to 25 percent more than competing bran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B6EB-3E35-4E66-95AC-B047584AC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brand” a product? Although firms provide the impetus to brand creation through marketing programs and other activities, ultimately a brand resides in the minds of consumers. It is a perceptual entity rooted in reality but reflecting the perceptions and idiosyncrasies of consumers. Branding is endowing products and services with the power of a brand. It’s all about creating differences between products. Marketers need to teach consumers “who” the product is—by giving it a name and other brand elements to identify it—as well as what the product does and why consumers should care. Branding creates mental structures that help consumers organize their knowledge about products and services in a way that clarifies their decision making and, in the process, provides value to the fir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0BB3-7233-4B16-8BD5-1C743F971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equity is the added value endowed on products and services. It may be reflected in the way consumers think, feel, and act with respect to the brand, as well as in the prices, market share, and profitability the brand commands. Marketers and researchers use various perspectives to study brand equity. Customer-based approaches view it from the perspective of the consumer—either an individual or an organization— and recognize that the power of a brand lies in what customers have seen, read, heard, learned, thought, and felt about the brand over time. Customer-based brand equity is thus the differential effect brand knowledge has on consumer response to the marketing of that brand. A brand has positive customer-based brand equity when consumers react more favorably to a product and the way it is marketed when the brand is identified, than when it is not identified. A brand has negative customer-based brand equity if consumers react less favorably to marketing activity for the brand under the same circumstances. There are three key ingredients of customer-based brand equi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266D-96CC-442F-98AB-06023ED44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9.1 lists the advantages of strong brand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9-</a:t>
            </a:r>
            <a:fld id="{80EA79A3-48AC-49A6-8397-3FCE506A3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DCA39119-12B1-4509-939F-AAD5E189AE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74A3070A-3734-416C-9F71-1AD6F7BEC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B6E24FA-FF13-4307-B572-1ACB1D4D99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20" name="PlaceHolder 3"/>
          <p:cNvSpPr>
            <a:spLocks noGrp="1"/>
          </p:cNvSpPr>
          <p:nvPr>
            <p:ph type="ftr" idx="12"/>
          </p:nvPr>
        </p:nvSpPr>
        <p:spPr>
          <a:xfrm>
            <a:off x="228240" y="6381360"/>
            <a:ext cx="8534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9-</a:t>
            </a:r>
            <a:fld id="{7B66EE38-66E6-49F3-8799-040E86A4A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a:t>
            </a:r>
            <a:fld id="{D8D37F40-8D62-421B-9F44-C1E8C9CF3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48D7C197-20C0-4BEB-85D6-D93AAD9CD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a:t>
            </a:r>
            <a:fld id="{6B6A0D79-02FE-4F74-845B-A95D9C497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0BB78C5E-4040-45F5-A561-54DF4DB00D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a:t>
            </a:r>
            <a:fld id="{C95D07FC-24FB-42B4-ABFC-96866207E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a:t>
            </a:r>
            <a:fld id="{CA077E73-7235-4F19-B74E-A73A56128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FB0A240-67CD-46C4-AD04-A7C045317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9</a:t>
            </a:r>
            <a:br>
              <a:rPr sz="4000"/>
            </a:br>
            <a:r>
              <a:rPr b="1" lang="en-US" sz="4000" spc="-1" strike="noStrike">
                <a:solidFill>
                  <a:srgbClr val="000000"/>
                </a:solidFill>
                <a:latin typeface="Garamond"/>
              </a:rPr>
              <a:t>Creating Brand Equity </a:t>
            </a:r>
            <a:endParaRPr b="1" lang="en-US" sz="4000" spc="-1" strike="noStrike">
              <a:solidFill>
                <a:srgbClr val="000000"/>
              </a:solidFill>
              <a:latin typeface="Arial"/>
            </a:endParaRPr>
          </a:p>
        </p:txBody>
      </p:sp>
      <p:sp>
        <p:nvSpPr>
          <p:cNvPr id="565"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gin Atlantic’s Brand Promise</a:t>
            </a:r>
            <a:endParaRPr b="1" lang="en-US" sz="3600" spc="-1" strike="noStrike">
              <a:solidFill>
                <a:srgbClr val="000000"/>
              </a:solidFill>
              <a:latin typeface="Arial"/>
            </a:endParaRPr>
          </a:p>
        </p:txBody>
      </p:sp>
      <p:sp>
        <p:nvSpPr>
          <p:cNvPr id="59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61D9F54A-1005-4948-A0BD-5338C2CE2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4" name="Picture 2" descr=""/>
          <p:cNvPicPr/>
          <p:nvPr/>
        </p:nvPicPr>
        <p:blipFill>
          <a:blip r:embed="rId1"/>
          <a:stretch/>
        </p:blipFill>
        <p:spPr>
          <a:xfrm>
            <a:off x="1523880" y="1523880"/>
            <a:ext cx="5410440" cy="42832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29C903FB-F911-423A-BB3D-9F39FA1D8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Brand Promise?</a:t>
            </a:r>
            <a:endParaRPr b="1" lang="en-US" sz="3600" spc="-1" strike="noStrike">
              <a:solidFill>
                <a:srgbClr val="000000"/>
              </a:solidFill>
              <a:latin typeface="Arial"/>
            </a:endParaRPr>
          </a:p>
        </p:txBody>
      </p:sp>
      <p:sp>
        <p:nvSpPr>
          <p:cNvPr id="59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brand promise</a:t>
            </a:r>
            <a:r>
              <a:rPr b="0" lang="en-US" sz="2800" spc="-1" strike="noStrike">
                <a:solidFill>
                  <a:srgbClr val="000000"/>
                </a:solidFill>
                <a:latin typeface="Arial"/>
              </a:rPr>
              <a:t> is the marketer’s vision of what the brand must be and do for consumers.</a:t>
            </a: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8" name="Picture 2" descr=""/>
          <p:cNvPicPr/>
          <p:nvPr/>
        </p:nvPicPr>
        <p:blipFill>
          <a:blip r:embed="rId1"/>
          <a:stretch/>
        </p:blipFill>
        <p:spPr>
          <a:xfrm>
            <a:off x="152280" y="2819520"/>
            <a:ext cx="8210520" cy="30668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9295C646-16C5-46BA-A840-8E651B6EE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nd Equity Models</a:t>
            </a:r>
            <a:endParaRPr b="1" lang="en-US" sz="3600" spc="-1" strike="noStrike">
              <a:solidFill>
                <a:srgbClr val="000000"/>
              </a:solidFill>
              <a:latin typeface="Arial"/>
            </a:endParaRPr>
          </a:p>
        </p:txBody>
      </p:sp>
      <p:sp>
        <p:nvSpPr>
          <p:cNvPr id="601" name="Rounded Rectangle 4"/>
          <p:cNvSpPr/>
          <p:nvPr/>
        </p:nvSpPr>
        <p:spPr>
          <a:xfrm>
            <a:off x="2057400" y="1905120"/>
            <a:ext cx="4648320" cy="7617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Asset Valuator (BAV)</a:t>
            </a:r>
            <a:endParaRPr b="0" lang="en-US" sz="2800" spc="-1" strike="noStrike">
              <a:solidFill>
                <a:srgbClr val="000000"/>
              </a:solidFill>
              <a:latin typeface="Arial"/>
            </a:endParaRPr>
          </a:p>
        </p:txBody>
      </p:sp>
      <p:sp>
        <p:nvSpPr>
          <p:cNvPr id="602" name="Rounded Rectangle 5"/>
          <p:cNvSpPr/>
          <p:nvPr/>
        </p:nvSpPr>
        <p:spPr>
          <a:xfrm>
            <a:off x="2057400" y="2971800"/>
            <a:ext cx="46483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z</a:t>
            </a:r>
            <a:endParaRPr b="0" lang="en-US" sz="2800" spc="-1" strike="noStrike">
              <a:solidFill>
                <a:srgbClr val="000000"/>
              </a:solidFill>
              <a:latin typeface="Arial"/>
            </a:endParaRPr>
          </a:p>
        </p:txBody>
      </p:sp>
      <p:sp>
        <p:nvSpPr>
          <p:cNvPr id="603" name="Rounded Rectangle 6"/>
          <p:cNvSpPr/>
          <p:nvPr/>
        </p:nvSpPr>
        <p:spPr>
          <a:xfrm>
            <a:off x="2057400" y="4038480"/>
            <a:ext cx="46483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Resonance</a:t>
            </a: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F59601B9-B2C0-4053-871D-4B64C9F4D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9.1 BAV Model</a:t>
            </a:r>
            <a:endParaRPr b="1" lang="en-US" sz="3600" spc="-1" strike="noStrike">
              <a:solidFill>
                <a:srgbClr val="000000"/>
              </a:solidFill>
              <a:latin typeface="Arial"/>
            </a:endParaRPr>
          </a:p>
        </p:txBody>
      </p:sp>
      <p:pic>
        <p:nvPicPr>
          <p:cNvPr id="606" name="Picture 2" descr=""/>
          <p:cNvPicPr/>
          <p:nvPr/>
        </p:nvPicPr>
        <p:blipFill>
          <a:blip r:embed="rId1"/>
          <a:stretch/>
        </p:blipFill>
        <p:spPr>
          <a:xfrm>
            <a:off x="762120" y="1600200"/>
            <a:ext cx="6634080" cy="4432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9.2 Universe of </a:t>
            </a:r>
            <a:br>
              <a:rPr sz="3600"/>
            </a:br>
            <a:r>
              <a:rPr b="1" lang="en-US" sz="3600" spc="-1" strike="noStrike">
                <a:solidFill>
                  <a:srgbClr val="000000"/>
                </a:solidFill>
                <a:latin typeface="Arial"/>
              </a:rPr>
              <a:t>Brand Performance</a:t>
            </a:r>
            <a:endParaRPr b="1" lang="en-US" sz="3600" spc="-1" strike="noStrike">
              <a:solidFill>
                <a:srgbClr val="000000"/>
              </a:solidFill>
              <a:latin typeface="Arial"/>
            </a:endParaRPr>
          </a:p>
        </p:txBody>
      </p:sp>
      <p:sp>
        <p:nvSpPr>
          <p:cNvPr id="60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CCC6D749-C95E-4DC5-A483-8401D3A2E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9" name="Picture 2" descr=""/>
          <p:cNvPicPr/>
          <p:nvPr/>
        </p:nvPicPr>
        <p:blipFill>
          <a:blip r:embed="rId1"/>
          <a:srcRect l="1671" t="0" r="7205" b="5802"/>
          <a:stretch/>
        </p:blipFill>
        <p:spPr>
          <a:xfrm>
            <a:off x="2057400" y="1523880"/>
            <a:ext cx="4290840" cy="4496040"/>
          </a:xfrm>
          <a:prstGeom prst="rect">
            <a:avLst/>
          </a:prstGeom>
          <a:ln w="0">
            <a:noFill/>
          </a:ln>
        </p:spPr>
      </p:pic>
      <p:sp>
        <p:nvSpPr>
          <p:cNvPr id="610" name="Rectangle 5"/>
          <p:cNvSpPr/>
          <p:nvPr/>
        </p:nvSpPr>
        <p:spPr>
          <a:xfrm>
            <a:off x="6019920" y="5715000"/>
            <a:ext cx="609480" cy="380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9.3 </a:t>
            </a:r>
            <a:br>
              <a:rPr sz="3600"/>
            </a:br>
            <a:r>
              <a:rPr b="1" lang="en-US" sz="3600" spc="-1" strike="noStrike">
                <a:solidFill>
                  <a:srgbClr val="000000"/>
                </a:solidFill>
                <a:latin typeface="Arial"/>
              </a:rPr>
              <a:t>Brand Dynamics Pyramid</a:t>
            </a:r>
            <a:endParaRPr b="1" lang="en-US" sz="3600" spc="-1" strike="noStrike">
              <a:solidFill>
                <a:srgbClr val="000000"/>
              </a:solidFill>
              <a:latin typeface="Arial"/>
            </a:endParaRPr>
          </a:p>
        </p:txBody>
      </p:sp>
      <p:sp>
        <p:nvSpPr>
          <p:cNvPr id="61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CBDE139F-EEF1-44CF-AF1B-1696EFC76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3" name="Picture 2" descr=""/>
          <p:cNvPicPr/>
          <p:nvPr/>
        </p:nvPicPr>
        <p:blipFill>
          <a:blip r:embed="rId1"/>
          <a:stretch/>
        </p:blipFill>
        <p:spPr>
          <a:xfrm>
            <a:off x="380880" y="1828800"/>
            <a:ext cx="7669440" cy="37767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9.4 Brand Resonance Pyramid</a:t>
            </a:r>
            <a:endParaRPr b="1" lang="en-US" sz="3600" spc="-1" strike="noStrike">
              <a:solidFill>
                <a:srgbClr val="000000"/>
              </a:solidFill>
              <a:latin typeface="Arial"/>
            </a:endParaRPr>
          </a:p>
        </p:txBody>
      </p:sp>
      <p:sp>
        <p:nvSpPr>
          <p:cNvPr id="615"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5F7D8FE6-C6CC-4834-BAED-E79D1DAA7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6" name="Picture 2" descr=""/>
          <p:cNvPicPr/>
          <p:nvPr/>
        </p:nvPicPr>
        <p:blipFill>
          <a:blip r:embed="rId1"/>
          <a:stretch/>
        </p:blipFill>
        <p:spPr>
          <a:xfrm>
            <a:off x="228600" y="1600200"/>
            <a:ext cx="7682040" cy="4495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nd Building Blocks</a:t>
            </a:r>
            <a:endParaRPr b="1" lang="en-US" sz="3600" spc="-1" strike="noStrike">
              <a:solidFill>
                <a:srgbClr val="000000"/>
              </a:solidFill>
              <a:latin typeface="Arial"/>
            </a:endParaRPr>
          </a:p>
        </p:txBody>
      </p:sp>
      <p:sp>
        <p:nvSpPr>
          <p:cNvPr id="61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54D7D144-DCC9-4D32-BBE4-B795A53CE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9" name="Picture 2" descr=""/>
          <p:cNvPicPr/>
          <p:nvPr/>
        </p:nvPicPr>
        <p:blipFill>
          <a:blip r:embed="rId1"/>
          <a:stretch/>
        </p:blipFill>
        <p:spPr>
          <a:xfrm>
            <a:off x="2362320" y="1371600"/>
            <a:ext cx="4190760" cy="48132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terCard Created An </a:t>
            </a:r>
            <a:br>
              <a:rPr sz="3600"/>
            </a:br>
            <a:r>
              <a:rPr b="1" lang="en-US" sz="3600" spc="-1" strike="noStrike">
                <a:solidFill>
                  <a:srgbClr val="000000"/>
                </a:solidFill>
                <a:latin typeface="Arial"/>
              </a:rPr>
              <a:t>Emotional Bond to its Brand</a:t>
            </a:r>
            <a:endParaRPr b="1" lang="en-US" sz="3600" spc="-1" strike="noStrike">
              <a:solidFill>
                <a:srgbClr val="000000"/>
              </a:solidFill>
              <a:latin typeface="Arial"/>
            </a:endParaRPr>
          </a:p>
        </p:txBody>
      </p:sp>
      <p:sp>
        <p:nvSpPr>
          <p:cNvPr id="621"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58FD070C-9FC5-4A69-876F-7A48050A5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22" name="Picture 2" descr=""/>
          <p:cNvPicPr/>
          <p:nvPr/>
        </p:nvPicPr>
        <p:blipFill>
          <a:blip r:embed="rId1"/>
          <a:stretch/>
        </p:blipFill>
        <p:spPr>
          <a:xfrm>
            <a:off x="2590920" y="1600200"/>
            <a:ext cx="3247920" cy="44830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ivers of Brand Equity</a:t>
            </a:r>
            <a:endParaRPr b="1" lang="en-US" sz="3600" spc="-1" strike="noStrike">
              <a:solidFill>
                <a:srgbClr val="000000"/>
              </a:solidFill>
              <a:latin typeface="Arial"/>
            </a:endParaRPr>
          </a:p>
        </p:txBody>
      </p:sp>
      <p:sp>
        <p:nvSpPr>
          <p:cNvPr id="62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E0A68C11-B358-4A82-B74C-E01BE7AF5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2743200" y="1371600"/>
            <a:ext cx="3157560" cy="44308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CC57F5E6-AC09-47CA-9F57-F3632A540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68" name="PlaceHolder 2"/>
          <p:cNvSpPr>
            <a:spLocks noGrp="1"/>
          </p:cNvSpPr>
          <p:nvPr>
            <p:ph/>
          </p:nvPr>
        </p:nvSpPr>
        <p:spPr>
          <a:xfrm>
            <a:off x="533520" y="1600200"/>
            <a:ext cx="761976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brand and how does branding work?</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brand equ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brand equity built, measured, and manag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important decisions in developing a branding strategy?</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B129A686-3043-4D9B-97C3-ABAD4C10D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nd Elements</a:t>
            </a:r>
            <a:endParaRPr b="1" lang="en-US" sz="3600" spc="-1" strike="noStrike">
              <a:solidFill>
                <a:srgbClr val="000000"/>
              </a:solidFill>
              <a:latin typeface="Arial"/>
            </a:endParaRPr>
          </a:p>
        </p:txBody>
      </p:sp>
      <p:sp>
        <p:nvSpPr>
          <p:cNvPr id="628"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nam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ga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s</a:t>
            </a:r>
            <a:endParaRPr b="0" lang="en-US" sz="2800" spc="-1" strike="noStrike">
              <a:solidFill>
                <a:srgbClr val="000000"/>
              </a:solidFill>
              <a:latin typeface="Arial"/>
            </a:endParaRPr>
          </a:p>
        </p:txBody>
      </p:sp>
      <p:sp>
        <p:nvSpPr>
          <p:cNvPr id="629"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o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Ls</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nd Element Choice Criteria</a:t>
            </a:r>
            <a:endParaRPr b="1" lang="en-US" sz="3600" spc="-1" strike="noStrike">
              <a:solidFill>
                <a:srgbClr val="000000"/>
              </a:solidFill>
              <a:latin typeface="Arial"/>
            </a:endParaRPr>
          </a:p>
        </p:txBody>
      </p:sp>
      <p:sp>
        <p:nvSpPr>
          <p:cNvPr id="631" name="Footer Placeholder 5"/>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99BEA295-3412-4572-B08E-C60D1DE41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2"/>
          <p:cNvSpPr>
            <a:spLocks noGrp="1"/>
          </p:cNvSpPr>
          <p:nvPr>
            <p:ph/>
          </p:nvPr>
        </p:nvSpPr>
        <p:spPr>
          <a:xfrm>
            <a:off x="5371920" y="1600200"/>
            <a:ext cx="3771720" cy="4572000"/>
          </a:xfrm>
          <a:prstGeom prst="rect">
            <a:avLst/>
          </a:prstGeom>
          <a:noFill/>
          <a:ln w="0">
            <a:noFill/>
          </a:ln>
        </p:spPr>
        <p:txBody>
          <a:bodyPr anchor="t">
            <a:normAutofit/>
          </a:bodyPr>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Rounded Rectangle 5"/>
          <p:cNvSpPr/>
          <p:nvPr/>
        </p:nvSpPr>
        <p:spPr>
          <a:xfrm>
            <a:off x="914400" y="1371600"/>
            <a:ext cx="32767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able</a:t>
            </a:r>
            <a:endParaRPr b="0" lang="en-US" sz="1800" spc="-1" strike="noStrike">
              <a:solidFill>
                <a:srgbClr val="000000"/>
              </a:solidFill>
              <a:latin typeface="Arial"/>
            </a:endParaRPr>
          </a:p>
        </p:txBody>
      </p:sp>
      <p:sp>
        <p:nvSpPr>
          <p:cNvPr id="634" name="Rounded Rectangle 6"/>
          <p:cNvSpPr/>
          <p:nvPr/>
        </p:nvSpPr>
        <p:spPr>
          <a:xfrm>
            <a:off x="1752480" y="2133720"/>
            <a:ext cx="32767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ingful</a:t>
            </a:r>
            <a:endParaRPr b="0" lang="en-US" sz="1800" spc="-1" strike="noStrike">
              <a:solidFill>
                <a:srgbClr val="000000"/>
              </a:solidFill>
              <a:latin typeface="Arial"/>
            </a:endParaRPr>
          </a:p>
        </p:txBody>
      </p:sp>
      <p:sp>
        <p:nvSpPr>
          <p:cNvPr id="635" name="Rounded Rectangle 7"/>
          <p:cNvSpPr/>
          <p:nvPr/>
        </p:nvSpPr>
        <p:spPr>
          <a:xfrm>
            <a:off x="2590920" y="2895480"/>
            <a:ext cx="327636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able</a:t>
            </a:r>
            <a:endParaRPr b="0" lang="en-US" sz="1800" spc="-1" strike="noStrike">
              <a:solidFill>
                <a:srgbClr val="000000"/>
              </a:solidFill>
              <a:latin typeface="Arial"/>
            </a:endParaRPr>
          </a:p>
        </p:txBody>
      </p:sp>
      <p:sp>
        <p:nvSpPr>
          <p:cNvPr id="636" name="Rounded Rectangle 8"/>
          <p:cNvSpPr/>
          <p:nvPr/>
        </p:nvSpPr>
        <p:spPr>
          <a:xfrm>
            <a:off x="3352680" y="3657600"/>
            <a:ext cx="32767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ble</a:t>
            </a:r>
            <a:endParaRPr b="0" lang="en-US" sz="1800" spc="-1" strike="noStrike">
              <a:solidFill>
                <a:srgbClr val="000000"/>
              </a:solidFill>
              <a:latin typeface="Arial"/>
            </a:endParaRPr>
          </a:p>
        </p:txBody>
      </p:sp>
      <p:sp>
        <p:nvSpPr>
          <p:cNvPr id="637" name="Rounded Rectangle 9"/>
          <p:cNvSpPr/>
          <p:nvPr/>
        </p:nvSpPr>
        <p:spPr>
          <a:xfrm>
            <a:off x="4114800" y="4419720"/>
            <a:ext cx="32767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ble</a:t>
            </a:r>
            <a:endParaRPr b="0" lang="en-US" sz="1800" spc="-1" strike="noStrike">
              <a:solidFill>
                <a:srgbClr val="000000"/>
              </a:solidFill>
              <a:latin typeface="Arial"/>
            </a:endParaRPr>
          </a:p>
        </p:txBody>
      </p:sp>
      <p:sp>
        <p:nvSpPr>
          <p:cNvPr id="638" name="Rounded Rectangle 10"/>
          <p:cNvSpPr/>
          <p:nvPr/>
        </p:nvSpPr>
        <p:spPr>
          <a:xfrm>
            <a:off x="4648320" y="5181480"/>
            <a:ext cx="327636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able</a:t>
            </a:r>
            <a:endParaRPr b="0" lang="en-US" sz="1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logans</a:t>
            </a:r>
            <a:endParaRPr b="1" lang="en-US" sz="3600" spc="-1" strike="noStrike">
              <a:solidFill>
                <a:srgbClr val="000000"/>
              </a:solidFill>
              <a:latin typeface="Arial"/>
            </a:endParaRPr>
          </a:p>
        </p:txBody>
      </p:sp>
      <p:sp>
        <p:nvSpPr>
          <p:cNvPr id="640"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a good neighbor, State Farm is the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do i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runs like a Dee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 15% or more in 15 minutes or less</a:t>
            </a:r>
            <a:endParaRPr b="0" lang="en-US" sz="2800" spc="-1" strike="noStrike">
              <a:solidFill>
                <a:srgbClr val="000000"/>
              </a:solidFill>
              <a:latin typeface="Arial"/>
            </a:endParaRPr>
          </a:p>
        </p:txBody>
      </p:sp>
      <p:sp>
        <p:nvSpPr>
          <p:cNvPr id="641"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ry hard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pick you up</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el – Don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om Zoo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ovin’ i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on at work</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ud’s for you</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low prices</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24521C47-E3EB-4DF0-9A92-45093DE18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9.5 Secondary Sources of Brand Knowledge</a:t>
            </a:r>
            <a:endParaRPr b="1" lang="en-US" sz="3600" spc="-1" strike="noStrike">
              <a:solidFill>
                <a:srgbClr val="000000"/>
              </a:solidFill>
              <a:latin typeface="Arial"/>
            </a:endParaRPr>
          </a:p>
        </p:txBody>
      </p:sp>
      <p:sp>
        <p:nvSpPr>
          <p:cNvPr id="644"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9656003E-AEAD-436A-B0E5-3AF57D28C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45" name="Picture 2" descr=""/>
          <p:cNvPicPr/>
          <p:nvPr/>
        </p:nvPicPr>
        <p:blipFill>
          <a:blip r:embed="rId1"/>
          <a:stretch/>
        </p:blipFill>
        <p:spPr>
          <a:xfrm>
            <a:off x="1981080" y="1600200"/>
            <a:ext cx="4630680" cy="44290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020719D9-5188-4948-A6CE-C367E9EEF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l Branding</a:t>
            </a:r>
            <a:endParaRPr b="1" lang="en-US" sz="3600" spc="-1" strike="noStrike">
              <a:solidFill>
                <a:srgbClr val="000000"/>
              </a:solidFill>
              <a:latin typeface="Arial"/>
            </a:endParaRPr>
          </a:p>
        </p:txBody>
      </p:sp>
      <p:sp>
        <p:nvSpPr>
          <p:cNvPr id="64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right mo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internal and external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the brand alive for employees</a:t>
            </a:r>
            <a:endParaRPr b="0" lang="en-US" sz="28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9.6 Brand Value Chain</a:t>
            </a:r>
            <a:endParaRPr b="1" lang="en-US" sz="3600" spc="-1" strike="noStrike">
              <a:solidFill>
                <a:srgbClr val="000000"/>
              </a:solidFill>
              <a:latin typeface="Arial"/>
            </a:endParaRPr>
          </a:p>
        </p:txBody>
      </p:sp>
      <p:sp>
        <p:nvSpPr>
          <p:cNvPr id="65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DBD45786-8C4C-4471-8713-E5E05C1E9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533520" y="1447920"/>
            <a:ext cx="7300800" cy="41194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7F67129F-1E18-47BA-9635-6B9F9B06B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ing Brand Equity</a:t>
            </a:r>
            <a:endParaRPr b="1" lang="en-US" sz="3600" spc="-1" strike="noStrike">
              <a:solidFill>
                <a:srgbClr val="000000"/>
              </a:solidFill>
              <a:latin typeface="Arial"/>
            </a:endParaRPr>
          </a:p>
        </p:txBody>
      </p:sp>
      <p:sp>
        <p:nvSpPr>
          <p:cNvPr id="65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audi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track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valuation</a:t>
            </a:r>
            <a:endParaRPr b="0"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ble 9.4  </a:t>
            </a:r>
            <a:br>
              <a:rPr sz="3200"/>
            </a:br>
            <a:r>
              <a:rPr b="1" lang="en-US" sz="3200" spc="-1" strike="noStrike">
                <a:solidFill>
                  <a:srgbClr val="000000"/>
                </a:solidFill>
                <a:latin typeface="Arial"/>
              </a:rPr>
              <a:t>The 10 Most Valuable Brands</a:t>
            </a:r>
            <a:endParaRPr b="1" lang="en-US" sz="3200" spc="-1" strike="noStrike">
              <a:solidFill>
                <a:srgbClr val="000000"/>
              </a:solidFill>
              <a:latin typeface="Arial"/>
            </a:endParaRPr>
          </a:p>
        </p:txBody>
      </p:sp>
      <p:sp>
        <p:nvSpPr>
          <p:cNvPr id="65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E081A74F-E1E3-4E32-838F-10B8D3257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57" name="Picture 2" descr=""/>
          <p:cNvPicPr/>
          <p:nvPr/>
        </p:nvPicPr>
        <p:blipFill>
          <a:blip r:embed="rId1"/>
          <a:stretch/>
        </p:blipFill>
        <p:spPr>
          <a:xfrm>
            <a:off x="304920" y="1752480"/>
            <a:ext cx="7412040" cy="37674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9.7 Interbrand Brand Valuation Method</a:t>
            </a:r>
            <a:endParaRPr b="1" lang="en-US" sz="3600" spc="-1" strike="noStrike">
              <a:solidFill>
                <a:srgbClr val="000000"/>
              </a:solidFill>
              <a:latin typeface="Arial"/>
            </a:endParaRPr>
          </a:p>
        </p:txBody>
      </p:sp>
      <p:sp>
        <p:nvSpPr>
          <p:cNvPr id="659"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43DE7AF3-2C8D-4340-ACC2-118F5E41B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60" name="Picture 2" descr=""/>
          <p:cNvPicPr/>
          <p:nvPr/>
        </p:nvPicPr>
        <p:blipFill>
          <a:blip r:embed="rId1"/>
          <a:stretch/>
        </p:blipFill>
        <p:spPr>
          <a:xfrm>
            <a:off x="2666880" y="1752480"/>
            <a:ext cx="3467160" cy="41054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B74BC491-05E9-462A-B663-4C683B1A0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Brand Equity</a:t>
            </a:r>
            <a:endParaRPr b="1" lang="en-US" sz="3600" spc="-1" strike="noStrike">
              <a:solidFill>
                <a:srgbClr val="000000"/>
              </a:solidFill>
              <a:latin typeface="Arial"/>
            </a:endParaRPr>
          </a:p>
        </p:txBody>
      </p:sp>
      <p:sp>
        <p:nvSpPr>
          <p:cNvPr id="66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reinforce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revitalization</a:t>
            </a:r>
            <a:endParaRPr b="0" lang="en-US" sz="2800" spc="-1" strike="noStrike">
              <a:solidFill>
                <a:srgbClr val="000000"/>
              </a:solidFill>
              <a:latin typeface="Arial"/>
            </a:endParaRPr>
          </a:p>
        </p:txBody>
      </p:sp>
      <p:pic>
        <p:nvPicPr>
          <p:cNvPr id="664" name="Picture 2" descr=""/>
          <p:cNvPicPr/>
          <p:nvPr/>
        </p:nvPicPr>
        <p:blipFill>
          <a:blip r:embed="rId1"/>
          <a:stretch/>
        </p:blipFill>
        <p:spPr>
          <a:xfrm>
            <a:off x="5029200" y="2971800"/>
            <a:ext cx="2457360" cy="2400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98F7076E-B264-4C12-B673-F38273C67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s in </a:t>
            </a:r>
            <a:br>
              <a:rPr sz="3600"/>
            </a:br>
            <a:r>
              <a:rPr b="1" lang="en-US" sz="3600" spc="-1" strike="noStrike">
                <a:solidFill>
                  <a:srgbClr val="000000"/>
                </a:solidFill>
                <a:latin typeface="Arial"/>
              </a:rPr>
              <a:t>Strategic Brand Management</a:t>
            </a:r>
            <a:endParaRPr b="1" lang="en-US" sz="3600" spc="-1" strike="noStrike">
              <a:solidFill>
                <a:srgbClr val="000000"/>
              </a:solidFill>
              <a:latin typeface="Arial"/>
            </a:endParaRPr>
          </a:p>
        </p:txBody>
      </p:sp>
      <p:sp>
        <p:nvSpPr>
          <p:cNvPr id="571" name="PlaceHolder 2"/>
          <p:cNvSpPr>
            <a:spLocks noGrp="1"/>
          </p:cNvSpPr>
          <p:nvPr>
            <p:ph/>
          </p:nvPr>
        </p:nvSpPr>
        <p:spPr>
          <a:xfrm>
            <a:off x="762120" y="1752120"/>
            <a:ext cx="7315200" cy="441972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and establishing brand position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and implementing brand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and interpreting brand performa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ing and sustaining brand value</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2777FA88-A901-4263-9612-F05FFC82C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vising a Branding Strategy</a:t>
            </a:r>
            <a:endParaRPr b="1" lang="en-US" sz="3600" spc="-1" strike="noStrike">
              <a:solidFill>
                <a:srgbClr val="000000"/>
              </a:solidFill>
              <a:latin typeface="Arial"/>
            </a:endParaRPr>
          </a:p>
        </p:txBody>
      </p:sp>
      <p:sp>
        <p:nvSpPr>
          <p:cNvPr id="66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new brand ele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existing brand ele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combination of old and new</a:t>
            </a:r>
            <a:endParaRPr b="0" lang="en-US" sz="2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nding Terms</a:t>
            </a:r>
            <a:endParaRPr b="1" lang="en-US" sz="3600" spc="-1" strike="noStrike">
              <a:solidFill>
                <a:srgbClr val="000000"/>
              </a:solidFill>
              <a:latin typeface="Arial"/>
            </a:endParaRPr>
          </a:p>
        </p:txBody>
      </p:sp>
      <p:sp>
        <p:nvSpPr>
          <p:cNvPr id="669"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lin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mix</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extens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bran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bran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brand</a:t>
            </a:r>
            <a:endParaRPr b="0" lang="en-US" sz="2800" spc="-1" strike="noStrike">
              <a:solidFill>
                <a:srgbClr val="000000"/>
              </a:solidFill>
              <a:latin typeface="Arial"/>
            </a:endParaRPr>
          </a:p>
        </p:txBody>
      </p:sp>
      <p:sp>
        <p:nvSpPr>
          <p:cNvPr id="670" name="PlaceHolder 3"/>
          <p:cNvSpPr>
            <a:spLocks noGrp="1"/>
          </p:cNvSpPr>
          <p:nvPr>
            <p:ph/>
          </p:nvPr>
        </p:nvSpPr>
        <p:spPr>
          <a:xfrm>
            <a:off x="4343400" y="1600200"/>
            <a:ext cx="3733920" cy="4572000"/>
          </a:xfrm>
          <a:prstGeom prst="rect">
            <a:avLst/>
          </a:prstGeom>
          <a:noFill/>
          <a:ln w="0">
            <a:noFill/>
          </a:ln>
        </p:spPr>
        <p:txBody>
          <a:bodyPr anchor="t">
            <a:normAutofit/>
          </a:bodyPr>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extens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extens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ed varia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d product</a:t>
            </a:r>
            <a:endParaRPr b="0" lang="en-US" sz="2800" spc="-1" strike="noStrike">
              <a:solidFill>
                <a:srgbClr val="000000"/>
              </a:solidFill>
              <a:latin typeface="Arial"/>
            </a:endParaRPr>
          </a:p>
        </p:txBody>
      </p:sp>
      <p:sp>
        <p:nvSpPr>
          <p:cNvPr id="671"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CA8C344C-E992-4035-8DDB-A902A17FF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sons for Brand Portfolios</a:t>
            </a:r>
            <a:endParaRPr b="1" lang="en-US" sz="3600" spc="-1" strike="noStrike">
              <a:solidFill>
                <a:srgbClr val="000000"/>
              </a:solidFill>
              <a:latin typeface="Arial"/>
            </a:endParaRPr>
          </a:p>
        </p:txBody>
      </p:sp>
      <p:sp>
        <p:nvSpPr>
          <p:cNvPr id="67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110D9A81-4CA3-420B-BCCE-892779B47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74" name="Picture 2" descr=""/>
          <p:cNvPicPr/>
          <p:nvPr/>
        </p:nvPicPr>
        <p:blipFill>
          <a:blip r:embed="rId1"/>
          <a:stretch/>
        </p:blipFill>
        <p:spPr>
          <a:xfrm>
            <a:off x="1295280" y="1676520"/>
            <a:ext cx="5965920" cy="304776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17D6A148-A949-4FD8-89C5-5D19FB805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nd Roles in a Brand Portfolio</a:t>
            </a:r>
            <a:endParaRPr b="1" lang="en-US" sz="3600" spc="-1" strike="noStrike">
              <a:solidFill>
                <a:srgbClr val="000000"/>
              </a:solidFill>
              <a:latin typeface="Arial"/>
            </a:endParaRPr>
          </a:p>
        </p:txBody>
      </p:sp>
      <p:sp>
        <p:nvSpPr>
          <p:cNvPr id="67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nk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cow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nd, entry-leve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nd prestige</a:t>
            </a:r>
            <a:endParaRPr b="0" lang="en-US" sz="28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nd Extensions</a:t>
            </a:r>
            <a:endParaRPr b="1" lang="en-US" sz="3600" spc="-1" strike="noStrike">
              <a:solidFill>
                <a:srgbClr val="000000"/>
              </a:solidFill>
              <a:latin typeface="Arial"/>
            </a:endParaRPr>
          </a:p>
        </p:txBody>
      </p:sp>
      <p:sp>
        <p:nvSpPr>
          <p:cNvPr id="67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C4F75A78-1C53-4BF2-992E-A6BAD867B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80" name="Picture 2" descr=""/>
          <p:cNvPicPr/>
          <p:nvPr/>
        </p:nvPicPr>
        <p:blipFill>
          <a:blip r:embed="rId1"/>
          <a:stretch/>
        </p:blipFill>
        <p:spPr>
          <a:xfrm>
            <a:off x="1219320" y="1981080"/>
            <a:ext cx="5895720" cy="32767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82" name=""/>
          <p:cNvSpPr txBox="1"/>
          <p:nvPr/>
        </p:nvSpPr>
        <p:spPr>
          <a:xfrm>
            <a:off x="533520" y="1600200"/>
            <a:ext cx="76960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brand and how does branding work?</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brand equ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brand equity built, measured, and manag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important decisions in developing a branding strategy?</a:t>
            </a:r>
            <a:endParaRPr b="0" lang="en-US" sz="2800" spc="-1" strike="noStrike">
              <a:solidFill>
                <a:srgbClr val="000000"/>
              </a:solidFill>
              <a:latin typeface="Arial"/>
            </a:endParaRPr>
          </a:p>
        </p:txBody>
      </p:sp>
      <p:sp>
        <p:nvSpPr>
          <p:cNvPr id="68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28662266-94B3-4837-90CE-518914709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D58A0157-E9B6-4607-B07A-FF741A79C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Brand?</a:t>
            </a:r>
            <a:endParaRPr b="1" lang="en-US" sz="3600" spc="-1" strike="noStrike">
              <a:solidFill>
                <a:srgbClr val="000000"/>
              </a:solidFill>
              <a:latin typeface="Arial"/>
            </a:endParaRPr>
          </a:p>
        </p:txBody>
      </p:sp>
      <p:sp>
        <p:nvSpPr>
          <p:cNvPr id="574" name="PlaceHolder 2"/>
          <p:cNvSpPr>
            <a:spLocks noGrp="1"/>
          </p:cNvSpPr>
          <p:nvPr>
            <p:ph/>
          </p:nvPr>
        </p:nvSpPr>
        <p:spPr>
          <a:xfrm>
            <a:off x="533520" y="1447920"/>
            <a:ext cx="761976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brand</a:t>
            </a:r>
            <a:r>
              <a:rPr b="0" lang="en-US" sz="2800" spc="-1" strike="noStrike">
                <a:solidFill>
                  <a:srgbClr val="000000"/>
                </a:solidFill>
                <a:latin typeface="Arial"/>
              </a:rPr>
              <a:t> is a name, term, sign, symbol or design, or a combination of them, intended to identify the goods or services of one seller or group of sellers and to differentiate them from those of competitors.</a:t>
            </a:r>
            <a:endParaRPr b="0" lang="en-US" sz="2800" spc="-1" strike="noStrike">
              <a:solidFill>
                <a:srgbClr val="000000"/>
              </a:solidFill>
              <a:latin typeface="Arial"/>
            </a:endParaRPr>
          </a:p>
          <a:p>
            <a:pPr marL="343080" indent="0" algn="r">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5" name="Picture 2" descr=""/>
          <p:cNvPicPr/>
          <p:nvPr/>
        </p:nvPicPr>
        <p:blipFill>
          <a:blip r:embed="rId1"/>
          <a:stretch/>
        </p:blipFill>
        <p:spPr>
          <a:xfrm>
            <a:off x="533520" y="3505320"/>
            <a:ext cx="3286080" cy="22762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A92C1879-96D5-4824-805D-50562B637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ole of Brands</a:t>
            </a:r>
            <a:endParaRPr b="1" lang="en-US" sz="3600" spc="-1" strike="noStrike">
              <a:solidFill>
                <a:srgbClr val="000000"/>
              </a:solidFill>
              <a:latin typeface="Arial"/>
            </a:endParaRPr>
          </a:p>
        </p:txBody>
      </p:sp>
      <p:sp>
        <p:nvSpPr>
          <p:cNvPr id="57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mak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y product handl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accoun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legal protection</a:t>
            </a: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F8766660-80A6-443B-984D-697FED801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ole of Brands</a:t>
            </a:r>
            <a:endParaRPr b="1" lang="en-US" sz="3600" spc="-1" strike="noStrike">
              <a:solidFill>
                <a:srgbClr val="000000"/>
              </a:solidFill>
              <a:latin typeface="Arial"/>
            </a:endParaRPr>
          </a:p>
        </p:txBody>
      </p:sp>
      <p:sp>
        <p:nvSpPr>
          <p:cNvPr id="581"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y qua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barriers to ent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as a competitive advant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price premium</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59424124-FBBD-4916-B664-7A7ACD045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Branding?</a:t>
            </a:r>
            <a:endParaRPr b="1" lang="en-US" sz="3600" spc="-1" strike="noStrike">
              <a:solidFill>
                <a:srgbClr val="000000"/>
              </a:solidFill>
              <a:latin typeface="Arial"/>
            </a:endParaRPr>
          </a:p>
        </p:txBody>
      </p:sp>
      <p:sp>
        <p:nvSpPr>
          <p:cNvPr id="584" name="PlaceHolder 2"/>
          <p:cNvSpPr>
            <a:spLocks noGrp="1"/>
          </p:cNvSpPr>
          <p:nvPr>
            <p:ph/>
          </p:nvPr>
        </p:nvSpPr>
        <p:spPr>
          <a:xfrm>
            <a:off x="1447560" y="1752120"/>
            <a:ext cx="6172200" cy="441972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nding </a:t>
            </a:r>
            <a:r>
              <a:rPr b="0" lang="en-US" sz="2800" spc="-1" strike="noStrike">
                <a:solidFill>
                  <a:srgbClr val="000000"/>
                </a:solidFill>
                <a:latin typeface="Arial"/>
              </a:rPr>
              <a:t>is endowing products and services with the </a:t>
            </a:r>
            <a:endParaRPr b="0" lang="en-US" sz="2800" spc="-1" strike="noStrike">
              <a:solidFill>
                <a:srgbClr val="000000"/>
              </a:solidFill>
              <a:latin typeface="Arial"/>
            </a:endParaRPr>
          </a:p>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of the brand. </a:t>
            </a:r>
            <a:endParaRPr b="0"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A9859B86-5AFE-480E-A770-96294A7FD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Brand Equity?</a:t>
            </a:r>
            <a:endParaRPr b="1" lang="en-US" sz="3600" spc="-1" strike="noStrike">
              <a:solidFill>
                <a:srgbClr val="000000"/>
              </a:solidFill>
              <a:latin typeface="Arial"/>
            </a:endParaRPr>
          </a:p>
        </p:txBody>
      </p:sp>
      <p:sp>
        <p:nvSpPr>
          <p:cNvPr id="587" name="PlaceHolder 2"/>
          <p:cNvSpPr>
            <a:spLocks noGrp="1"/>
          </p:cNvSpPr>
          <p:nvPr>
            <p:ph/>
          </p:nvPr>
        </p:nvSpPr>
        <p:spPr>
          <a:xfrm>
            <a:off x="533160" y="1600200"/>
            <a:ext cx="754380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nd equity</a:t>
            </a:r>
            <a:r>
              <a:rPr b="0" lang="en-US" sz="2800" spc="-1" strike="noStrike">
                <a:solidFill>
                  <a:srgbClr val="000000"/>
                </a:solidFill>
                <a:latin typeface="Arial"/>
              </a:rPr>
              <a:t> is the added value endowed on products and services, which may be reflected in the way consumers, think, feel, and act with respect to the brand.</a:t>
            </a:r>
            <a:endParaRPr b="0"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antages of Strong Brands</a:t>
            </a:r>
            <a:endParaRPr b="1" lang="en-US" sz="3600" spc="-1" strike="noStrike">
              <a:solidFill>
                <a:srgbClr val="000000"/>
              </a:solidFill>
              <a:latin typeface="Arial"/>
            </a:endParaRPr>
          </a:p>
        </p:txBody>
      </p:sp>
      <p:sp>
        <p:nvSpPr>
          <p:cNvPr id="589" name="PlaceHolder 2"/>
          <p:cNvSpPr>
            <a:spLocks noGrp="1"/>
          </p:cNvSpPr>
          <p:nvPr>
            <p:ph/>
          </p:nvPr>
        </p:nvSpPr>
        <p:spPr>
          <a:xfrm>
            <a:off x="456840" y="1600200"/>
            <a:ext cx="3809880" cy="4572000"/>
          </a:xfrm>
          <a:prstGeom prst="rect">
            <a:avLst/>
          </a:prstGeom>
          <a:noFill/>
          <a:ln w="0">
            <a:noFill/>
          </a:ln>
        </p:spPr>
        <p:txBody>
          <a:bodyPr anchor="t">
            <a:normAutofit fontScale="99000"/>
          </a:bodyPr>
          <a:p>
            <a:pPr marL="339480" indent="-3394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perceptions of product performance</a:t>
            </a:r>
            <a:endParaRPr b="0" lang="en-US" sz="2800" spc="-1" strike="noStrike">
              <a:solidFill>
                <a:srgbClr val="000000"/>
              </a:solidFill>
              <a:latin typeface="Arial"/>
            </a:endParaRPr>
          </a:p>
          <a:p>
            <a:pPr marL="339480" indent="-3394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loyalty</a:t>
            </a:r>
            <a:endParaRPr b="0" lang="en-US" sz="2800" spc="-1" strike="noStrike">
              <a:solidFill>
                <a:srgbClr val="000000"/>
              </a:solidFill>
              <a:latin typeface="Arial"/>
            </a:endParaRPr>
          </a:p>
          <a:p>
            <a:pPr marL="339480" indent="-3394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vulnerability to competitive marketing actions</a:t>
            </a:r>
            <a:endParaRPr b="0" lang="en-US" sz="2800" spc="-1" strike="noStrike">
              <a:solidFill>
                <a:srgbClr val="000000"/>
              </a:solidFill>
              <a:latin typeface="Arial"/>
            </a:endParaRPr>
          </a:p>
          <a:p>
            <a:pPr marL="339480" indent="-3394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vulnerability to crises</a:t>
            </a:r>
            <a:endParaRPr b="0" lang="en-US" sz="2800" spc="-1" strike="noStrike">
              <a:solidFill>
                <a:srgbClr val="000000"/>
              </a:solidFill>
              <a:latin typeface="Arial"/>
            </a:endParaRPr>
          </a:p>
        </p:txBody>
      </p:sp>
      <p:sp>
        <p:nvSpPr>
          <p:cNvPr id="590" name="PlaceHolder 3"/>
          <p:cNvSpPr>
            <a:spLocks noGrp="1"/>
          </p:cNvSpPr>
          <p:nvPr>
            <p:ph/>
          </p:nvPr>
        </p:nvSpPr>
        <p:spPr>
          <a:xfrm>
            <a:off x="4495680" y="1600200"/>
            <a:ext cx="3810240" cy="4572000"/>
          </a:xfrm>
          <a:prstGeom prst="rect">
            <a:avLst/>
          </a:prstGeom>
          <a:noFill/>
          <a:ln w="0">
            <a:noFill/>
          </a:ln>
        </p:spPr>
        <p:txBody>
          <a:bodyPr anchor="t">
            <a:normAutofit fontScale="97000"/>
          </a:bodyPr>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r margins</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elastic consumer response</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trade cooperation</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marketing communications effectiveness</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licensing opportunities</a:t>
            </a:r>
            <a:endParaRPr b="0" lang="en-US" sz="2800" spc="-1" strike="noStrike">
              <a:solidFill>
                <a:srgbClr val="000000"/>
              </a:solidFill>
              <a:latin typeface="Arial"/>
            </a:endParaRPr>
          </a:p>
        </p:txBody>
      </p:sp>
      <p:sp>
        <p:nvSpPr>
          <p:cNvPr id="591"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9-</a:t>
            </a:r>
            <a:fld id="{35AD1CF2-8E17-4C12-A6BE-79066A443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2:48Z</dcterms:modified>
  <cp:revision>422</cp:revision>
  <dc:subject/>
  <dc:title>Kotler Keller 2</dc:title>
</cp:coreProperties>
</file>