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A14C-EFA1-4DDC-94B9-3A5921147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0CFD-796B-4AB8-B1B0-AB0BE26C8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typically focus on brand benefits in choosing the points-of-parity and points-of-difference that make up their brand positioning. For choosing specific benefits as POPs and PODs to position a brand, perceptual maps may be useful. Perceptual maps are visual representations of consumer perceptions and preferences. </a:t>
            </a:r>
            <a:r>
              <a:rPr b="0" i="1" lang="en-US" sz="1200" spc="-1" strike="noStrike">
                <a:solidFill>
                  <a:srgbClr val="000000"/>
                </a:solidFill>
                <a:latin typeface="Arial"/>
              </a:rPr>
              <a:t>They </a:t>
            </a:r>
            <a:r>
              <a:rPr b="0" lang="en-US" sz="1200" spc="-1" strike="noStrike">
                <a:solidFill>
                  <a:srgbClr val="000000"/>
                </a:solidFill>
                <a:latin typeface="Arial"/>
              </a:rPr>
              <a:t>provide quantitative portrayals of market situations and the way consumers view different products, services, and brands along various dimensions. By overlaying consumer preferences with brand perceptions, marketers can reveal “holes” or “openings” that suggest unmet consumer needs and marketing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igure 10.1 (a) shows a hypothetical perceptual map for a beverage category. The four brands—A, B, C, and D—vary in terms of how consumers view their taste profile (light versus strong) and personality and imagery (contemporary versus modern). Also displayed on the map are ideal point “configurations” for three market segments (1, 2, and 3). The ideal points represent each segment’s most preferred (“ideal”) combination of taste and imagery.</a:t>
            </a: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5B55-7EE5-4C76-B381-84E95742E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isplayed on the map are ideal point “configurations” for three market segments (1, 2, and 3). The ideal points represent each segment’s most preferred (“ideal”) combination of taste and imagery. Consumers in Segment 3 prefer beverages with a strong taste and traditional imagery. Brand D is well-positioned for this segment as it is strongly associated in the marketplace with both these benefits. Given that none of the competitors is seen as anywhere close, we would expect Brand D to attract many of the Segment 3 customers. Brand A, on the other hand, is seen as more balanced in terms of both taste and imagery. Unfortunately, no market segment seems to really desire this balance. Brands B and C are better positioned with respect to Segments 2 and 3.</a:t>
            </a: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F78A-F01F-4960-8712-CE91CDEB1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focus the intent of the brand positioning and the way firms would like consumers to think about the brand, it is often useful to define a brand mantra. A brand mantra is an articulation of the heart and soul of the brand and is closely related to other branding concepts like “brand essence” and “core brand promise.” Brand mantras are short, three- to five-word phrases that capture the irrefutable essence or spirit of the brand positioning. Their purpose is to ensure that all employees within the organization and all external marketing partners understand what the brand is most fundamentally to represent with consumers so they can adjust their actions accordingly. Internally, Nike marketers adopted the three-word brand mantra, “authentic athletic performance,” to guide their marketing efforts. Thus, in Nike’s eyes, its entire marketing program—its products and how they are sold—must reflect those key brand values.</a:t>
            </a: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84E6-A954-4ED5-920B-21FC2DA3D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mantras are designed with internal purposes in mind. A brand slogan is an external translation that attempts to creatively engage consumers. Although Nike’s internal mantra was “authentic athletic performance,” its external slogan was “Just Do It.” Here are the three key criteria for a brand man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e. A good brand mantra should define the category (or categories) of business for the brand and set the brand boundaries. It should also clarify what is unique about the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mplify. An effective brand mantra should be memorable. For that, it should be short, crisp, and vivid in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pire. Ideally, the brand mantra should also stake out ground that is personally meaningful and relevant to as many employe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mantras typically are designed to capture the brand’s points-of difference, that is, what is unique about the brand. Other aspects of the brand positioning—especially the brand’s points-of- parity—may also be important and may need to be reinforced in other ways.</a:t>
            </a: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BC6C-C430-4A17-B5E1-77E34BA30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bull’s-eye provides content and context to improve everyone’s understanding of the positioning of a brand in the organization. Here we describe the components of a brand bull’s-eye, illustrating with a hypothetical Starbucks example. In the inner two circles is the heart of the bull’s-eye—key points-of-parity and points-of-difference, as well as the brand mantra. In the next circle out are the substantiators or reasons-to-believe (RTB)—attributes or benefits that provide factual or demonstrable support for the points-of-parity and points-of-difference. Finally, the outer circle contains two other useful branding concepts: (1) the brand values, personality, or character—intangible associations that help to establish the tone for the words and actions for the brand; and (2) executional properties and visual identity—more tangible components of the brand that affect how it is seen. Three boxes outside the bull’s-eye provide useful context and interpretation.</a:t>
            </a: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FFB9-F844-4B4A-8DEC-19986D800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96C9-9038-41E2-B603-32FBD1333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in ways to convey a brand’s category memb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nouncing category benefits. To reassure consumers that a brand will deliver on the fundamental reason for using a category, marketers frequently use benefits to announce category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mparing to exemplars. Well-known, noteworthy brands in a category can also help a brand specify its category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lying on the product descriptor. The product descriptor that follows the brand name is often a concise means of conveying category origi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4C77-BCE2-499D-9471-D92362087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difficulty in creating a strong, competitive brand positioning is that many of the attributes or benefits that make up the points-of-parity and points-of-difference are negatively correla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a strong brand and avoid the commodity trap, marketers must start with the belief that you can differentiate anything. Competitive advantage is a company’s ability to perform in one or more ways that competitors cannot or will not match. Few competitive advantages are sustainable. At best, they may be leverageable. A </a:t>
            </a:r>
            <a:r>
              <a:rPr b="0" i="1" lang="en-US" sz="1200" spc="-1" strike="noStrike">
                <a:solidFill>
                  <a:srgbClr val="000000"/>
                </a:solidFill>
                <a:latin typeface="Arial"/>
              </a:rPr>
              <a:t>leverageable advantage is one that a company can use as a springboard to </a:t>
            </a:r>
            <a:r>
              <a:rPr b="0" lang="en-US" sz="1200" spc="-1" strike="noStrike">
                <a:solidFill>
                  <a:srgbClr val="000000"/>
                </a:solidFill>
                <a:latin typeface="Arial"/>
              </a:rPr>
              <a:t>new advantages, Progressive gained a competitive advantage in the mid-1990s when it became one of the first auto insurance companies to sell direct to consumers via the Internet. The company’s early adoption of technology enabled it to offer a unique service: In addition to providing free online quotes for its own policies, Progressive also provided quotes from up to three competitors.</a:t>
            </a: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1164-88AE-4975-8ABF-B38D10FAB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etitive markets, however, firms may need to consider dimensions they can use to differentiate market offe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have better-trained employees who provide superior customer service.  Companies can more effectively and efficiently design their distribution channels’ coverage, expertise, and performance to make buying the product easier and more enjoyable and rewarding.  Companies can craft powerful, compelling images that appeal to consumers’ social and psychological needs.  A service company can differentiate itself by designing a better and faster delivery system that provides more effective and efficient solutions to consu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levels of differentiation. The first is reliability: Some suppliers are more reliable in their on-time delivery, order completeness, and order-cycle time. The second is resilience: Some suppliers are better at handling emergencies, product recalls, and inquiries. The third is innovativeness: Some suppliers create better information systems, introduce bar coding and mixed pallets, and in other ways help the customer.</a:t>
            </a: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D9F1-BF18-422C-A1CD-4238036D4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consultant Marc Gobé believes emotional brands share three specific traits: (1) strong people-focused corporate culture, (2) a distinctive communication style and philosophy, and (3) a compelling emotional hook. Saatchi &amp; Saatchi CEO Kevin Roberts advocates that brands strive to become lovemarks. Brands that are lovemarks, according to Roberts, command both respect and love and result from a brand’s ability to achieve mystery, sensuality, and intim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ystery draws together stories, metaphors, dreams, and symbols. Mystery adds to the complexity of relationships and experiences because people are naturally drawn to what they don’t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nsuality keeps the five senses of sight, hearing, smell, touch, and taste  on constant alert for new textures, intriguing scents and tastes, wonderful music, and other sensory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timacy means empathy, commitment, and passion. The close connections that win intense loyalty as well as the small perfect gesture.</a:t>
            </a: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F0AB-BD24-4475-843B-3FE59675D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1AA6-EFD6-4C97-B68D-FBA4D5A8F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cover how marketers can position brand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firm should monitor three variables when analyzing potential threats posed by compet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hare of market—The competitor’s share of the target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hare of mind—The percentage of customers who named the competitor in responding to the statement, “Name the first company that comes to min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hare of heart—The percentage of customers who named the competitor in responding to the statement, “Name the company from which you would prefer to buy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n interesting relationship among these three measures. Table 10.3 shows them as recorded for three hypothetical competitors. Competitor A enjoys the highest market share but is slipping. Its mind share and heart share are also slipping, probably because it’s not providing good product availability and technical assistance. Competitor B is steadily gaining market share, probably due to strategies that are increasing its mind share and heart share. Competitor C seems to be stuck at a low level of market, mind, and heart share, probably because of its poor product and marketing attributes.</a:t>
            </a:r>
            <a:endParaRPr b="0" lang="en-US" sz="1200" spc="-1" strike="noStrike">
              <a:solidFill>
                <a:srgbClr val="000000"/>
              </a:solidFill>
              <a:latin typeface="Arial"/>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8EF6-67F3-45FC-95B3-BC8118F90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ve branding as based on deep metaphors that connect to people’s memories, associations, and stories. There are five elements of narrative branding: (1) the brand story in terms of words and metaphors, (2) the consumer journey in terms of how consumers engage with the brand over time and touch points where they come into contact with it, (3) the visual language or expression for the brand, (4) the manner in which the narrative is expressed experientially in terms of how the brand engages the senses, and (5) the role/relationship the brand plays in the lives of consumers. Based on literary convention and brand experience, we can use this framework for a brand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The time, place, and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t. The brand as a character, including its role in the life of the audience, its relationships and responsibilities, and its history or creation my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ative arc. The way the narrative logic unfolds over time, including actions, desired experiences, defining events, and the moment of epiph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nguage. The authenticating voice, metaphors, symbols, themes, and lei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Donald’s has developed its story over the years using characters like Ronald and Hamburglar. </a:t>
            </a:r>
            <a:endParaRPr b="0" lang="en-US" sz="1200" spc="-1" strike="noStrike">
              <a:solidFill>
                <a:srgbClr val="000000"/>
              </a:solidFill>
              <a:latin typeface="Arial"/>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30E5-2D58-4B64-844A-94F00550E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ddressed these questions in Chapter 10. </a:t>
            </a:r>
            <a:endParaRPr b="0" lang="en-US" sz="1200" spc="-1" strike="noStrike">
              <a:solidFill>
                <a:srgbClr val="000000"/>
              </a:solidFill>
              <a:latin typeface="Arial"/>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1AFC-00BD-4025-8360-A39F954F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6132-B448-4F1C-9BEB-918277DF7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is the act of designing a company’s offering and image to occupy a distinctive place in the minds of the target market. The goal is to locate the brand in the minds of consumers to maximize the potential benefit to the firm. A good brand positioning helps guide marketing strategy by clarifying the brand’s essence, identifying the goals it helps the consumer achieve, and showing how it does so in a unique way. By creating a line of nontoxic, biodegradable household cleaning products with bright colors and sleek designs totally unique to the category, Method has crossed the line of $100 million in revenues with a phenomenal growth rate. Its big break came with the placement of its product in Target, known for partnering with well-known designers to produce stand-out products at affordable prices. Because of a limited advertising budget, the company believes its attractive packaging and innovative products must work harder to express the brand positio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7235-1FC3-4262-ABD9-B26906735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0.1 provides examples of value propositions. Positioning requires that marketers define and communicate similarities and differences between their brand and its competitors. Specifically, deciding on a positioning requires: (1) determining a frame of reference by identifying the target market and relevant competition, (2) identifying the optimal points of parity and points of difference brand associations given that frame of reference, and (3) creating a brand mantra to summarize the positioning and essence of the br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frame of reference defines which other brands a brand competes with and therefore which brands should be the focus of competitive analysis. A good starting point in defining a competitive frame of reference for brand positioning is to determine category membership—the products or sets of products with which a brand competes and which function as close substitutes. We can examine competition from both an industry and a market point of view. An industry is a group of firms offering a product or class of products that are close substitutes for one another. Marketers classify industries according to number of sellers; degree of product differentiation; presence or absence of entry, mobility, and exit barriers; cost structure; degree of vertical integration; and degree of globalization. Using the market approach, we define competitors as companies that satisfy the same customer need.</a:t>
            </a:r>
            <a:endParaRPr b="0" lang="en-US" sz="1200" spc="-1" strike="noStrike">
              <a:solidFill>
                <a:srgbClr val="000000"/>
              </a:solidFill>
              <a:latin typeface="Arial"/>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0C51-22D9-4D7B-A58C-FD297F366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needs to gather information about each competitor’s real and perceived strengths and weaknesses. Table 10.2 shows the results of a company survey that asked customers to rate its three competitors, A, B, and C, on five attributes. Competitor A turns out to be well known and respected for producing high-quality products sold by a good sales force, but poor at providing product availability and technical assistance. Competitor B is good across the board and excellent in product availability and sales force. Competitor C rates poor to fair on most attributes. This result suggests that in its positioning the company could attack Competitor A on product availability and technical assistance and Competitor C on almost anything, but it should not attack B, which has no glaring weaknesses.</a:t>
            </a:r>
            <a:endParaRPr b="0" lang="en-US" sz="1200" spc="-1" strike="noStrike">
              <a:solidFill>
                <a:srgbClr val="000000"/>
              </a:solidFill>
              <a:latin typeface="Arial"/>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DFD9-69F7-4545-AE8D-DC51CF390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4BF5-F9F7-4F7D-8CEA-7895F652D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of-difference (PODs) are attributes or benefits that consumers strongly associate with a brand, positively evaluate, and believe they could not find to the same extent with a competitive brand. Associations that make up points-of-difference may be based on virtually any type of attribute or benefit. Strong brands may have multiple points-of-difference. Points-of-parity (POPs), on the other hand, are attribute or benefit associations that are not necessarily unique to the brand but may in fact be shared with other brands.  These types of associations come in two basic forms: category and competitive. Category points-of-parity are attributes or benefits that consumers view as essential to a legitimate and credible offering within a certain product or service category. Competitive points-of-parity are associations designed to overcome perceived weaknesses of the brand. A competitive point-of-parity may be required to either (1) negate competitors’ perceived points-of-difference or (2) negate a perceived vulnerability of the brand as a result of its own points-of-differe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 criteria determine whether a brand association can truly function as a point-of-difference— desirability, deliverability, and different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must see the brand association as personally relevant to them. The company must have the internal resources and commitment to feasibly and profitably create and maintain the brand association in the minds of consumers. The product design and marketing offering must support the desired association. Finally, consumers must see the brand association as distinctive and superior to relevant competitors.</a:t>
            </a: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14E8-A320-41B5-B3C8-B45D04444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ffering to achieve a point-of-parity on a particular attribute or benefit, a sufficient number of consumers must believe the brand is “good enough” on that dimension. There is a zone or range of tolerance or acceptance with points-of-parity. The brand does not literally need to be seen as equal to competitors, but consumers must feel it does well enough on that particular attribute or benefit. If they do, they may be willing to base their evaluations and decisions on other factors potentially more favorable to the brand. Often, the key to positioning is not so much achieving a point-of-difference as achieving points-of-parity! Visa’s POD in the credit card category is that it is the most widely available card, which underscores the category’s main benefit of convenience. American Express, on the other hand, has built the equity of its brand by highlighting the prestige associated with the use of its card.</a:t>
            </a: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ED82-800D-4DCD-B7FF-B46577DD3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0-</a:t>
            </a:r>
            <a:fld id="{AB79708F-A462-48ED-8E8A-583D0236B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DAC8AE0-597E-47B3-9730-8E9392AEB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D1DF349-278C-4414-980E-669BC5743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57016786-DF4E-4446-8CA0-6C76F60D2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fld id="{6D1DB649-8652-4732-BA14-D0D3A6CBE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9601816D-9D87-4BDA-BA95-846DF1D9F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fld id="{101F97B3-CEB6-4426-93EA-440E2FBA3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fld id="{94CDA280-D71E-4E8B-A1F3-54244ADBA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fld id="{9DC7015F-280B-4168-A05C-08CD91D00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fld id="{C54EDDCE-4B5A-45DC-A60A-E1C02548F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978E65BE-5EC2-4BB0-84E7-4E92234DA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0</a:t>
            </a:r>
            <a:br>
              <a:rPr sz="4000"/>
            </a:br>
            <a:r>
              <a:rPr b="1" lang="en-US" sz="4000" spc="-1" strike="noStrike">
                <a:solidFill>
                  <a:srgbClr val="000000"/>
                </a:solidFill>
                <a:latin typeface="Garamond"/>
              </a:rPr>
              <a:t>Crafting the </a:t>
            </a:r>
            <a:br>
              <a:rPr sz="4000"/>
            </a:br>
            <a:r>
              <a:rPr b="1" lang="en-US" sz="4000" spc="-1" strike="noStrike">
                <a:solidFill>
                  <a:srgbClr val="000000"/>
                </a:solidFill>
                <a:latin typeface="Garamond"/>
              </a:rPr>
              <a:t>Brand Positioning</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1a Perceptual Map: Current Perceptions</a:t>
            </a:r>
            <a:endParaRPr b="1" lang="en-US" sz="3600" spc="-1" strike="noStrike">
              <a:solidFill>
                <a:srgbClr val="000000"/>
              </a:solidFill>
              <a:latin typeface="Arial"/>
            </a:endParaRPr>
          </a:p>
        </p:txBody>
      </p:sp>
      <p:sp>
        <p:nvSpPr>
          <p:cNvPr id="55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4A306F04-5524-4067-8236-0DF4FD6D3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2" name="Picture 2" descr=""/>
          <p:cNvPicPr/>
          <p:nvPr/>
        </p:nvPicPr>
        <p:blipFill>
          <a:blip r:embed="rId1"/>
          <a:stretch/>
        </p:blipFill>
        <p:spPr>
          <a:xfrm>
            <a:off x="2057400" y="1776240"/>
            <a:ext cx="4238640" cy="4062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1b Perceptual Map: Possibilities</a:t>
            </a:r>
            <a:endParaRPr b="1" lang="en-US" sz="3600" spc="-1" strike="noStrike">
              <a:solidFill>
                <a:srgbClr val="000000"/>
              </a:solidFill>
              <a:latin typeface="Arial"/>
            </a:endParaRPr>
          </a:p>
        </p:txBody>
      </p:sp>
      <p:sp>
        <p:nvSpPr>
          <p:cNvPr id="55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F9C187B7-FC5F-44FD-A405-A8361F8B2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2133720" y="1771560"/>
            <a:ext cx="4162320" cy="4002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Mantras</a:t>
            </a:r>
            <a:endParaRPr b="1" lang="en-US" sz="3600" spc="-1" strike="noStrike">
              <a:solidFill>
                <a:srgbClr val="000000"/>
              </a:solidFill>
              <a:latin typeface="Arial"/>
            </a:endParaRPr>
          </a:p>
        </p:txBody>
      </p:sp>
      <p:sp>
        <p:nvSpPr>
          <p:cNvPr id="55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CAD4716C-48B6-48EC-9260-7DB596DD2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8" name="Picture 2" descr=""/>
          <p:cNvPicPr/>
          <p:nvPr/>
        </p:nvPicPr>
        <p:blipFill>
          <a:blip r:embed="rId1"/>
          <a:stretch/>
        </p:blipFill>
        <p:spPr>
          <a:xfrm>
            <a:off x="990720" y="1905120"/>
            <a:ext cx="6280200" cy="3200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ing a Brand Mantra</a:t>
            </a:r>
            <a:endParaRPr b="1" lang="en-US" sz="3600" spc="-1" strike="noStrike">
              <a:solidFill>
                <a:srgbClr val="000000"/>
              </a:solidFill>
              <a:latin typeface="Arial"/>
            </a:endParaRPr>
          </a:p>
        </p:txBody>
      </p:sp>
      <p:sp>
        <p:nvSpPr>
          <p:cNvPr id="56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D551B9BD-69F6-4143-BC62-000135DD2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Rounded Rectangle 3"/>
          <p:cNvSpPr/>
          <p:nvPr/>
        </p:nvSpPr>
        <p:spPr>
          <a:xfrm>
            <a:off x="1523880" y="1676520"/>
            <a:ext cx="5715000" cy="10666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a:t>
            </a:r>
            <a:endParaRPr b="0" lang="en-US" sz="2800" spc="-1" strike="noStrike">
              <a:solidFill>
                <a:srgbClr val="000000"/>
              </a:solidFill>
              <a:latin typeface="Arial"/>
            </a:endParaRPr>
          </a:p>
        </p:txBody>
      </p:sp>
      <p:sp>
        <p:nvSpPr>
          <p:cNvPr id="562" name="Rounded Rectangle 4"/>
          <p:cNvSpPr/>
          <p:nvPr/>
        </p:nvSpPr>
        <p:spPr>
          <a:xfrm>
            <a:off x="1523880" y="3048120"/>
            <a:ext cx="5715000" cy="10666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a:t>
            </a:r>
            <a:endParaRPr b="0" lang="en-US" sz="2800" spc="-1" strike="noStrike">
              <a:solidFill>
                <a:srgbClr val="000000"/>
              </a:solidFill>
              <a:latin typeface="Arial"/>
            </a:endParaRPr>
          </a:p>
        </p:txBody>
      </p:sp>
      <p:sp>
        <p:nvSpPr>
          <p:cNvPr id="563" name="Rounded Rectangle 5"/>
          <p:cNvSpPr/>
          <p:nvPr/>
        </p:nvSpPr>
        <p:spPr>
          <a:xfrm>
            <a:off x="1523880" y="4419720"/>
            <a:ext cx="5715000" cy="10666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ire </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ucting a </a:t>
            </a:r>
            <a:br>
              <a:rPr sz="3600"/>
            </a:br>
            <a:r>
              <a:rPr b="1" lang="en-US" sz="3600" spc="-1" strike="noStrike">
                <a:solidFill>
                  <a:srgbClr val="000000"/>
                </a:solidFill>
                <a:latin typeface="Arial"/>
              </a:rPr>
              <a:t>Brand Positioning Bull’s-Eye</a:t>
            </a:r>
            <a:endParaRPr b="1" lang="en-US" sz="3600" spc="-1" strike="noStrike">
              <a:solidFill>
                <a:srgbClr val="000000"/>
              </a:solidFill>
              <a:latin typeface="Arial"/>
            </a:endParaRPr>
          </a:p>
        </p:txBody>
      </p:sp>
      <p:sp>
        <p:nvSpPr>
          <p:cNvPr id="56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1E5C78B6-8788-4D34-801D-25675EC70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6" name="Picture 2" descr=""/>
          <p:cNvPicPr/>
          <p:nvPr/>
        </p:nvPicPr>
        <p:blipFill>
          <a:blip r:embed="rId1"/>
          <a:stretch/>
        </p:blipFill>
        <p:spPr>
          <a:xfrm>
            <a:off x="1219320" y="1676520"/>
            <a:ext cx="6143400" cy="4047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7701E406-CCBE-4816-96A3-A9F841DF1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ying Category Membership</a:t>
            </a:r>
            <a:endParaRPr b="1" lang="en-US" sz="3600" spc="-1" strike="noStrike">
              <a:solidFill>
                <a:srgbClr val="000000"/>
              </a:solidFill>
              <a:latin typeface="Arial"/>
            </a:endParaRPr>
          </a:p>
        </p:txBody>
      </p:sp>
      <p:sp>
        <p:nvSpPr>
          <p:cNvPr id="56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ing category benefi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ng to exempla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the product descriptor</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Negatively Correlated Attributes and Benefits</a:t>
            </a:r>
            <a:endParaRPr b="1" lang="en-US" sz="3200" spc="-1" strike="noStrike">
              <a:solidFill>
                <a:srgbClr val="000000"/>
              </a:solidFill>
              <a:latin typeface="Arial"/>
            </a:endParaRPr>
          </a:p>
        </p:txBody>
      </p:sp>
      <p:sp>
        <p:nvSpPr>
          <p:cNvPr id="571" name="PlaceHolder 2"/>
          <p:cNvSpPr>
            <a:spLocks noGrp="1"/>
          </p:cNvSpPr>
          <p:nvPr>
            <p:ph/>
          </p:nvPr>
        </p:nvSpPr>
        <p:spPr>
          <a:xfrm>
            <a:off x="457200" y="1600200"/>
            <a:ext cx="3772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price vs. High qua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 vs. Low calo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us vs. Good tas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ious vs. Mild</a:t>
            </a:r>
            <a:endParaRPr b="0" lang="en-US" sz="2800" spc="-1" strike="noStrike">
              <a:solidFill>
                <a:srgbClr val="000000"/>
              </a:solidFill>
              <a:latin typeface="Arial"/>
            </a:endParaRPr>
          </a:p>
        </p:txBody>
      </p:sp>
      <p:sp>
        <p:nvSpPr>
          <p:cNvPr id="572" name="PlaceHolder 3"/>
          <p:cNvSpPr>
            <a:spLocks noGrp="1"/>
          </p:cNvSpPr>
          <p:nvPr>
            <p:ph/>
          </p:nvPr>
        </p:nvSpPr>
        <p:spPr>
          <a:xfrm>
            <a:off x="4495680" y="1600200"/>
            <a:ext cx="3772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vs. Saf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vs. Refin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biquitous vs. Exclus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d vs. Simple</a:t>
            </a:r>
            <a:endParaRPr b="0" lang="en-US" sz="2800" spc="-1" strike="noStrike">
              <a:solidFill>
                <a:srgbClr val="000000"/>
              </a:solidFill>
              <a:latin typeface="Arial"/>
            </a:endParaRPr>
          </a:p>
        </p:txBody>
      </p:sp>
      <p:sp>
        <p:nvSpPr>
          <p:cNvPr id="57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78776D4D-5F2D-4CB5-BDF7-AC111B1F1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tion Strategies</a:t>
            </a:r>
            <a:endParaRPr b="1" lang="en-US" sz="3600" spc="-1" strike="noStrike">
              <a:solidFill>
                <a:srgbClr val="000000"/>
              </a:solidFill>
              <a:latin typeface="Arial"/>
            </a:endParaRPr>
          </a:p>
        </p:txBody>
      </p:sp>
      <p:sp>
        <p:nvSpPr>
          <p:cNvPr id="57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D86CEB14-7E13-4EDD-9831-AC929BACC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6" name="Picture 2" descr=""/>
          <p:cNvPicPr/>
          <p:nvPr/>
        </p:nvPicPr>
        <p:blipFill>
          <a:blip r:embed="rId1"/>
          <a:stretch/>
        </p:blipFill>
        <p:spPr>
          <a:xfrm>
            <a:off x="338040" y="2057400"/>
            <a:ext cx="7707240" cy="30430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s of Differentiation</a:t>
            </a:r>
            <a:endParaRPr b="1" lang="en-US" sz="3600" spc="-1" strike="noStrike">
              <a:solidFill>
                <a:srgbClr val="000000"/>
              </a:solidFill>
              <a:latin typeface="Arial"/>
            </a:endParaRPr>
          </a:p>
        </p:txBody>
      </p:sp>
      <p:sp>
        <p:nvSpPr>
          <p:cNvPr id="57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36D61DE4-FADD-4C80-B5A7-EDC67891A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Rounded Rectangle 3"/>
          <p:cNvSpPr/>
          <p:nvPr/>
        </p:nvSpPr>
        <p:spPr>
          <a:xfrm>
            <a:off x="1905120" y="1600200"/>
            <a:ext cx="4800600" cy="8380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a:t>
            </a:r>
            <a:endParaRPr b="0" lang="en-US" sz="2800" spc="-1" strike="noStrike">
              <a:solidFill>
                <a:srgbClr val="000000"/>
              </a:solidFill>
              <a:latin typeface="Arial"/>
            </a:endParaRPr>
          </a:p>
        </p:txBody>
      </p:sp>
      <p:sp>
        <p:nvSpPr>
          <p:cNvPr id="580" name="Rounded Rectangle 4"/>
          <p:cNvSpPr/>
          <p:nvPr/>
        </p:nvSpPr>
        <p:spPr>
          <a:xfrm>
            <a:off x="1905120" y="2666880"/>
            <a:ext cx="4800600" cy="83844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a:t>
            </a:r>
            <a:endParaRPr b="0" lang="en-US" sz="2800" spc="-1" strike="noStrike">
              <a:solidFill>
                <a:srgbClr val="000000"/>
              </a:solidFill>
              <a:latin typeface="Arial"/>
            </a:endParaRPr>
          </a:p>
        </p:txBody>
      </p:sp>
      <p:sp>
        <p:nvSpPr>
          <p:cNvPr id="581" name="Rounded Rectangle 5"/>
          <p:cNvSpPr/>
          <p:nvPr/>
        </p:nvSpPr>
        <p:spPr>
          <a:xfrm>
            <a:off x="1905120" y="3733920"/>
            <a:ext cx="4800600" cy="8380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a:t>
            </a:r>
            <a:endParaRPr b="0" lang="en-US" sz="2800" spc="-1" strike="noStrike">
              <a:solidFill>
                <a:srgbClr val="000000"/>
              </a:solidFill>
              <a:latin typeface="Arial"/>
            </a:endParaRPr>
          </a:p>
        </p:txBody>
      </p:sp>
      <p:sp>
        <p:nvSpPr>
          <p:cNvPr id="582" name="Rounded Rectangle 6"/>
          <p:cNvSpPr/>
          <p:nvPr/>
        </p:nvSpPr>
        <p:spPr>
          <a:xfrm>
            <a:off x="1905120" y="4800600"/>
            <a:ext cx="4800600" cy="8380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otional Branding</a:t>
            </a:r>
            <a:endParaRPr b="1" lang="en-US" sz="3600" spc="-1" strike="noStrike">
              <a:solidFill>
                <a:srgbClr val="000000"/>
              </a:solidFill>
              <a:latin typeface="Arial"/>
            </a:endParaRPr>
          </a:p>
        </p:txBody>
      </p:sp>
      <p:sp>
        <p:nvSpPr>
          <p:cNvPr id="58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4C9F0407-2688-4C3E-8B12-4544FB0FF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Rounded Rectangle 3"/>
          <p:cNvSpPr/>
          <p:nvPr/>
        </p:nvSpPr>
        <p:spPr>
          <a:xfrm>
            <a:off x="1600200" y="1752480"/>
            <a:ext cx="5334120" cy="10670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ulture</a:t>
            </a:r>
            <a:endParaRPr b="0" lang="en-US" sz="2800" spc="-1" strike="noStrike">
              <a:solidFill>
                <a:srgbClr val="000000"/>
              </a:solidFill>
              <a:latin typeface="Arial"/>
            </a:endParaRPr>
          </a:p>
        </p:txBody>
      </p:sp>
      <p:sp>
        <p:nvSpPr>
          <p:cNvPr id="586" name="Rounded Rectangle 4"/>
          <p:cNvSpPr/>
          <p:nvPr/>
        </p:nvSpPr>
        <p:spPr>
          <a:xfrm>
            <a:off x="1600200" y="2971800"/>
            <a:ext cx="533412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tyle</a:t>
            </a:r>
            <a:endParaRPr b="0" lang="en-US" sz="2800" spc="-1" strike="noStrike">
              <a:solidFill>
                <a:srgbClr val="000000"/>
              </a:solidFill>
              <a:latin typeface="Arial"/>
            </a:endParaRPr>
          </a:p>
        </p:txBody>
      </p:sp>
      <p:sp>
        <p:nvSpPr>
          <p:cNvPr id="587" name="Rounded Rectangle 5"/>
          <p:cNvSpPr/>
          <p:nvPr/>
        </p:nvSpPr>
        <p:spPr>
          <a:xfrm>
            <a:off x="1600200" y="4191120"/>
            <a:ext cx="533412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tional hook</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405B786B-B272-442E-8756-B89C6A2F6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firm develop and establish an effective positioning in the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marketers identify and analyze competi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brands successfully differentiat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ces in positioning and branding with a small business?</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Share, Mind Share, </a:t>
            </a:r>
            <a:br>
              <a:rPr sz="3600"/>
            </a:br>
            <a:r>
              <a:rPr b="1" lang="en-US" sz="3600" spc="-1" strike="noStrike">
                <a:solidFill>
                  <a:srgbClr val="000000"/>
                </a:solidFill>
                <a:latin typeface="Arial"/>
              </a:rPr>
              <a:t>and Heart Share</a:t>
            </a:r>
            <a:endParaRPr b="1" lang="en-US" sz="3600" spc="-1" strike="noStrike">
              <a:solidFill>
                <a:srgbClr val="000000"/>
              </a:solidFill>
              <a:latin typeface="Arial"/>
            </a:endParaRPr>
          </a:p>
        </p:txBody>
      </p:sp>
      <p:sp>
        <p:nvSpPr>
          <p:cNvPr id="58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24A48D5F-A3D3-412F-B7A0-4F65FB8A3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0" name="Picture 2" descr=""/>
          <p:cNvPicPr/>
          <p:nvPr/>
        </p:nvPicPr>
        <p:blipFill>
          <a:blip r:embed="rId1"/>
          <a:stretch/>
        </p:blipFill>
        <p:spPr>
          <a:xfrm>
            <a:off x="457200" y="2286000"/>
            <a:ext cx="7408800" cy="11430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Narratives and Storytelling</a:t>
            </a:r>
            <a:endParaRPr b="1" lang="en-US" sz="3600" spc="-1" strike="noStrike">
              <a:solidFill>
                <a:srgbClr val="000000"/>
              </a:solidFill>
              <a:latin typeface="Arial"/>
            </a:endParaRPr>
          </a:p>
        </p:txBody>
      </p:sp>
      <p:sp>
        <p:nvSpPr>
          <p:cNvPr id="59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059C846D-B035-48E4-BE65-5C097EA5D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3" name="Picture 2" descr=""/>
          <p:cNvPicPr/>
          <p:nvPr/>
        </p:nvPicPr>
        <p:blipFill>
          <a:blip r:embed="rId1"/>
          <a:stretch/>
        </p:blipFill>
        <p:spPr>
          <a:xfrm>
            <a:off x="1143000" y="1523880"/>
            <a:ext cx="5989680" cy="40338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595" name=""/>
          <p:cNvSpPr txBox="1"/>
          <p:nvPr/>
        </p:nvSpPr>
        <p:spPr>
          <a:xfrm>
            <a:off x="533520" y="1600200"/>
            <a:ext cx="7772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firm develop and establish an effective positioning in the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marketers identify and analyze competi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brands successfully differentiat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ces in positioning and branding with a small busi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2EFA3F2E-CE2C-4495-BAD5-8AC09950C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Positioning?</a:t>
            </a:r>
            <a:endParaRPr b="1" lang="en-US" sz="3600" spc="-1" strike="noStrike">
              <a:solidFill>
                <a:srgbClr val="000000"/>
              </a:solidFill>
              <a:latin typeface="Arial"/>
            </a:endParaRPr>
          </a:p>
        </p:txBody>
      </p:sp>
      <p:sp>
        <p:nvSpPr>
          <p:cNvPr id="527"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832D25A0-16F1-402A-8407-EB1CB3AD1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8" name="Picture 2" descr=""/>
          <p:cNvPicPr/>
          <p:nvPr/>
        </p:nvPicPr>
        <p:blipFill>
          <a:blip r:embed="rId1"/>
          <a:stretch/>
        </p:blipFill>
        <p:spPr>
          <a:xfrm>
            <a:off x="2133720" y="1523880"/>
            <a:ext cx="4867200" cy="43722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A8802134-BFC8-41B6-936B-AFED758A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 Propositions</a:t>
            </a:r>
            <a:endParaRPr b="1" lang="en-US" sz="3600" spc="-1" strike="noStrike">
              <a:solidFill>
                <a:srgbClr val="000000"/>
              </a:solidFill>
              <a:latin typeface="Arial"/>
            </a:endParaRPr>
          </a:p>
        </p:txBody>
      </p:sp>
      <p:sp>
        <p:nvSpPr>
          <p:cNvPr id="53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due Chicken</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ender golden chicken at a moderate premium pr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o’s</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hot pizza, delivered to your door within 30 minutes of ordering, at a moderate price</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etitive Frame of Reference</a:t>
            </a:r>
            <a:endParaRPr b="1" lang="en-US" sz="3600" spc="-1" strike="noStrike">
              <a:solidFill>
                <a:srgbClr val="000000"/>
              </a:solidFill>
              <a:latin typeface="Arial"/>
            </a:endParaRPr>
          </a:p>
        </p:txBody>
      </p:sp>
      <p:sp>
        <p:nvSpPr>
          <p:cNvPr id="5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F9E3E86A-BBE5-4FC4-9CD4-2788367DB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4" name="Picture 2" descr=""/>
          <p:cNvPicPr/>
          <p:nvPr/>
        </p:nvPicPr>
        <p:blipFill>
          <a:blip r:embed="rId1"/>
          <a:stretch/>
        </p:blipFill>
        <p:spPr>
          <a:xfrm>
            <a:off x="1905120" y="1876320"/>
            <a:ext cx="4967280" cy="3353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0.2 Customer Ratings </a:t>
            </a:r>
            <a:br>
              <a:rPr sz="3600"/>
            </a:br>
            <a:r>
              <a:rPr b="1" lang="en-US" sz="3600" spc="-1" strike="noStrike">
                <a:solidFill>
                  <a:srgbClr val="000000"/>
                </a:solidFill>
                <a:latin typeface="Arial"/>
              </a:rPr>
              <a:t>of Competitors</a:t>
            </a:r>
            <a:endParaRPr b="1" lang="en-US" sz="3600" spc="-1" strike="noStrike">
              <a:solidFill>
                <a:srgbClr val="000000"/>
              </a:solidFill>
              <a:latin typeface="Arial"/>
            </a:endParaRPr>
          </a:p>
        </p:txBody>
      </p:sp>
      <p:sp>
        <p:nvSpPr>
          <p:cNvPr id="53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707D499A-39DE-421C-B1FC-E8CBBC2CC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7" name="Picture 2" descr=""/>
          <p:cNvPicPr/>
          <p:nvPr/>
        </p:nvPicPr>
        <p:blipFill>
          <a:blip r:embed="rId1"/>
          <a:stretch/>
        </p:blipFill>
        <p:spPr>
          <a:xfrm>
            <a:off x="304920" y="2362320"/>
            <a:ext cx="8067600" cy="22287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0324A70D-CD64-4E12-8640-D55857A8C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Associations</a:t>
            </a:r>
            <a:endParaRPr b="1" lang="en-US" sz="3600" spc="-1" strike="noStrike">
              <a:solidFill>
                <a:srgbClr val="000000"/>
              </a:solidFill>
              <a:latin typeface="Arial"/>
            </a:endParaRPr>
          </a:p>
        </p:txBody>
      </p:sp>
      <p:sp>
        <p:nvSpPr>
          <p:cNvPr id="540" name="PlaceHolder 2"/>
          <p:cNvSpPr>
            <a:spLocks noGrp="1"/>
          </p:cNvSpPr>
          <p:nvPr>
            <p:ph/>
          </p:nvPr>
        </p:nvSpPr>
        <p:spPr>
          <a:xfrm>
            <a:off x="533160" y="1371600"/>
            <a:ext cx="3809880" cy="450216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of-difference </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s or benefits consumers strongly associate with a brand, positively evaluate, and believe they could not find to the same extent with a competitive brand</a:t>
            </a:r>
            <a:endParaRPr b="0" lang="en-US" sz="2800" spc="-1" strike="noStrike">
              <a:solidFill>
                <a:srgbClr val="000000"/>
              </a:solidFill>
              <a:latin typeface="Arial"/>
            </a:endParaRPr>
          </a:p>
        </p:txBody>
      </p:sp>
      <p:sp>
        <p:nvSpPr>
          <p:cNvPr id="541" name="PlaceHolder 3"/>
          <p:cNvSpPr>
            <a:spLocks noGrp="1"/>
          </p:cNvSpPr>
          <p:nvPr>
            <p:ph/>
          </p:nvPr>
        </p:nvSpPr>
        <p:spPr>
          <a:xfrm>
            <a:off x="4495320" y="1447920"/>
            <a:ext cx="3778200" cy="449568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of-parity </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 that are not necessarily unique to the brand but may be shared with other brands</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int-of-Difference Criteria</a:t>
            </a:r>
            <a:endParaRPr b="1" lang="en-US" sz="3600" spc="-1" strike="noStrike">
              <a:solidFill>
                <a:srgbClr val="000000"/>
              </a:solidFill>
              <a:latin typeface="Arial"/>
            </a:endParaRPr>
          </a:p>
        </p:txBody>
      </p:sp>
      <p:sp>
        <p:nvSpPr>
          <p:cNvPr id="54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B8842565-AFDB-42F8-A2B6-26DC88B99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Rounded Rectangle 6"/>
          <p:cNvSpPr/>
          <p:nvPr/>
        </p:nvSpPr>
        <p:spPr>
          <a:xfrm>
            <a:off x="1066680" y="1676520"/>
            <a:ext cx="62485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able</a:t>
            </a:r>
            <a:endParaRPr b="0" lang="en-US" sz="2800" spc="-1" strike="noStrike">
              <a:solidFill>
                <a:srgbClr val="000000"/>
              </a:solidFill>
              <a:latin typeface="Arial"/>
            </a:endParaRPr>
          </a:p>
        </p:txBody>
      </p:sp>
      <p:sp>
        <p:nvSpPr>
          <p:cNvPr id="545" name="Rounded Rectangle 7"/>
          <p:cNvSpPr/>
          <p:nvPr/>
        </p:nvSpPr>
        <p:spPr>
          <a:xfrm>
            <a:off x="1066680" y="2819520"/>
            <a:ext cx="62485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able</a:t>
            </a:r>
            <a:endParaRPr b="0" lang="en-US" sz="2800" spc="-1" strike="noStrike">
              <a:solidFill>
                <a:srgbClr val="000000"/>
              </a:solidFill>
              <a:latin typeface="Arial"/>
            </a:endParaRPr>
          </a:p>
        </p:txBody>
      </p:sp>
      <p:sp>
        <p:nvSpPr>
          <p:cNvPr id="546" name="Rounded Rectangle 8"/>
          <p:cNvSpPr/>
          <p:nvPr/>
        </p:nvSpPr>
        <p:spPr>
          <a:xfrm>
            <a:off x="1066680" y="3962520"/>
            <a:ext cx="62485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ing</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 versus POD</a:t>
            </a:r>
            <a:endParaRPr b="1" lang="en-US" sz="3600" spc="-1" strike="noStrike">
              <a:solidFill>
                <a:srgbClr val="000000"/>
              </a:solidFill>
              <a:latin typeface="Arial"/>
            </a:endParaRPr>
          </a:p>
        </p:txBody>
      </p:sp>
      <p:sp>
        <p:nvSpPr>
          <p:cNvPr id="54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a:t>
            </a:r>
            <a:fld id="{5C4C43C4-2A25-4499-927F-BC5B1B976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9" name="Picture 2" descr=""/>
          <p:cNvPicPr/>
          <p:nvPr/>
        </p:nvPicPr>
        <p:blipFill>
          <a:blip r:embed="rId1"/>
          <a:stretch/>
        </p:blipFill>
        <p:spPr>
          <a:xfrm>
            <a:off x="1371600" y="1905120"/>
            <a:ext cx="5667480" cy="33703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3:02Z</dcterms:modified>
  <cp:revision>426</cp:revision>
  <dc:subject/>
  <dc:title>Kotler Keller 2</dc:title>
</cp:coreProperties>
</file>