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6.png" ContentType="image/png"/>
  <Override PartName="/ppt/media/SN00107_.wav" ContentType="audio/x-wav"/>
  <Override PartName="/ppt/media/image8.gif" ContentType="image/gif"/>
  <Override PartName="/ppt/media/image19.wmf" ContentType="image/x-wmf"/>
  <Override PartName="/ppt/media/image3.png" ContentType="image/png"/>
  <Override PartName="/ppt/media/image20.wmf" ContentType="image/x-wmf"/>
  <Override PartName="/ppt/media/image7.gif" ContentType="image/gif"/>
  <Override PartName="/ppt/media/image4.png" ContentType="image/png"/>
  <Override PartName="/ppt/media/image12.wmf" ContentType="image/x-wmf"/>
  <Override PartName="/ppt/media/image27.wmf" ContentType="image/x-wmf"/>
  <Override PartName="/ppt/media/image28.wmf" ContentType="image/x-wmf"/>
  <Override PartName="/ppt/media/image30.wmf" ContentType="image/x-wmf"/>
  <Override PartName="/ppt/media/image2.png" ContentType="image/png"/>
  <Override PartName="/ppt/media/image5.png" ContentType="image/png"/>
  <Override PartName="/ppt/media/image29.wmf" ContentType="image/x-wmf"/>
  <Override PartName="/ppt/media/image1.png" ContentType="image/png"/>
  <Override PartName="/ppt/media/image13.png" ContentType="image/png"/>
  <Override PartName="/ppt/media/SN00578A.wav" ContentType="audio/x-wav"/>
  <Override PartName="/ppt/media/image10.wmf" ContentType="image/x-wmf"/>
  <Override PartName="/ppt/media/image14.gif" ContentType="image/gif"/>
  <Override PartName="/ppt/media/image11.wmf" ContentType="image/x-wmf"/>
  <Override PartName="/ppt/media/image15.gif" ContentType="image/gif"/>
  <Override PartName="/ppt/media/image21.wmf" ContentType="image/x-wmf"/>
  <Override PartName="/ppt/media/image18.png" ContentType="image/png"/>
  <Override PartName="/ppt/media/image16.wmf" ContentType="image/x-wmf"/>
  <Override PartName="/ppt/media/image17.gif" ContentType="image/gif"/>
  <Override PartName="/ppt/media/image22.png" ContentType="image/png"/>
  <Override PartName="/ppt/media/image9.wmf" ContentType="image/x-wmf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E10-B8EE-4000-B27C-F676B1EE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E14-1368-4D54-81AB-E5889029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852-3EB8-43D8-AE82-A64F7EEC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BC4-68B8-444E-A755-575432D9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6FB0-C752-4126-ADD2-7599EFBE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DE7C-7FF8-4C23-BB21-6C706F134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0CE2-C0C4-4778-9053-F53F0BA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5963-5C7B-4172-8F9F-670B1B1C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E600-B251-418A-8B94-716C1067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9E4A-89D8-4214-971D-C04E48C2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C7EB-BF0C-4D8E-B77B-2E1D0A2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958-FF7F-4EB5-9DA0-7B65C5BA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4CE8-E355-4836-9BCF-2ED6D028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4E56-1101-40F5-922C-A05C5172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29EA-BF17-414F-8A25-04BD553D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CAC8-CA10-43B7-A4AA-BA0F6C8A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3742-BAE1-418F-8C5E-10D8EC51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086-39CA-4F6A-AE4E-7D039384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8D3-35BC-46B2-A088-975416F6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FFB-39EF-480D-9CDE-69C32898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27F9-EC46-44BA-8FDC-CF609E5A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B436-F8EA-4910-AC7A-9F5AA17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55D-7DCA-410B-B595-089E0049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EA6-F89C-4BFB-9400-190B1C03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520" indent="-3985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4017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371600" indent="-342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3" marL="1770120" indent="-284040">
              <a:spcBef>
                <a:spcPts val="700"/>
              </a:spcBef>
              <a:buClr>
                <a:srgbClr val="8dba7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4" marL="2119320" indent="-23508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5" marL="2119320" indent="-23508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6" marL="2119320" indent="-235080">
              <a:spcBef>
                <a:spcPts val="700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6FC2-9B62-4834-9BC7-25746E564BD3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00"/>
                </a:solidFill>
                <a:latin typeface="Comic Sans MS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5C3E-99AC-4FEA-B6ED-20E54C0B421F}" type="slidenum">
              <a:rPr b="0" i="1" lang="zh-CN" sz="1400" spc="-1" strike="noStrike">
                <a:solidFill>
                  <a:srgbClr val="ffffff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2" marL="914400" indent="114480" algn="ctr">
              <a:spcBef>
                <a:spcPts val="550"/>
              </a:spcBef>
              <a:buClr>
                <a:srgbClr val="0033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8dba7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4" marL="1828800" indent="55440" algn="ctr">
              <a:spcBef>
                <a:spcPts val="451"/>
              </a:spcBef>
              <a:buClr>
                <a:srgbClr val="0033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5" marL="1828800" indent="55440">
              <a:spcBef>
                <a:spcPts val="4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6" marL="1828800" indent="55440">
              <a:spcBef>
                <a:spcPts val="451"/>
              </a:spcBef>
              <a:buClr>
                <a:srgbClr val="00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hyperlink" Target="http://nsns.com/Mix/" TargetMode="Externa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21.wmf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SN00578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audio" Target="../media/SN00107_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gi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Comic Sans MS"/>
                <a:ea typeface="宋体"/>
              </a:rPr>
              <a:t>Principles of Marketing</a:t>
            </a:r>
            <a:endParaRPr b="0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68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Chapter I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omic Sans MS"/>
                <a:ea typeface="宋体"/>
              </a:rPr>
              <a:t>Understanding Marketing &amp; The Marketing Process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F6D6-74D4-4611-BBB4-7C0975B2A46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ustomer Value &amp; Satisfact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01960"/>
            <a:ext cx="77724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Customer value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25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00"/>
                </a:solidFill>
                <a:latin typeface="Tahoma"/>
                <a:ea typeface="宋体"/>
              </a:rPr>
              <a:t>	</a:t>
            </a:r>
            <a:endParaRPr b="0" lang="en-US" sz="700" spc="-1" strike="noStrike">
              <a:solidFill>
                <a:srgbClr val="003300"/>
              </a:solidFill>
              <a:latin typeface="Tahoma"/>
            </a:endParaRPr>
          </a:p>
          <a:p>
            <a:pPr lvl="1" marL="958680" indent="-3924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The difference between the values the customer gains from owning and using a product and the costs of obtaining the product.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5868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58680" indent="-39240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Gains: functional &amp; emotional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5868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1" marL="958680" indent="-39240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osts: money, time, effort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58680" indent="0"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1" marL="958680" indent="-392400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Conclusion: to improve customer value either by increasing customer gains or reducing customer cost or both.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4F1-E172-4869-B5FD-2135131DF5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ustomer Value &amp; </a:t>
            </a:r>
            <a:r>
              <a:rPr b="0" i="1" lang="en-US" sz="4000" spc="-1" strike="noStrike">
                <a:solidFill>
                  <a:srgbClr val="ffffff"/>
                </a:solidFill>
                <a:latin typeface="Comic Sans MS"/>
                <a:ea typeface="宋体"/>
              </a:rPr>
              <a:t>Satisfaction</a:t>
            </a:r>
            <a:endParaRPr b="0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Customer satisfaction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Tahoma"/>
                <a:ea typeface="宋体"/>
              </a:rPr>
              <a:t>	</a:t>
            </a: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48960" indent="-3884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The extent to which a product’s perceived performance matches a buyer’s expectations.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489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489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48960" indent="-388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Cost of attracting a new customer can be up to 5 times the cost of keeping a current one happy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489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489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48960" indent="-388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An unsatisfied customer tells the experience to 10 other people.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  <a:p>
            <a:pPr lvl="1" marL="94896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48960" indent="-388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According to the </a:t>
            </a:r>
            <a:r>
              <a:rPr b="0" lang="en-US" sz="2000" spc="-1" strike="noStrike" u="sng">
                <a:solidFill>
                  <a:srgbClr val="808000"/>
                </a:solidFill>
                <a:uFillTx/>
                <a:latin typeface="Tahoma"/>
                <a:hlinkClick r:id="rId6"/>
              </a:rPr>
              <a:t>American Marketing Association (AMA),</a:t>
            </a: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 for an average company, 65% of its business comes from its presently satisfied customers.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4896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00"/>
              </a:solidFill>
              <a:latin typeface="Tahoma"/>
            </a:endParaRPr>
          </a:p>
          <a:p>
            <a:pPr lvl="1" marL="948960" indent="-388440">
              <a:lnSpc>
                <a:spcPct val="90000"/>
              </a:lnSpc>
              <a:spcBef>
                <a:spcPts val="524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ff"/>
                </a:solidFill>
                <a:latin typeface="Tahoma"/>
                <a:ea typeface="宋体"/>
              </a:rPr>
              <a:t>Tip: do not over-promise, but try to surprise customers with unexpected offering.</a:t>
            </a:r>
            <a:endParaRPr b="0" lang="en-US" sz="21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9D5-8A85-480C-8DE9-C4C078B18A5C}" type="slidenum">
              <a:t>11</a:t>
            </a:fld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ustomer Satisfaction &amp; Dow Jon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" y="1523880"/>
          <a:ext cx="7772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2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042-07B6-4D1D-850C-14E4951CBD2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Exchange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Exchange: The act of obtaining a desired object from someone by offering something in return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58680" indent="-3924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Value-creating process since it leaves both parties better off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586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58680" indent="-3924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Win-win situation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410080" y="3973680"/>
            <a:ext cx="2362320" cy="235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3AF-C86C-45F6-9E6E-F737F1CC5C5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ransaction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ransaction: a trade of values between two partie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-3967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Task of marketing – to build desirable relationships between parties through exchange &amp; transaction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819520" y="2286000"/>
            <a:ext cx="289548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216-9137-4A03-8BD1-843031F57997}" type="slidenum">
              <a:t>14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Relationship Market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5388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The process of creating, maintaining, and enhancing strong, value-laden and long-term relationships with customers and other stakeholders.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-39672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Who are the stakeholders?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-39672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Why is relationship marketing important?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-39672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How to establish good relationships with stakeholders?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F39-B720-4FCD-9C89-BF63493E66DE}" type="slidenum">
              <a:t>15</a:t>
            </a:fld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 Manage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520" indent="-398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he art and science of choosing target markets and building profitable relationships with them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2327400" y="5288040"/>
            <a:ext cx="671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676520" y="4876920"/>
            <a:ext cx="2209680" cy="990360"/>
            <a:chOff x="1676520" y="4876920"/>
            <a:chExt cx="2209680" cy="990360"/>
          </a:xfrm>
        </p:grpSpPr>
        <p:sp>
          <p:nvSpPr>
            <p:cNvPr id="155" name=""/>
            <p:cNvSpPr/>
            <p:nvPr/>
          </p:nvSpPr>
          <p:spPr>
            <a:xfrm>
              <a:off x="1752480" y="4876920"/>
              <a:ext cx="1981440" cy="9903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6520" y="495288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Demand Managemen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029200" y="4876920"/>
            <a:ext cx="2057400" cy="1267200"/>
            <a:chOff x="5029200" y="4876920"/>
            <a:chExt cx="2057400" cy="1267200"/>
          </a:xfrm>
        </p:grpSpPr>
        <p:sp>
          <p:nvSpPr>
            <p:cNvPr id="158" name=""/>
            <p:cNvSpPr/>
            <p:nvPr/>
          </p:nvSpPr>
          <p:spPr>
            <a:xfrm>
              <a:off x="5105520" y="4876920"/>
              <a:ext cx="1981080" cy="9903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495288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Customer Managemen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00400" y="3352680"/>
            <a:ext cx="2205000" cy="990720"/>
            <a:chOff x="3200400" y="3352680"/>
            <a:chExt cx="2205000" cy="990720"/>
          </a:xfrm>
        </p:grpSpPr>
        <p:sp>
          <p:nvSpPr>
            <p:cNvPr id="161" name=""/>
            <p:cNvSpPr/>
            <p:nvPr/>
          </p:nvSpPr>
          <p:spPr>
            <a:xfrm>
              <a:off x="3276720" y="3352680"/>
              <a:ext cx="1981080" cy="990720"/>
            </a:xfrm>
            <a:prstGeom prst="roundRect">
              <a:avLst>
                <a:gd name="adj" fmla="val 16667"/>
              </a:avLst>
            </a:prstGeom>
            <a:solidFill>
              <a:srgbClr val="8dba7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00400" y="3429000"/>
              <a:ext cx="220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Marketing Management</a:t>
              </a: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H="1">
            <a:off x="2895120" y="4343400"/>
            <a:ext cx="1219320" cy="53352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37800" y="4366800"/>
            <a:ext cx="1333440" cy="49572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A1F-EEFC-4151-A347-8366CD658584}" type="slidenum">
              <a:t>16</a:t>
            </a:fld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Demand Manage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25640"/>
            <a:ext cx="77724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Managing demand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-39672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Desired level of demand for the products of an organization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2" marL="1432080" indent="-349560">
              <a:lnSpc>
                <a:spcPct val="90000"/>
              </a:lnSpc>
              <a:spcBef>
                <a:spcPts val="451"/>
              </a:spcBef>
              <a:buClr>
                <a:srgbClr val="8dba7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Find and increase demand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432080" indent="-349560">
              <a:lnSpc>
                <a:spcPct val="90000"/>
              </a:lnSpc>
              <a:spcBef>
                <a:spcPts val="451"/>
              </a:spcBef>
              <a:buClr>
                <a:srgbClr val="8dba7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Change or reduce demand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432080" indent="-349560">
              <a:lnSpc>
                <a:spcPct val="90000"/>
              </a:lnSpc>
              <a:spcBef>
                <a:spcPts val="451"/>
              </a:spcBef>
              <a:buClr>
                <a:srgbClr val="8dba76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Demarketing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: marketing to reduce demand temporarily or permanently – aim not to destroy demand but only to reduce or shift it. </a:t>
            </a:r>
            <a:endParaRPr b="0" lang="en-US" sz="1800" spc="-1" strike="noStrike">
              <a:solidFill>
                <a:srgbClr val="003300"/>
              </a:solidFill>
              <a:latin typeface="Tahoma"/>
            </a:endParaRPr>
          </a:p>
          <a:p>
            <a:pPr lvl="2" marL="1432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-39672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Serve selected customers that they can serve well and profitably. 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-39672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Satisfy both expressed and potential customer demands.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14F-7CD0-4901-BDBF-4BD3BDFC5FC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 Management Orientation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62120" y="1689120"/>
          <a:ext cx="7848360" cy="4375080"/>
        </p:xfrm>
        <a:graphic>
          <a:graphicData uri="http://schemas.openxmlformats.org/drawingml/2006/table">
            <a:tbl>
              <a:tblPr/>
              <a:tblGrid>
                <a:gridCol w="1218960"/>
                <a:gridCol w="2895840"/>
                <a:gridCol w="1447560"/>
                <a:gridCol w="228600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Orientation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Relative Time &amp; Span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Basic Managerial Objectiv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duction concept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Transition from home manufacturing to factorie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ndustrial Revolution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fit maximization via economies of scal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duct concept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Focus on product development, performance and features and the growth of large scale industrial empire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fit maximization through superior product performance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ales concept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Transition from scarcity of goods to scarcity of market; market saturation with basic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fit maximization via demand generation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rketing concept 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Transition from Internal (Organization) to External (Customer) basis for guiding marketing decision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1990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fit maximization via matching of products to customer wants</a:t>
                      </a:r>
                      <a:endParaRPr b="0" lang="en-US" sz="1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5410080" y="3119400"/>
            <a:ext cx="457200" cy="2290680"/>
          </a:xfrm>
          <a:prstGeom prst="downArrow">
            <a:avLst>
              <a:gd name="adj1" fmla="val 37500"/>
              <a:gd name="adj2" fmla="val 32984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48F-F94A-4B5B-BF16-FD933B3470B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Marketing Concep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Meeting the needs &amp; wants of customer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2770200"/>
            <a:ext cx="2421000" cy="4302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f1f7e9"/>
            </a:solidFill>
            <a:miter/>
          </a:ln>
          <a:effectLst>
            <a:outerShdw dist="63504" dir="3183908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A customer orientation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809880"/>
            <a:ext cx="3362400" cy="484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1f7e9"/>
            </a:solidFill>
            <a:miter/>
          </a:ln>
          <a:effectLst>
            <a:outerShdw dist="63504" dir="3183908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Backed by integrated marketing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4952880"/>
            <a:ext cx="45720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1f7e9"/>
            </a:solidFill>
            <a:miter/>
          </a:ln>
          <a:effectLst>
            <a:outerShdw dist="63504" dir="3183908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Aimed at generating customer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satisfaction &amp; repurchase as the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  <a:ea typeface="宋体"/>
              </a:rPr>
              <a:t>key to satisfying the organizational goal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2767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8bae6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38480" y="44197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8bae6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837-DDB7-4F17-AA47-47C1A015F3C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What is Market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4008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A social and managerial process whereby individuals and groups obtain what they need and want through creating and exchanging products and value with others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581280" y="4379760"/>
            <a:ext cx="1981440" cy="18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1CF-585B-4197-9A90-978A492D3E25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Marketing Concept (Cont’d)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69608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Selling vs. marketing concept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95280" y="2779560"/>
          <a:ext cx="6172200" cy="2840040"/>
        </p:xfrm>
        <a:graphic>
          <a:graphicData uri="http://schemas.openxmlformats.org/drawingml/2006/table">
            <a:tbl>
              <a:tblPr/>
              <a:tblGrid>
                <a:gridCol w="1486080"/>
                <a:gridCol w="1488960"/>
                <a:gridCol w="1486080"/>
                <a:gridCol w="1711080"/>
              </a:tblGrid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Focus 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End 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ales Concept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ducts 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Selling &amp; promotion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fits through sales volume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66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Marketing concept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993366"/>
                          </a:solidFill>
                          <a:latin typeface="Tahoma"/>
                          <a:ea typeface="宋体"/>
                        </a:rPr>
                        <a:t>Customer needs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Integrated marketing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Tahoma"/>
                          <a:ea typeface="宋体"/>
                        </a:rPr>
                        <a:t>Profits through customer satisfaction</a:t>
                      </a:r>
                      <a:endParaRPr b="0" lang="en-US" sz="1800" spc="-1" strike="noStrike">
                        <a:solidFill>
                          <a:srgbClr val="00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503-5464-4A38-BDA8-EB28104DDC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The Societal Marketing Concep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15388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520" indent="-398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he idea that the organization should determine the needs, wants, and interests of target markets and deliver the desired satisfaction more effectively and efficiently than competitors in a way that maintains or improves the consumer’s and society’s well-being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39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EF03-95E2-4FBD-B660-D392FD7B68E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ustomer Relationship Management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68740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he overall process of building and maintaining </a:t>
            </a:r>
            <a:r>
              <a:rPr b="0" lang="en-US" sz="2800" spc="-1" strike="noStrike" u="sng">
                <a:solidFill>
                  <a:srgbClr val="993366"/>
                </a:solidFill>
                <a:uFillTx/>
                <a:latin typeface="Tahoma"/>
                <a:ea typeface="宋体"/>
              </a:rPr>
              <a:t>profitable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customer relationships by delivering superior customer value and satisfaction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C4E-A2AE-40C0-ACB1-5CE3AEE3C8D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Attracting &amp; Retaining Custom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78360" indent="-3783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Customer value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37836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868680" indent="-38160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Deliver the highest customer perceived value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marL="378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378360" indent="-3783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Customer satisfaction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37836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868680" indent="-381600">
              <a:lnSpc>
                <a:spcPct val="15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        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erceived performance &lt; Expectation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868680" indent="-381600">
              <a:lnSpc>
                <a:spcPct val="15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        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erceived performance = Expectation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868680" indent="-381600">
              <a:lnSpc>
                <a:spcPct val="15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        </a:t>
            </a:r>
            <a:r>
              <a:rPr b="0" lang="en-US" sz="2200" spc="-1" strike="noStrike">
                <a:solidFill>
                  <a:srgbClr val="003300"/>
                </a:solidFill>
                <a:latin typeface="Tahoma"/>
                <a:ea typeface="宋体"/>
              </a:rPr>
              <a:t>Perceived performance &gt; Expectations</a:t>
            </a:r>
            <a:endParaRPr b="0" lang="en-US" sz="2200" spc="-1" strike="noStrike">
              <a:solidFill>
                <a:srgbClr val="003300"/>
              </a:solidFill>
              <a:latin typeface="Tahoma"/>
            </a:endParaRPr>
          </a:p>
          <a:p>
            <a:pPr lvl="1" marL="8686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378360" indent="-37836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Customer loyalty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1657440" y="3429000"/>
            <a:ext cx="628560" cy="522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9"/>
          <a:stretch/>
        </p:blipFill>
        <p:spPr>
          <a:xfrm>
            <a:off x="7418520" y="3429000"/>
            <a:ext cx="506160" cy="600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"/>
          <a:stretch/>
        </p:blipFill>
        <p:spPr>
          <a:xfrm>
            <a:off x="7391520" y="4898880"/>
            <a:ext cx="682560" cy="587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1"/>
          <a:stretch/>
        </p:blipFill>
        <p:spPr>
          <a:xfrm>
            <a:off x="1752480" y="4911840"/>
            <a:ext cx="549360" cy="574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2"/>
          <a:stretch/>
        </p:blipFill>
        <p:spPr>
          <a:xfrm>
            <a:off x="7162920" y="4121280"/>
            <a:ext cx="838080" cy="60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3"/>
          <a:stretch/>
        </p:blipFill>
        <p:spPr>
          <a:xfrm>
            <a:off x="1676520" y="4089240"/>
            <a:ext cx="76176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FF9-01F2-4E15-A0DB-11D3C6634EB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ustomer Loyalty &amp; Profit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28800" y="2109960"/>
            <a:ext cx="6553080" cy="4267080"/>
            <a:chOff x="1828800" y="2109960"/>
            <a:chExt cx="6553080" cy="4267080"/>
          </a:xfrm>
        </p:grpSpPr>
        <p:sp>
          <p:nvSpPr>
            <p:cNvPr id="194" name=""/>
            <p:cNvSpPr/>
            <p:nvPr/>
          </p:nvSpPr>
          <p:spPr>
            <a:xfrm>
              <a:off x="1828800" y="2109960"/>
              <a:ext cx="0" cy="42670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800" y="5234040"/>
              <a:ext cx="655308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09880" y="4624560"/>
            <a:ext cx="2057400" cy="609480"/>
            <a:chOff x="3809880" y="4624560"/>
            <a:chExt cx="2057400" cy="609480"/>
          </a:xfrm>
        </p:grpSpPr>
        <p:sp>
          <p:nvSpPr>
            <p:cNvPr id="197" name=""/>
            <p:cNvSpPr/>
            <p:nvPr/>
          </p:nvSpPr>
          <p:spPr>
            <a:xfrm>
              <a:off x="3809880" y="4624560"/>
              <a:ext cx="762120" cy="609480"/>
            </a:xfrm>
            <a:prstGeom prst="rect">
              <a:avLst/>
            </a:prstGeom>
            <a:solidFill>
              <a:srgbClr val="e1c09f"/>
            </a:solidFill>
            <a:ln w="9360">
              <a:solidFill>
                <a:srgbClr val="f1f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66"/>
                  </a:solidFill>
                  <a:latin typeface="Tahoma"/>
                  <a:ea typeface="宋体"/>
                </a:rPr>
                <a:t>Normal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66"/>
                  </a:solidFill>
                  <a:latin typeface="Tahoma"/>
                  <a:ea typeface="宋体"/>
                </a:rPr>
                <a:t>profits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160" y="4624560"/>
              <a:ext cx="762120" cy="609480"/>
            </a:xfrm>
            <a:prstGeom prst="rect">
              <a:avLst/>
            </a:prstGeom>
            <a:solidFill>
              <a:srgbClr val="e1c09f"/>
            </a:solidFill>
            <a:ln w="9360">
              <a:solidFill>
                <a:srgbClr val="f1f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66"/>
                  </a:solidFill>
                  <a:latin typeface="Tahoma"/>
                  <a:ea typeface="宋体"/>
                </a:rPr>
                <a:t>Normal 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66"/>
                  </a:solidFill>
                  <a:latin typeface="Tahoma"/>
                  <a:ea typeface="宋体"/>
                </a:rPr>
                <a:t>profits</a:t>
              </a:r>
              <a:endParaRPr b="0" lang="en-US" sz="1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64880" y="4314960"/>
            <a:ext cx="2606760" cy="337320"/>
            <a:chOff x="1964880" y="4314960"/>
            <a:chExt cx="2606760" cy="337320"/>
          </a:xfrm>
        </p:grpSpPr>
        <p:sp>
          <p:nvSpPr>
            <p:cNvPr id="200" name=""/>
            <p:cNvSpPr/>
            <p:nvPr/>
          </p:nvSpPr>
          <p:spPr>
            <a:xfrm>
              <a:off x="3809880" y="4319640"/>
              <a:ext cx="761760" cy="30420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f1f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64880" y="431496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ff"/>
                  </a:solidFill>
                  <a:latin typeface="Tahoma"/>
                  <a:ea typeface="宋体"/>
                </a:rPr>
                <a:t>Increased usage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105520" y="4243320"/>
            <a:ext cx="3454200" cy="408600"/>
            <a:chOff x="5105520" y="4243320"/>
            <a:chExt cx="3454200" cy="408600"/>
          </a:xfrm>
        </p:grpSpPr>
        <p:sp>
          <p:nvSpPr>
            <p:cNvPr id="203" name=""/>
            <p:cNvSpPr/>
            <p:nvPr/>
          </p:nvSpPr>
          <p:spPr>
            <a:xfrm>
              <a:off x="5105520" y="4243320"/>
              <a:ext cx="762120" cy="380880"/>
            </a:xfrm>
            <a:prstGeom prst="rect">
              <a:avLst/>
            </a:prstGeom>
            <a:solidFill>
              <a:srgbClr val="cc00ff"/>
            </a:solidFill>
            <a:ln w="9360">
              <a:solidFill>
                <a:srgbClr val="f1f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02360" y="4314600"/>
              <a:ext cx="24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ff"/>
                  </a:solidFill>
                  <a:latin typeface="Tahoma"/>
                  <a:ea typeface="宋体"/>
                </a:rPr>
                <a:t>Increased usage(</a:t>
              </a:r>
              <a:r>
                <a:rPr b="0" lang="zh-CN" sz="1600" spc="-1" strike="noStrike">
                  <a:solidFill>
                    <a:srgbClr val="cc00ff"/>
                  </a:solidFill>
                  <a:latin typeface="Tahoma"/>
                  <a:ea typeface="宋体"/>
                </a:rPr>
                <a:t>需求增长</a:t>
              </a:r>
              <a:r>
                <a:rPr b="0" lang="en-US" sz="1600" spc="-1" strike="noStrike">
                  <a:solidFill>
                    <a:srgbClr val="cc00ff"/>
                  </a:solidFill>
                  <a:latin typeface="Tahoma"/>
                  <a:ea typeface="宋体"/>
                </a:rPr>
                <a:t>)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405440" y="3938760"/>
            <a:ext cx="3166560" cy="408960"/>
            <a:chOff x="1405440" y="3938760"/>
            <a:chExt cx="3166560" cy="408960"/>
          </a:xfrm>
        </p:grpSpPr>
        <p:sp>
          <p:nvSpPr>
            <p:cNvPr id="206" name=""/>
            <p:cNvSpPr/>
            <p:nvPr/>
          </p:nvSpPr>
          <p:spPr>
            <a:xfrm>
              <a:off x="3809880" y="3938760"/>
              <a:ext cx="762120" cy="381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1f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05440" y="4010400"/>
              <a:ext cx="236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Tahoma"/>
                  <a:ea typeface="宋体"/>
                </a:rPr>
                <a:t>Reduced selling effort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105520" y="3786120"/>
            <a:ext cx="4043880" cy="457200"/>
            <a:chOff x="5105520" y="3786120"/>
            <a:chExt cx="4043880" cy="457200"/>
          </a:xfrm>
        </p:grpSpPr>
        <p:sp>
          <p:nvSpPr>
            <p:cNvPr id="209" name=""/>
            <p:cNvSpPr/>
            <p:nvPr/>
          </p:nvSpPr>
          <p:spPr>
            <a:xfrm>
              <a:off x="5105520" y="3786120"/>
              <a:ext cx="7621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1f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79680" y="3857400"/>
              <a:ext cx="30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Tahoma"/>
                  <a:ea typeface="宋体"/>
                </a:rPr>
                <a:t>Reduced selling efforts(</a:t>
              </a:r>
              <a:r>
                <a:rPr b="0" lang="zh-CN" sz="1600" spc="-1" strike="noStrike">
                  <a:solidFill>
                    <a:srgbClr val="ff5050"/>
                  </a:solidFill>
                  <a:latin typeface="Tahoma"/>
                  <a:ea typeface="宋体"/>
                </a:rPr>
                <a:t>成本节约</a:t>
              </a:r>
              <a:r>
                <a:rPr b="0" lang="en-US" sz="1600" spc="-1" strike="noStrike">
                  <a:solidFill>
                    <a:srgbClr val="ff5050"/>
                  </a:solidFill>
                  <a:latin typeface="Tahoma"/>
                  <a:ea typeface="宋体"/>
                </a:rPr>
                <a:t>)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130480" y="3557520"/>
            <a:ext cx="2441160" cy="392760"/>
            <a:chOff x="2130480" y="3557520"/>
            <a:chExt cx="2441160" cy="392760"/>
          </a:xfrm>
        </p:grpSpPr>
        <p:sp>
          <p:nvSpPr>
            <p:cNvPr id="212" name=""/>
            <p:cNvSpPr/>
            <p:nvPr/>
          </p:nvSpPr>
          <p:spPr>
            <a:xfrm>
              <a:off x="3809880" y="3557520"/>
              <a:ext cx="761760" cy="38088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f1f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30480" y="361296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66"/>
                  </a:solidFill>
                  <a:latin typeface="Tahoma"/>
                  <a:ea typeface="宋体"/>
                </a:rPr>
                <a:t>Price premium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100480" y="3328920"/>
            <a:ext cx="3279240" cy="457200"/>
            <a:chOff x="5100480" y="3328920"/>
            <a:chExt cx="3279240" cy="457200"/>
          </a:xfrm>
        </p:grpSpPr>
        <p:sp>
          <p:nvSpPr>
            <p:cNvPr id="215" name=""/>
            <p:cNvSpPr/>
            <p:nvPr/>
          </p:nvSpPr>
          <p:spPr>
            <a:xfrm>
              <a:off x="5100480" y="3328920"/>
              <a:ext cx="762120" cy="4572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f1f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1560" y="3400200"/>
              <a:ext cx="228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3366"/>
                  </a:solidFill>
                  <a:latin typeface="Tahoma"/>
                  <a:ea typeface="宋体"/>
                </a:rPr>
                <a:t>Price premium(</a:t>
              </a:r>
              <a:r>
                <a:rPr b="0" lang="zh-CN" sz="1600" spc="-1" strike="noStrike">
                  <a:solidFill>
                    <a:srgbClr val="993366"/>
                  </a:solidFill>
                  <a:latin typeface="Tahoma"/>
                  <a:ea typeface="宋体"/>
                </a:rPr>
                <a:t>价格溢价</a:t>
              </a:r>
              <a:r>
                <a:rPr b="0" lang="en-US" sz="1600" spc="-1" strike="noStrike">
                  <a:solidFill>
                    <a:srgbClr val="993366"/>
                  </a:solidFill>
                  <a:latin typeface="Tahoma"/>
                  <a:ea typeface="宋体"/>
                </a:rPr>
                <a:t>)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668320" y="3216240"/>
            <a:ext cx="1903320" cy="341280"/>
            <a:chOff x="2668320" y="3216240"/>
            <a:chExt cx="1903320" cy="341280"/>
          </a:xfrm>
        </p:grpSpPr>
        <p:sp>
          <p:nvSpPr>
            <p:cNvPr id="218" name=""/>
            <p:cNvSpPr/>
            <p:nvPr/>
          </p:nvSpPr>
          <p:spPr>
            <a:xfrm>
              <a:off x="3809880" y="3252600"/>
              <a:ext cx="76176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1f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68320" y="321624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Tahoma"/>
                  <a:ea typeface="宋体"/>
                </a:rPr>
                <a:t>Referral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105520" y="2948040"/>
            <a:ext cx="2740680" cy="380880"/>
            <a:chOff x="5105520" y="2948040"/>
            <a:chExt cx="2740680" cy="380880"/>
          </a:xfrm>
        </p:grpSpPr>
        <p:sp>
          <p:nvSpPr>
            <p:cNvPr id="221" name=""/>
            <p:cNvSpPr/>
            <p:nvPr/>
          </p:nvSpPr>
          <p:spPr>
            <a:xfrm>
              <a:off x="5105520" y="2948040"/>
              <a:ext cx="7617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1f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02360" y="29876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cc99"/>
                  </a:solidFill>
                  <a:latin typeface="Tahoma"/>
                  <a:ea typeface="宋体"/>
                </a:rPr>
                <a:t>Referrals(</a:t>
              </a:r>
              <a:r>
                <a:rPr b="0" lang="zh-CN" sz="1600" spc="-1" strike="noStrike">
                  <a:solidFill>
                    <a:srgbClr val="00cc99"/>
                  </a:solidFill>
                  <a:latin typeface="Tahoma"/>
                  <a:ea typeface="宋体"/>
                </a:rPr>
                <a:t>推荐下线</a:t>
              </a:r>
              <a:r>
                <a:rPr b="0" lang="en-US" sz="1600" spc="-1" strike="noStrike">
                  <a:solidFill>
                    <a:srgbClr val="00cc99"/>
                  </a:solidFill>
                  <a:latin typeface="Tahoma"/>
                  <a:ea typeface="宋体"/>
                </a:rPr>
                <a:t>)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286000" y="5234040"/>
            <a:ext cx="1218960" cy="1490760"/>
            <a:chOff x="2286000" y="5234040"/>
            <a:chExt cx="1218960" cy="1490760"/>
          </a:xfrm>
        </p:grpSpPr>
        <p:sp>
          <p:nvSpPr>
            <p:cNvPr id="224" name=""/>
            <p:cNvSpPr/>
            <p:nvPr/>
          </p:nvSpPr>
          <p:spPr>
            <a:xfrm>
              <a:off x="2514600" y="5234040"/>
              <a:ext cx="761760" cy="60948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f1f7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86000" y="5919840"/>
              <a:ext cx="121896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Acquisition 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00"/>
                  </a:solidFill>
                  <a:latin typeface="Tahoma"/>
                  <a:ea typeface="宋体"/>
                </a:rPr>
                <a:t>costs</a:t>
              </a:r>
              <a:endParaRPr b="0" lang="en-US" sz="16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809880" y="2185920"/>
            <a:ext cx="2210040" cy="838440"/>
          </a:xfrm>
          <a:custGeom>
            <a:avLst/>
            <a:gdLst/>
            <a:ahLst/>
            <a:rect l="l" t="t" r="r" b="b"/>
            <a:pathLst>
              <a:path w="1392" h="528">
                <a:moveTo>
                  <a:pt x="0" y="528"/>
                </a:moveTo>
                <a:cubicBezTo>
                  <a:pt x="180" y="500"/>
                  <a:pt x="360" y="472"/>
                  <a:pt x="528" y="432"/>
                </a:cubicBezTo>
                <a:cubicBezTo>
                  <a:pt x="696" y="392"/>
                  <a:pt x="864" y="360"/>
                  <a:pt x="1008" y="288"/>
                </a:cubicBezTo>
                <a:cubicBezTo>
                  <a:pt x="1152" y="216"/>
                  <a:pt x="1328" y="48"/>
                  <a:pt x="1392" y="0"/>
                </a:cubicBezTo>
              </a:path>
            </a:pathLst>
          </a:custGeom>
          <a:noFill/>
          <a:ln w="3816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45760" y="517536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Time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18160" y="22035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  <a:ea typeface="宋体"/>
              </a:rPr>
              <a:t>Profit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F2D-21C8-4FC0-A737-CC5DB68FE1BC}" type="slidenum">
              <a:t>24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Growing Share of Custom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534760"/>
            <a:ext cx="7772400" cy="27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520" indent="-398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Share of customers: the share a company gets of the customer’s purchasing in its product categorie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398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marL="398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4017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ross-selling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CA1-DB2E-4F72-ABD4-F6E7FEEB028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ustomer Equity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306160"/>
            <a:ext cx="77724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520" indent="-398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The total combined customer lifetime values of all of the company’s customers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398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4017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 better measure of a firm’s performance than current sales or market share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4017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urrent sales &amp; market share – the past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4017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ustomer equity – the futur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7F6-4987-4CA6-AA42-EDCFDCC0C62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ustomer Retention Tool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05120" y="25146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520" indent="-39852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Financial benefit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398520" indent="-39852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Social benefit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398520" indent="-39852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Structural ties (FedEx Virtual Order)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C47-3CC0-4737-A773-C39326A2355B}" type="slidenum">
              <a:t>27</a:t>
            </a:fld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Questions &amp; Answ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9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256-7F21-45C2-A308-492DD875964B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Focus of Modern Market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2460600" cy="3009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73800" y="289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ba76"/>
                </a:solidFill>
                <a:latin typeface="Tahoma"/>
                <a:ea typeface="宋体"/>
              </a:rPr>
              <a:t>Custome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76400" y="34290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ustomer valu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34290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ustomer satisfacti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93400" y="495288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Attract, retain and grow </a:t>
            </a:r>
            <a:r>
              <a:rPr b="0" i="1" lang="en-US" sz="2400" spc="-1" strike="noStrike" u="sng">
                <a:solidFill>
                  <a:srgbClr val="993366"/>
                </a:solidFill>
                <a:uFillTx/>
                <a:latin typeface="Tahoma"/>
                <a:ea typeface="宋体"/>
              </a:rPr>
              <a:t>profitable</a:t>
            </a:r>
            <a:r>
              <a:rPr b="0" lang="en-US" sz="2400" spc="-1" strike="noStrike">
                <a:solidFill>
                  <a:srgbClr val="993366"/>
                </a:solidFill>
                <a:latin typeface="Tahoma"/>
                <a:ea typeface="宋体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customer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3962520"/>
            <a:ext cx="304560" cy="838080"/>
          </a:xfrm>
          <a:prstGeom prst="downArrow">
            <a:avLst>
              <a:gd name="adj1" fmla="val 50000"/>
              <a:gd name="adj2" fmla="val 68794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396252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CFF-F087-4046-9431-EEB1907EE258}" type="slidenum">
              <a:t>3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0578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Core Concepts of Marketing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19810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Needs, wants and demand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297180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arketing offers (products, services &amp; experiences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31082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Market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481644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Value &amp; Satisfactio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4956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  <a:ea typeface="宋体"/>
              </a:rPr>
              <a:t>Exchange, transactions, and relationship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 rot="20727000">
            <a:off x="5867280" y="4114440"/>
            <a:ext cx="609840" cy="431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 rot="4153800">
            <a:off x="2120760" y="3822480"/>
            <a:ext cx="609480" cy="432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rot="9927000">
            <a:off x="2361960" y="2387160"/>
            <a:ext cx="609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14497800">
            <a:off x="5549760" y="2374200"/>
            <a:ext cx="609480" cy="43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 rot="1170000">
            <a:off x="4406760" y="4965840"/>
            <a:ext cx="609840" cy="431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733920" y="2905200"/>
            <a:ext cx="850680" cy="12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BB9-6421-4FB5-ABD6-15BF06022871}" type="slidenum">
              <a:t>4</a:t>
            </a:fld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Needs, Wants and Demand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Needs: basic human requirements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Wants: needs shaped by culture and individual personality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Demands: the wants for specific products backed by an ability to pay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257800" y="4876920"/>
            <a:ext cx="3048120" cy="1423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19350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B91-74F9-42CA-A130-EA0A9A2BDED8}" type="slidenum">
              <a:t>5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 Off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Products: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anything that can be offered to a market for attention, acquisition, use, or consumption that might satisfy a want or need.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-3967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  <a:ea typeface="宋体"/>
              </a:rPr>
              <a:t>It includes physical objects, services, persons, places, organizations and idea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553080" y="4424400"/>
            <a:ext cx="2133720" cy="20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66A-E133-49A4-B22B-476D6A4B837E}" type="slidenum">
              <a:t>6</a:t>
            </a:fld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N00107_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 Off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Services:</a:t>
            </a:r>
            <a:r>
              <a:rPr b="0" lang="en-US" sz="2800" spc="-1" strike="noStrike">
                <a:solidFill>
                  <a:srgbClr val="003300"/>
                </a:solidFill>
                <a:latin typeface="Tahoma"/>
                <a:ea typeface="宋体"/>
              </a:rPr>
              <a:t> any activity or benefit that one party can offer to another that is essentially intangible and does not result in the ownership of anything.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63520" y="3962520"/>
            <a:ext cx="218916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613-7438-4C26-B5FC-50163F7364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Marketing Offer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3300"/>
                </a:solidFill>
                <a:uFillTx/>
                <a:latin typeface="Tahoma"/>
                <a:ea typeface="宋体"/>
              </a:rPr>
              <a:t>Experience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-39672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To provide a solution to a need rather than just selling a product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ahoma"/>
            </a:endParaRPr>
          </a:p>
          <a:p>
            <a:pPr lvl="1" marL="968400" indent="-39672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ahoma"/>
                <a:ea typeface="宋体"/>
              </a:rPr>
              <a:t>To differentiate from competitors</a:t>
            </a:r>
            <a:endParaRPr b="0" lang="en-US" sz="26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191280" y="4724280"/>
            <a:ext cx="1962000" cy="14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4E6-0CFE-47E7-A528-8BC36B6146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Experiences</a:t>
            </a:r>
            <a:endParaRPr b="0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1509840"/>
            <a:ext cx="7238880" cy="49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785-41A3-4C3B-BE6C-BFA6F406FF69}" type="slidenum">
              <a:t>9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5:27:26Z</dcterms:created>
  <dc:creator>ABC</dc:creator>
  <dc:description/>
  <dc:language>en-US</dc:language>
  <cp:lastModifiedBy>ABC</cp:lastModifiedBy>
  <dcterms:modified xsi:type="dcterms:W3CDTF">2007-03-07T01:41:27Z</dcterms:modified>
  <cp:revision>249</cp:revision>
  <dc:subject/>
  <dc:title>Principles of Marketing</dc:title>
</cp:coreProperties>
</file>