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5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1.wmf" ContentType="image/x-wmf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EAA5-D679-4143-8FE8-D8E41C89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EEDC-95EC-4FE5-B594-1E5D4035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7D80-1CC7-4D69-A63B-5A75A111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F8E3-F816-4EE4-B3C4-FDE9ADEA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2EF9-E310-4E8C-8856-E1B204FF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1CC9-4D7D-412C-9C69-D1241287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9001-33F5-4FBB-B7B0-A53B0B7F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0F50-27FA-4D99-93C7-61803DB1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03AB-AC42-4681-827B-2B55E500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038C-839F-4B6F-8D4C-61EC2D01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8CB2-733B-47CE-B63D-F914E4DC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B01-824D-44EF-83D0-0817D200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21F8-BCCB-4D4D-BAD1-6C434344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4C58-00E1-4FD6-A30F-0DF50627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F2FD-2612-4CDC-9364-628A8B86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9201-3C0F-41F5-BFAB-99FB1E1B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5132-C94B-4891-9AF8-DABADBD4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EFE4-F8EB-4422-AC39-E49E6882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C9A4-939B-4EE5-97C9-AFF64BC2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EEBA-BE41-43BF-B439-12399DB9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289D-5707-4D1F-BB29-76774F84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AC07-AD34-43F2-BF2F-E88A6ADF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74E8-1C7D-4EC8-8893-A49365B4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E6C-FDAC-4F86-B379-63D0984D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430280" indent="-3427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3" marL="1887480" indent="-342720">
              <a:spcBef>
                <a:spcPts val="700"/>
              </a:spcBef>
              <a:buClr>
                <a:srgbClr val="8dba7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4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5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6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4367-B2E1-4E23-A43A-9D4059C191B2}" type="slidenum">
              <a: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D0C2-DA2C-4FEB-9FF4-A2A49E05D1C7}" type="slidenum">
              <a: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2" marL="914400" indent="173160" algn="ctr">
              <a:spcBef>
                <a:spcPts val="550"/>
              </a:spcBef>
              <a:buClr>
                <a:srgbClr val="0033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3" marL="1371600" indent="173160" algn="ctr">
              <a:spcBef>
                <a:spcPts val="499"/>
              </a:spcBef>
              <a:buClr>
                <a:srgbClr val="8dba7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4" marL="1828800" indent="173160" algn="ctr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5" marL="1828800" indent="173160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6" marL="1828800" indent="173160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9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9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4.xml"/><Relationship Id="rId3" Type="http://schemas.openxmlformats.org/officeDocument/2006/relationships/image" Target="../media/image7.png"/><Relationship Id="rId4" Type="http://schemas.openxmlformats.org/officeDocument/2006/relationships/slide" Target="slide15.xml"/><Relationship Id="rId5" Type="http://schemas.openxmlformats.org/officeDocument/2006/relationships/image" Target="../media/image7.png"/><Relationship Id="rId6" Type="http://schemas.openxmlformats.org/officeDocument/2006/relationships/slide" Target="slide16.xml"/><Relationship Id="rId7" Type="http://schemas.openxmlformats.org/officeDocument/2006/relationships/image" Target="../media/image7.png"/><Relationship Id="rId8" Type="http://schemas.openxmlformats.org/officeDocument/2006/relationships/slide" Target="slide18.xml"/><Relationship Id="rId9" Type="http://schemas.openxmlformats.org/officeDocument/2006/relationships/image" Target="../media/image7.png"/><Relationship Id="rId10" Type="http://schemas.openxmlformats.org/officeDocument/2006/relationships/slide" Target="slide19.xml"/><Relationship Id="rId11" Type="http://schemas.openxmlformats.org/officeDocument/2006/relationships/image" Target="../media/image7.png"/><Relationship Id="rId12" Type="http://schemas.openxmlformats.org/officeDocument/2006/relationships/slide" Target="slide19.xml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hyperlink" Target="http://biology.clc.uc.edu/fankhauser/Cheese/Ice_Cream/1_skim_cream_P5250743.jpg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" Target="slide2.xml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" Target="slide2.xml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image" Target="../media/image2.png"/><Relationship Id="rId4" Type="http://schemas.openxmlformats.org/officeDocument/2006/relationships/slide" Target="slide9.xml"/><Relationship Id="rId5" Type="http://schemas.openxmlformats.org/officeDocument/2006/relationships/image" Target="../media/image2.png"/><Relationship Id="rId6" Type="http://schemas.openxmlformats.org/officeDocument/2006/relationships/slide" Target="slide10.xml"/><Relationship Id="rId7" Type="http://schemas.openxmlformats.org/officeDocument/2006/relationships/image" Target="../media/image2.png"/><Relationship Id="rId8" Type="http://schemas.openxmlformats.org/officeDocument/2006/relationships/slide" Target="slide11.xml"/><Relationship Id="rId9" Type="http://schemas.openxmlformats.org/officeDocument/2006/relationships/image" Target="../media/image2.png"/><Relationship Id="rId10" Type="http://schemas.openxmlformats.org/officeDocument/2006/relationships/slide" Target="slide12.xml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" Target="slide7.xml"/><Relationship Id="rId4" Type="http://schemas.openxmlformats.org/officeDocument/2006/relationships/image" Target="../media/image9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9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mic Sans MS"/>
                <a:ea typeface="宋体"/>
              </a:rPr>
              <a:t>Principles of Marketing</a:t>
            </a: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68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  <a:ea typeface="宋体"/>
              </a:rPr>
              <a:t>Chapter XII 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  <a:ea typeface="宋体"/>
              </a:rPr>
              <a:t>Pricing Strategies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aptive-Product Pric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Setting a high price for products that must be used along with a main product charged at low price.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47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Tahoma"/>
            </a:endParaRPr>
          </a:p>
          <a:p>
            <a:pPr lvl="1" marL="953280" indent="-39312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Razor blades, printer cartridge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5328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53280" indent="-39312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Case in point</a:t>
            </a:r>
            <a:r>
              <a:rPr b="0" i="1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:</a:t>
            </a: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 Sony PlayStation 2 &amp; accompanying games (60</a:t>
            </a:r>
            <a:r>
              <a:rPr b="0" lang="en-US" sz="2200" spc="-1" strike="noStrike" baseline="30000">
                <a:solidFill>
                  <a:srgbClr val="003300"/>
                </a:solidFill>
                <a:latin typeface="Tahoma"/>
                <a:ea typeface="宋体"/>
              </a:rPr>
              <a:t>+</a:t>
            </a: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% operating profits)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By-Product Pric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162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Setting a price for by-products in order to make the main products’ price more competitive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2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37728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Restaurant leftover, zoo animal manure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666880" y="3638520"/>
            <a:ext cx="32767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roduct Bundle Pric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2640" y="2230200"/>
            <a:ext cx="6705720" cy="26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Combining several products and offering the bundle at a reduced price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Cosmetic kit, Microsoft OS + IE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2362320" y="4419720"/>
            <a:ext cx="181908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rice Adjustment Strategie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5638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2" action="ppaction://hlinksldjump"/>
              </a:rPr>
              <a:t>Discount and allowance pricing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02120" indent="-4021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4" action="ppaction://hlinksldjump"/>
              </a:rPr>
              <a:t>Segmented pricing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02120" indent="-4021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6" action="ppaction://hlinksldjump"/>
              </a:rPr>
              <a:t>Psychological pricing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02120" indent="-4021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8" action="ppaction://hlinksldjump"/>
              </a:rPr>
              <a:t>Promotional pricing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02120" indent="-4021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10" action="ppaction://hlinksldjump"/>
              </a:rPr>
              <a:t>Geographical pricing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02120" indent="-4021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12" action="ppaction://hlinksldjump"/>
              </a:rPr>
              <a:t>International pricing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Discount and Allowance Pric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Reducing prices to reward customer responses such as buying more, paying early or promoting the product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Discount: a straight reduction in price on purchases during a stated period of time. (quantity, functional, seasonal, etc.)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Allowance: promotional money paid by manufacturers to retailers in return for an agreement to feature the manufacturer’s products in some way.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Segmented Pric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2640" y="2230560"/>
            <a:ext cx="7010280" cy="31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Selling a product or service at two or more prices, where the differences in prices is not based on differences in costs. (Price Discrimination)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Flight ticket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sychological Pric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238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A pricing approach that considers the psychology of prices and not simply the economics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Prices such as $9.9, $29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Reference price: manufacturer’s suggested price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400800" cy="49611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sychological Pric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romotional Pric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6934320" cy="26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Temporarily pricing products below the list price, and sometimes even below cost to increase short-run sales.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Geographical &amp; International Pric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52120" y="2209680"/>
            <a:ext cx="5791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Geographical pricing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FOB-origin pricing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Uniform-delivered pricing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Zone pricing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Basing-point pricing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Freight-absorbing pricing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International pricing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New-Product Pricing Strategie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28440" y="1905120"/>
            <a:ext cx="57913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24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2" action="ppaction://hlinksldjump"/>
              </a:rPr>
              <a:t>Market-skimming pricing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24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4" action="ppaction://hlinksldjump"/>
              </a:rPr>
              <a:t>Market-penetration pricing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9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57600" y="4834080"/>
            <a:ext cx="167652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Questions &amp; Answer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410440" cy="397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Market-Skimming Pric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Setting a high price for a new product to skim maximum revenues layer by layer from the segments willing to pay the high price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Cell phones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Pluses &amp; minuse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Pluses: generate much needed initial cash flow, possible profit maximization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Minuses: attract competitors, threat by technological innovation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When to Use Market-Skimming?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2230560"/>
            <a:ext cx="708660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Good for limited capacity introductions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341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Attract market segment more interested in quality, status, uniqueness etc.</a:t>
            </a:r>
            <a:br>
              <a:rPr sz="2400"/>
            </a:b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Good if competition can be minimized by other means, i.e., brand loyalty, patent, high barriers to entry etc.</a:t>
            </a:r>
            <a:br>
              <a:rPr sz="2400"/>
            </a:b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Consumers demand must be inelastic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0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Market-Penetration Pric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Setting a low price for a new product in order to attract a large number of buyers and a large market share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Chinese motor-cycle manufacturers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Pluses &amp; minuse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Pluses: help expand market share, increase entry cost of competitors and long term profit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Minuses: great pressure on cash flow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, 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less flexible, more difficult to raise prices than it is to lower them.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When to Use Market-Penetration?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30200"/>
            <a:ext cx="716292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May use it to follow price skimming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Good as a barrier to entry &amp; marketer must maintain its low-price position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Appropriate when the demand is elastic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Use if there is an increase in economies of scale through increased demand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0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roduct Mix Pricing Strategie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2" action="ppaction://hlinksldjump"/>
              </a:rPr>
              <a:t>Product line pricing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4" action="ppaction://hlinksldjump"/>
              </a:rPr>
              <a:t>Optional-product pricing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6" action="ppaction://hlinksldjump"/>
              </a:rPr>
              <a:t>Captive-product pricing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8" action="ppaction://hlinksldjump"/>
              </a:rPr>
              <a:t>By-product pricing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10" action="ppaction://hlinksldjump"/>
              </a:rPr>
              <a:t>Product bundle pricing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roduct Line Pric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5105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Setting the price steps between various products in a product line based on differences between the product costs, customer evaluations of different features, and competitors’ prices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Case in point</a:t>
            </a:r>
            <a:r>
              <a:rPr b="0" i="1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:</a:t>
            </a: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 Volkswagen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1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6705720" y="3048120"/>
            <a:ext cx="156348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Optional-Product Pric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6858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The pricing of optional or accessory products along with a main product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Cars (power windows, cruise control, CD changer, etc.)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429000" y="4267080"/>
            <a:ext cx="18669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09:28:48Z</dcterms:created>
  <dc:creator>ABC</dc:creator>
  <dc:description/>
  <dc:language>en-US</dc:language>
  <cp:lastModifiedBy>ABC</cp:lastModifiedBy>
  <dcterms:modified xsi:type="dcterms:W3CDTF">2007-06-04T07:38:34Z</dcterms:modified>
  <cp:revision>104</cp:revision>
  <dc:subject/>
  <dc:title>幻灯片 1</dc:title>
</cp:coreProperties>
</file>