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gif" ContentType="image/gif"/>
  <Override PartName="/ppt/media/image9.png" ContentType="image/png"/>
  <Override PartName="/ppt/media/image8.gif" ContentType="image/gif"/>
  <Override PartName="/ppt/media/image19.wmf" ContentType="image/x-wmf"/>
  <Override PartName="/ppt/media/image21.wmf" ContentType="image/x-wmf"/>
  <Override PartName="/ppt/media/image11.wmf" ContentType="image/x-wmf"/>
  <Override PartName="/ppt/media/image3.png" ContentType="image/png"/>
  <Override PartName="/ppt/media/j0074834.wav" ContentType="audio/x-wav"/>
  <Override PartName="/ppt/media/image18.wmf" ContentType="image/x-wmf"/>
  <Override PartName="/ppt/media/image1.png" ContentType="image/png"/>
  <Override PartName="/ppt/media/image20.gif" ContentType="image/gif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D69-9DC9-4A29-B66D-0AF186D4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BDB-7EE7-4EB8-B4BA-05633400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507-3800-497C-B3E9-F3B348D6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506-4C4A-4BBE-BC00-11E2A7FD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6D61-068D-47A5-86D8-7A0C5335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F096-C87A-4E33-8F89-0A08C693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B4F1-359D-431E-B8B0-824A720E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DAA1-6475-4D94-9C25-2C034917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B57D-A61A-43CD-9D49-3B9BF34C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602C-6037-471C-AC64-86C3A2DD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0118-63CC-456C-A623-51F51897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1E2-10A4-40FF-9FA5-C97FA94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C7FC-6612-4C21-8D7D-9808132D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2C7F-C558-4DC4-9527-B2C8B8BD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7A03-CFC4-456E-84BA-01DC4D4A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D3A0-A14D-45A0-97CE-8D4B4EFA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1879-EDC3-4D88-BDEB-3BF5D9C0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0F3-B86A-4A33-A40E-CC211408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033-C26A-4B7B-8935-C0E7806B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350-319A-4943-8C2E-239DE07A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C35-76AA-4C80-B9AD-3B9A90AC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782-A0FA-4EF7-97A2-ACCA3B3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0EE-743A-402D-95F9-C4CA9D2E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946-7773-457E-8DF1-092CD16F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877D-567B-4C1A-ABAD-6459B137BB16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0277-81DA-4235-A850-30CBB213C28E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7316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73160" algn="ctr">
              <a:spcBef>
                <a:spcPts val="499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173160" algn="ctr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j0074834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13.png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bay.com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arnesandnoble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III 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Marketing in the Digital Age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E-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295280" cy="1238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18080" y="495288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Conducting e-market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41148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E-mail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&amp; Webcasting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25146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Corporate or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marketing websit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25146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Online advertising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&amp; promo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1148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Web communitie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343400"/>
            <a:ext cx="9144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352680" y="3048120"/>
            <a:ext cx="609840" cy="76176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819520" y="4343400"/>
            <a:ext cx="9144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724280" y="3048120"/>
            <a:ext cx="762120" cy="76176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07483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Internet Ag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ajor forces shaping the Internet Ag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251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04680" indent="-372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How?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743200" y="3365640"/>
            <a:ext cx="1447560" cy="1436400"/>
            <a:chOff x="2743200" y="3365640"/>
            <a:chExt cx="1447560" cy="143640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2823480" y="3365640"/>
              <a:ext cx="1206360" cy="10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43200" y="4343040"/>
              <a:ext cx="1447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宋体"/>
                </a:rPr>
                <a:t>Customization &amp; customerization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48320" y="1787400"/>
            <a:ext cx="1206360" cy="1337040"/>
            <a:chOff x="4648320" y="1787400"/>
            <a:chExt cx="1206360" cy="1337040"/>
          </a:xfrm>
        </p:grpSpPr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4715280" y="1787400"/>
              <a:ext cx="100512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648320" y="2665440"/>
              <a:ext cx="1206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宋体"/>
                </a:rPr>
                <a:t>Digitalization &amp; connectivity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48320" y="4952880"/>
            <a:ext cx="1287000" cy="1436760"/>
            <a:chOff x="4648320" y="4952880"/>
            <a:chExt cx="1287000" cy="1436760"/>
          </a:xfrm>
        </p:grpSpPr>
        <p:pic>
          <p:nvPicPr>
            <p:cNvPr id="106" name="" descr=""/>
            <p:cNvPicPr/>
            <p:nvPr/>
          </p:nvPicPr>
          <p:blipFill>
            <a:blip r:embed="rId5"/>
            <a:stretch/>
          </p:blipFill>
          <p:spPr>
            <a:xfrm>
              <a:off x="4728600" y="4952880"/>
              <a:ext cx="995400" cy="115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648320" y="5930640"/>
              <a:ext cx="1287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宋体"/>
                </a:rPr>
                <a:t>New types of intermediaries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00800" y="3289320"/>
            <a:ext cx="1447560" cy="1525320"/>
            <a:chOff x="6400800" y="3289320"/>
            <a:chExt cx="1447560" cy="1525320"/>
          </a:xfrm>
        </p:grpSpPr>
        <p:pic>
          <p:nvPicPr>
            <p:cNvPr id="109" name="" descr=""/>
            <p:cNvPicPr/>
            <p:nvPr/>
          </p:nvPicPr>
          <p:blipFill>
            <a:blip r:embed="rId6"/>
            <a:stretch/>
          </p:blipFill>
          <p:spPr>
            <a:xfrm>
              <a:off x="6400800" y="3289320"/>
              <a:ext cx="1447560" cy="11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545160" y="4355640"/>
              <a:ext cx="1303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Arial"/>
                  <a:ea typeface="宋体"/>
                </a:rPr>
                <a:t>The explosion of the Internet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72000" y="3441600"/>
            <a:ext cx="1528560" cy="1185480"/>
            <a:chOff x="4572000" y="3441600"/>
            <a:chExt cx="1528560" cy="1185480"/>
          </a:xfrm>
        </p:grpSpPr>
        <p:pic>
          <p:nvPicPr>
            <p:cNvPr id="112" name="" descr=""/>
            <p:cNvPicPr/>
            <p:nvPr/>
          </p:nvPicPr>
          <p:blipFill>
            <a:blip r:embed="rId7"/>
            <a:stretch/>
          </p:blipFill>
          <p:spPr>
            <a:xfrm>
              <a:off x="4651920" y="3441600"/>
              <a:ext cx="1239120" cy="87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572000" y="4320000"/>
              <a:ext cx="152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Arial"/>
                  <a:ea typeface="宋体"/>
                </a:rPr>
                <a:t>The Digital Age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181480" y="3124080"/>
            <a:ext cx="1800" cy="3812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48280" y="3886200"/>
            <a:ext cx="423720" cy="144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43600" y="3885480"/>
            <a:ext cx="380880" cy="126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81480" y="4572000"/>
            <a:ext cx="0" cy="3808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E-Commerce Domai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90720" y="2209680"/>
          <a:ext cx="7086600" cy="3508200"/>
        </p:xfrm>
        <a:graphic>
          <a:graphicData uri="http://schemas.openxmlformats.org/drawingml/2006/table">
            <a:tbl>
              <a:tblPr/>
              <a:tblGrid>
                <a:gridCol w="1385640"/>
                <a:gridCol w="2881440"/>
                <a:gridCol w="2819520"/>
              </a:tblGrid>
              <a:tr h="50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argeted to consumer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argeted to businesse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</a:tr>
              <a:tr h="15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itiated by busines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B2C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(Business to consumer)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B2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(Business to business)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b7dbff"/>
                    </a:solidFill>
                  </a:tcPr>
                </a:tc>
              </a:tr>
              <a:tr h="150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itiated by consumer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2C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(Consumer to consumer)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fbee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2B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(Consumer to business)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debd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E-Commerce &amp; Marketing Opportunitie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 broader range of segments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New targeting opportunities for marketers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44316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Enhanced communication b/e marketers and customers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Greatly enhanced information exchang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Improved customer value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43560" indent="-3891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Improved customer satisfacti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43160" indent="-44316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New types of intermediaries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How Does E-Commerce Affect the Marketing Mix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roduc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ustomization (different products for different individuals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ustomerization (individual customers design the market offering)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Enabled by CAM, CAD, FM, Internet technology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ric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Lower price resulting from lower transaction cost and  better customer information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121932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1219320" y="4419720"/>
            <a:ext cx="574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How Does E-Commerce 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  <a:ea typeface="宋体"/>
              </a:rPr>
              <a:t>Affect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 the Marketing Mix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lac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3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ore distribution channel choic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2" marL="1373040" indent="-3286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Brick-and-mortar, click-only, click-and-mortar, etc. 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ower inventory level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Unlimited spac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-3852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im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3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1219320" y="2133720"/>
            <a:ext cx="403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How Does E-Commerce Affect the Marketing Mix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467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       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romotion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Low cos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ore accurately targeted promotion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Enabled by data-base, data-mining, e-mails, on-line communication technology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43000" y="2133720"/>
            <a:ext cx="83808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E-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ypes of e-marketer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2895480"/>
            <a:ext cx="144792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Sell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572000"/>
            <a:ext cx="144792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Sell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895480"/>
            <a:ext cx="144792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Consum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4572000"/>
            <a:ext cx="144792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Consum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33920" y="28954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Brick-&amp;-mortar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store channel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5720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e91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E-commer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channel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124080"/>
            <a:ext cx="609480" cy="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876920"/>
            <a:ext cx="609480" cy="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38680" y="4876920"/>
            <a:ext cx="609840" cy="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124080"/>
            <a:ext cx="609840" cy="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8880" y="3505320"/>
            <a:ext cx="41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Brick-&amp;-mortar (brick-only) market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4400" y="5195880"/>
            <a:ext cx="2369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00"/>
                </a:solidFill>
                <a:uFillTx/>
                <a:latin typeface="Tahoma"/>
                <a:hlinkClick r:id="rId2"/>
              </a:rPr>
              <a:t>Click-only market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E-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ypes of e-marketer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3581280"/>
            <a:ext cx="144756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Seller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3581280"/>
            <a:ext cx="1447920" cy="5335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Consum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41148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e91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E-commerc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channel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709720" y="3349440"/>
            <a:ext cx="524160" cy="31176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91120" y="3504960"/>
            <a:ext cx="0" cy="60948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00080" y="4724280"/>
            <a:ext cx="29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00"/>
                </a:solidFill>
                <a:uFillTx/>
                <a:latin typeface="Tahoma"/>
                <a:hlinkClick r:id="rId2"/>
              </a:rPr>
              <a:t>Brick-&amp;-mortar marketer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52680" y="29718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Brick-&amp;-mortar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store channel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393160" y="3401640"/>
            <a:ext cx="493560" cy="35748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376600" y="4035600"/>
            <a:ext cx="523800" cy="31140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24840" y="3935160"/>
            <a:ext cx="493920" cy="357840"/>
          </a:xfrm>
          <a:prstGeom prst="line">
            <a:avLst/>
          </a:prstGeom>
          <a:ln w="2844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16:10:28Z</dcterms:created>
  <dc:creator>ABC</dc:creator>
  <dc:description/>
  <dc:language>en-US</dc:language>
  <cp:lastModifiedBy>ABC</cp:lastModifiedBy>
  <dcterms:modified xsi:type="dcterms:W3CDTF">2007-03-20T02:56:41Z</dcterms:modified>
  <cp:revision>77</cp:revision>
  <dc:subject/>
  <dc:title>Principles of Marketing</dc:title>
</cp:coreProperties>
</file>