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9.jpeg" ContentType="image/jpeg"/>
  <Override PartName="/ppt/media/image11.png" ContentType="image/png"/>
  <Override PartName="/ppt/media/SN00440.wav" ContentType="audio/x-wav"/>
  <Override PartName="/ppt/media/image12.png" ContentType="image/png"/>
  <Override PartName="/ppt/media/image7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png" ContentType="image/png"/>
  <Override PartName="/ppt/media/image35.jpeg" ContentType="image/jpeg"/>
  <Override PartName="/ppt/media/image28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46.wmf" ContentType="image/x-wmf"/>
  <Override PartName="/ppt/media/image3.png" ContentType="image/png"/>
  <Override PartName="/ppt/media/image2.png" ContentType="image/png"/>
  <Override PartName="/ppt/media/image32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5.png" ContentType="image/png"/>
  <Override PartName="/ppt/media/image42.gif" ContentType="image/gif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16F-E52C-430F-91F5-070C802B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0BC-BDAC-49CB-AF4B-0B357544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E86-DEA7-4866-9F2C-26C73486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B9D-F767-4948-9C40-6ED16CFF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1C93-10C0-45F4-A4BC-D4ED7F61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B6E2-FA6D-4D1F-B1B0-4451273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DDD9-1F52-4CC6-A9EA-CD36E60B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0BAA-8584-41BA-A633-06D1340E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914D-A2EC-4E2F-B733-94461CDC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C2FF-239A-4FF5-A1CD-BDCE4775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1E84-FBD6-4B2F-9B7B-F2419C00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F83-DC74-4636-8191-153C9BB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D952-7BC5-4D1B-B1F7-28F63E84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340A-E1F2-4F4D-95F6-B9426F7C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23FC-A31E-4BF9-AF2B-A273CFA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6B83-BC95-4498-8F19-EDD0EC64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D0D6-6596-4778-9C5A-07041C9B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F11-34A0-4C8D-BBE1-45BC69F2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F31C-55D1-42B5-892C-C099DE1C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BA9-61EA-4089-B36A-862A51D9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CCF-29CC-4BDE-B4EC-E7B32C33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76D-0C98-4524-9986-2060EEFD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3EA-97A3-435A-A8A4-1D94892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2D-D023-4681-AADD-309A8B13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2AB4-1B67-4675-845D-EFFAACAA59F6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B7BE-7896-4977-8CAC-7407409D0A84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2.xml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mphotostore.com/images/53217136_pr.jpg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13.png"/><Relationship Id="rId4" Type="http://schemas.openxmlformats.org/officeDocument/2006/relationships/image" Target="../media/image34.png"/><Relationship Id="rId5" Type="http://schemas.openxmlformats.org/officeDocument/2006/relationships/image" Target="../media/image1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4.png"/><Relationship Id="rId6" Type="http://schemas.openxmlformats.org/officeDocument/2006/relationships/image" Target="../media/image23.png"/><Relationship Id="rId7" Type="http://schemas.openxmlformats.org/officeDocument/2006/relationships/image" Target="../media/image44.wmf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23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wmf"/><Relationship Id="rId5" Type="http://schemas.openxmlformats.org/officeDocument/2006/relationships/audio" Target="../media/SN00440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hyperlink" Target="file:///../Readings/UDEL%20Marketing/chapt1.html" TargetMode="External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9.xml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finance.sina.com.cn/g/20050712/08361786156.shtml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VI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onsumer Markets &amp; Consumer Buyer Behavior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ocial Fac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Group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Membership group</a:t>
            </a:r>
            <a:r>
              <a:rPr b="0" lang="en-US" sz="2100" spc="-1" strike="noStrike">
                <a:solidFill>
                  <a:srgbClr val="003300"/>
                </a:solidFill>
                <a:latin typeface="Tahoma"/>
                <a:ea typeface="宋体"/>
              </a:rPr>
              <a:t>: groups that have a direct influence on a person and to which a person belongs.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Reference group</a:t>
            </a:r>
            <a:r>
              <a:rPr b="0" lang="en-US" sz="2100" spc="-1" strike="noStrike">
                <a:solidFill>
                  <a:srgbClr val="003300"/>
                </a:solidFill>
                <a:latin typeface="Tahoma"/>
                <a:ea typeface="宋体"/>
              </a:rPr>
              <a:t>: groups that serve as points of comparison or reference in forming a person’s attitudes or behavior</a:t>
            </a: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Opinion leader</a:t>
            </a:r>
            <a:r>
              <a:rPr b="0" lang="en-US" sz="2100" spc="-1" strike="noStrike">
                <a:solidFill>
                  <a:srgbClr val="003300"/>
                </a:solidFill>
                <a:latin typeface="Tahoma"/>
                <a:ea typeface="宋体"/>
              </a:rPr>
              <a:t>: person within a reference group who exerts influence on others because of special skills, knowledge, personality or other characteristics.</a:t>
            </a: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ocial Factors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 action="ppaction://hlinksldjump"/>
              </a:rPr>
              <a:t>Family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ny family decisions are made by the family unit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nsumer behavior starts in the family unit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amily roles and preferences are the model for children's future family. (can reject/alter/etc.)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amily buying decisions are a mixture of family interactions and individual decision making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amily acts an interpreter of social and cultural values for the individual.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Family Buying Influences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hevrolet vs. Ford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3835440" cy="480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3909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Family Life-Cycl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Bachelo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Newly married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young, no childre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Full nest 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youngest child under 6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Full nest I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youngest child 6 or over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Full nest II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older married couples with dependant children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0" y="2209320"/>
            <a:ext cx="419112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Empty nest 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older married couples with no children living with them, head in labor forc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4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Empty nest II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older married couples, no children living at home, head retired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Solitary survivor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in labor force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Tahoma"/>
                <a:ea typeface="宋体"/>
              </a:rPr>
              <a:t>Solitary survivor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-- retired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odernized life cycle includes divorced and no children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ocial Factors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6782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Roles and Statu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Roles: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the activities people are expected to perform according to the persons around them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Status: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the general esteem given to a role by society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7230960" y="3481560"/>
            <a:ext cx="15321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ersonal Fac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ge and life-cycle stag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Occupa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conomic situa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ersonality and self-concept (what kind of person you believe yourself to be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ifestyle: a person’s pattern of living as expressed in his/her activities, interest and opinion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at is Your VALS Type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4114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/>
              </a:rPr>
              <a:t>http://www.sric-bi.com/VALS/presurvey.shtm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54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sychological Fac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153880"/>
            <a:ext cx="381024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otive: a need </a:t>
            </a:r>
            <a:r>
              <a:rPr b="0" i="1" lang="en-US" sz="2400" spc="-1" strike="noStrike" u="sng">
                <a:solidFill>
                  <a:srgbClr val="990099"/>
                </a:solidFill>
                <a:uFillTx/>
                <a:latin typeface="Tahoma"/>
                <a:ea typeface="宋体"/>
              </a:rPr>
              <a:t>sufficiently pressing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to direct the person to seek satisfaction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 person with motive is ready to act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Sigmund Freud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slow’s hierarchy of human need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998960" y="1981080"/>
            <a:ext cx="3230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sychological Factors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erception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ahoma"/>
                <a:ea typeface="宋体"/>
              </a:rPr>
              <a:t>The process by which people select, organize and interpret information to form a meaningful picture of the world.</a:t>
            </a:r>
            <a:endParaRPr b="0" lang="en-US" sz="19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ahoma"/>
                <a:ea typeface="宋体"/>
              </a:rPr>
              <a:t>Stereotype, projection, halo-effect</a:t>
            </a:r>
            <a:endParaRPr b="0" lang="en-US" sz="19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ahoma"/>
                <a:ea typeface="宋体"/>
              </a:rPr>
              <a:t>Selective attention, selective distortion, selective retention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03884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sychological Factors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Learning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changes in an individual’s behavior arising from experience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eliefs and attitud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Belief: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a descriptive thought that a person holds about something.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roduct &amp; brand imag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Attitude: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a person’s consistently favorable or unfavorable evaluations, feelings, and tendencies toward an object or idea.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ifficult to chang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redictability of Human Behavio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767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Attitudes: Milk Moustache Campaign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4343400" cy="3475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72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Buyer Decision Proces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3933720"/>
            <a:ext cx="76176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1880" y="3987720"/>
            <a:ext cx="0" cy="1227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581880" y="5214960"/>
            <a:ext cx="29052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61240" y="5045040"/>
            <a:ext cx="106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ost-purchase Behavior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35080" y="5076720"/>
            <a:ext cx="135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Need Recogni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30520" y="3933720"/>
            <a:ext cx="0" cy="1447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729800" y="5380200"/>
            <a:ext cx="33948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235480" y="2638440"/>
            <a:ext cx="0" cy="1295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35480" y="2637000"/>
            <a:ext cx="4352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16720" y="2362320"/>
            <a:ext cx="137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urchase Decis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92480" y="3933720"/>
            <a:ext cx="11430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5480" y="3933720"/>
            <a:ext cx="137160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930920" y="3054240"/>
            <a:ext cx="541080" cy="650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01920" y="4010040"/>
            <a:ext cx="463320" cy="668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26200" y="4086360"/>
            <a:ext cx="555480" cy="658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730520" y="3933720"/>
            <a:ext cx="10666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97200" y="2333160"/>
            <a:ext cx="0" cy="160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0000" y="2333520"/>
            <a:ext cx="43488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38120" y="1981080"/>
            <a:ext cx="130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Information Sear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550960" y="3038400"/>
            <a:ext cx="596880" cy="66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797200" y="3933720"/>
            <a:ext cx="129528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22600" y="5562720"/>
            <a:ext cx="135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valuation of Alternativ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92480" y="4010040"/>
            <a:ext cx="0" cy="1905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092480" y="5913000"/>
            <a:ext cx="33984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3863880" y="4024440"/>
            <a:ext cx="506520" cy="671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607080" y="3933720"/>
            <a:ext cx="1219320" cy="0"/>
          </a:xfrm>
          <a:prstGeom prst="line">
            <a:avLst/>
          </a:prstGeom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eed Recogni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The first stage of the buyer decision process, in which the consumer recognizes a problem or need.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ternal stimuli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xternal stimuli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6019920" y="4114800"/>
            <a:ext cx="2073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nformation Search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467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The second stage of the buyer decision process in which the consumer is aroused to search for information; the consumer may simply have heightened attention or may go into active information search.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voked set (possible alternatives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629400" y="4648320"/>
            <a:ext cx="18208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nformation Search (Contd.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Personal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ost effectiv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Word-of-mouth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2520" indent="-45252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Commercial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er controlled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nform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2520" indent="-45252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Public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2520" indent="-452520">
              <a:lnSpc>
                <a:spcPct val="14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Experiential sourc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220968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88"/>
                </a:lnTo>
                <a:cubicBezTo>
                  <a:pt x="10800" y="9588"/>
                  <a:pt x="16200" y="10488"/>
                  <a:pt x="21600" y="10488"/>
                </a:cubicBezTo>
                <a:cubicBezTo>
                  <a:pt x="16200" y="10488"/>
                  <a:pt x="10800" y="11388"/>
                  <a:pt x="10800" y="122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3720" y="3429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xternal sour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5638680"/>
            <a:ext cx="609840" cy="304920"/>
          </a:xfrm>
          <a:custGeom>
            <a:avLst/>
            <a:gdLst>
              <a:gd name="textAreaLeft" fmla="*/ 95040 w 609840"/>
              <a:gd name="textAreaRight" fmla="*/ 563400 w 609840"/>
              <a:gd name="textAreaTop" fmla="*/ 92160 h 304920"/>
              <a:gd name="textAreaBottom" fmla="*/ 2127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525"/>
                </a:moveTo>
                <a:lnTo>
                  <a:pt x="17415" y="6525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5075"/>
                </a:lnTo>
                <a:lnTo>
                  <a:pt x="3375" y="15075"/>
                </a:lnTo>
                <a:close/>
              </a:path>
              <a:path w="21600" h="21600">
                <a:moveTo>
                  <a:pt x="0" y="6525"/>
                </a:moveTo>
                <a:lnTo>
                  <a:pt x="675" y="6525"/>
                </a:lnTo>
                <a:lnTo>
                  <a:pt x="675" y="15075"/>
                </a:lnTo>
                <a:lnTo>
                  <a:pt x="0" y="15075"/>
                </a:lnTo>
                <a:close/>
              </a:path>
              <a:path w="21600" h="21600">
                <a:moveTo>
                  <a:pt x="1350" y="6525"/>
                </a:moveTo>
                <a:lnTo>
                  <a:pt x="2700" y="6525"/>
                </a:lnTo>
                <a:lnTo>
                  <a:pt x="2700" y="15075"/>
                </a:lnTo>
                <a:lnTo>
                  <a:pt x="1350" y="15075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1f7e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080" y="556272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ternal source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valuation of Alternativ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stage of the buyer decision process in which the consumer uses information to evaluate alternative brands in the choice set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Establish criteria for evaluati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eatures the buyer wants or does not want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ank/weight alternatives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lnSpc>
                <a:spcPct val="120000"/>
              </a:lnSpc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Purchase intentio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3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esume search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6892920" y="4167360"/>
            <a:ext cx="2022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urchase Decis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buyer’s decision about which brand to purchase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ttitudes of oth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nexpected situation facto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lnSpc>
                <a:spcPct val="14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y or may not result in actual purchas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7010280" y="4648320"/>
            <a:ext cx="182880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ost-Purchase Behavio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stage of the buyer decision process in which consumers take further action after purchase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312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9312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-344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nsumer’s expectations vs. perceived performanc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issatisfied, satisfied, delighted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Faithful product claims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Some marketers understate performance (Boeing)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-3448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gnitive dissonance (</a:t>
            </a:r>
            <a:r>
              <a:rPr b="0" lang="zh-CN" sz="2000" spc="-1" strike="noStrike">
                <a:solidFill>
                  <a:srgbClr val="003300"/>
                </a:solidFill>
                <a:latin typeface="Tahoma"/>
                <a:ea typeface="宋体"/>
              </a:rPr>
              <a:t>认知不协调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366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spcBef>
                <a:spcPts val="451"/>
              </a:spcBef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Buyer discomfort caused by post-purchase conflict.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3" marL="1622880" indent="-294480">
              <a:spcBef>
                <a:spcPts val="400"/>
              </a:spcBef>
              <a:buClr>
                <a:srgbClr val="8dba76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duced by warranties, after sales communication etc.</a:t>
            </a: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lvl="2" marL="1229760" indent="-294480">
              <a:lnSpc>
                <a:spcPct val="110000"/>
              </a:lnSpc>
              <a:spcBef>
                <a:spcPts val="451"/>
              </a:spcBef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96% unhappy customers never tell the company. 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ypes of Buying Behavio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39880" y="2673360"/>
          <a:ext cx="4522680" cy="3495600"/>
        </p:xfrm>
        <a:graphic>
          <a:graphicData uri="http://schemas.openxmlformats.org/drawingml/2006/table">
            <a:tbl>
              <a:tblPr/>
              <a:tblGrid>
                <a:gridCol w="2262240"/>
                <a:gridCol w="2260440"/>
              </a:tblGrid>
              <a:tr h="18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133720" y="1828800"/>
            <a:ext cx="518148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volveme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1523880" y="2666880"/>
            <a:ext cx="457200" cy="335304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353040"/>
              <a:gd name="textAreaBottom" fmla="*/ 3330720 h 3353040"/>
            </a:gdLst>
            <a:ahLst/>
            <a:rect l="textAreaLeft" t="textAreaTop" r="textAreaRight" b="textAreaBottom"/>
            <a:pathLst>
              <a:path w="21600" h="158304">
                <a:moveTo>
                  <a:pt x="3600" y="0"/>
                </a:moveTo>
                <a:arcTo wR="3600" hR="3600" stAng="16200000" swAng="-5400000"/>
                <a:lnTo>
                  <a:pt x="0" y="154704"/>
                </a:lnTo>
                <a:arcTo wR="3600" hR="3600" stAng="10800000" swAng="-5400000"/>
                <a:lnTo>
                  <a:pt x="18000" y="1583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ifferences b/e brand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50080" y="23572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Hig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203560" y="3278880"/>
            <a:ext cx="4237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Hig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204640" y="4700520"/>
            <a:ext cx="423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65880" y="235728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5280" y="5683320"/>
            <a:ext cx="15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Dissonance-reduc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5280" y="58053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Habitua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37840" y="40384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omplex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0400" y="403380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Variety-seek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1228680" cy="1238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48120" y="2786040"/>
            <a:ext cx="144756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4572000"/>
            <a:ext cx="1042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N0044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at is Consumer Buying Behavior?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990099"/>
                </a:solidFill>
                <a:uFillTx/>
                <a:latin typeface="Tahoma"/>
                <a:ea typeface="宋体"/>
              </a:rPr>
              <a:t>Buying Behavior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 is the decision processes and acts of people involved in buying and using product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at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en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ere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How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Why Do We Study Consumer Behavior?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Because no longer can we take the customer/ consumer for granted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Buyers reactions greatly affect a firm’s success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/>
              </a:rPr>
              <a:t>Marketing Mix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(MM) should satisfy customers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Marketers can better predict how consumers will respond to marketing strategies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odel of Consumer Behavior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1095480" y="55483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Other stimuli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6860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ing stimuli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752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Buyer’s black box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6938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Buyer characteristic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495144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Buyer decision proce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0600" y="2652840"/>
            <a:ext cx="97812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75248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Marketing &amp; other stimuli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6920" y="182880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Buyer respons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500200"/>
            <a:ext cx="2057400" cy="358164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81640"/>
              <a:gd name="textAreaBottom" fmla="*/ 3481200 h 3581640"/>
            </a:gdLst>
            <a:ahLst/>
            <a:rect l="textAreaLeft" t="textAreaTop" r="textAreaRight" b="textAreaBottom"/>
            <a:pathLst>
              <a:path w="21600" h="37600">
                <a:moveTo>
                  <a:pt x="3600" y="0"/>
                </a:moveTo>
                <a:arcTo wR="3600" hR="3600" stAng="16200000" swAng="-5400000"/>
                <a:lnTo>
                  <a:pt x="0" y="34000"/>
                </a:lnTo>
                <a:arcTo wR="3600" hR="3600" stAng="10800000" swAng="-5400000"/>
                <a:lnTo>
                  <a:pt x="18000" y="37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Product/servic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ho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Brand cho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ealer choi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Purchase tim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Purchase amou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09960" y="3429000"/>
            <a:ext cx="125100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187280" y="2590920"/>
            <a:ext cx="1098720" cy="1123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386000" y="4495680"/>
            <a:ext cx="9000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Factors Affecting Consumer Behavior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390920"/>
            <a:ext cx="1600200" cy="1171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ultu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ubcultur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ocial clas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343400"/>
            <a:ext cx="198108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eference group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Family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oles &amp; Statu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4343400"/>
            <a:ext cx="2286000" cy="18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Age &amp; life-cycle stag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Occup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Economic situ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ifestyl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ersonality &amp;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self-concep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1044720" cy="1481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38280" y="2895480"/>
            <a:ext cx="1347840" cy="1357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34320" y="4343400"/>
            <a:ext cx="198108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Motivatio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ercep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earn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Beliefs &amp; attitud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1160" y="2133720"/>
            <a:ext cx="139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4" action="ppaction://hlinksldjump"/>
              </a:rPr>
              <a:t>Cultural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57440" y="2133720"/>
            <a:ext cx="10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5" action="ppaction://hlinksldjump"/>
              </a:rPr>
              <a:t>Social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25200" y="213372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6" action="ppaction://hlinksldjump"/>
              </a:rPr>
              <a:t>Personal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14360" y="2133720"/>
            <a:ext cx="219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7" action="ppaction://hlinksldjump"/>
              </a:rPr>
              <a:t>Psychological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495680" y="2895480"/>
            <a:ext cx="1409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ltural Fac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ulture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the set of basic values, perceptions, wants and behaviors learned by a member of society from family and other important institution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White Elephan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Subculture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a group of people with shared value systems based on common life experiences and situations, i.e. nationalities, religions, racial groups and geographic region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ltural Fac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00"/>
                </a:solidFill>
                <a:uFillTx/>
                <a:latin typeface="Tahoma"/>
                <a:ea typeface="宋体"/>
                <a:hlinkClick r:id="rId2"/>
              </a:rPr>
              <a:t>Social Clas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relatively permanent and ordered divisions in a society whose members share similar values, interests and behavior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A combination of occupation, income, education, wealth, and other variables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Upper uppers, Lower uppers, Upper middles, Middle class, Working class, Upper lowers, Lower lowers (P</a:t>
            </a:r>
            <a:r>
              <a:rPr b="0" lang="en-US" sz="2200" spc="-1" strike="noStrike" baseline="-25000">
                <a:solidFill>
                  <a:srgbClr val="003300"/>
                </a:solidFill>
                <a:latin typeface="Tahoma"/>
                <a:ea typeface="宋体"/>
              </a:rPr>
              <a:t>184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0:53:02Z</dcterms:created>
  <dc:creator>ABC</dc:creator>
  <dc:description/>
  <dc:language>en-US</dc:language>
  <cp:lastModifiedBy>ABC</cp:lastModifiedBy>
  <dcterms:modified xsi:type="dcterms:W3CDTF">2007-05-07T08:27:24Z</dcterms:modified>
  <cp:revision>332</cp:revision>
  <dc:subject/>
  <dc:title>幻灯片 1</dc:title>
</cp:coreProperties>
</file>