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29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43.wmf" ContentType="image/x-wmf"/>
  <Override PartName="/ppt/media/image10.gif" ContentType="image/gif"/>
  <Override PartName="/ppt/media/image13.wmf" ContentType="image/x-wmf"/>
  <Override PartName="/ppt/media/image28.png" ContentType="image/png"/>
  <Override PartName="/ppt/media/image30.png" ContentType="image/png"/>
  <Override PartName="/ppt/media/image5.png" ContentType="image/png"/>
  <Override PartName="/ppt/media/image35.jpeg" ContentType="image/jpeg"/>
  <Override PartName="/ppt/media/image15.png" ContentType="image/png"/>
  <Override PartName="/ppt/media/image12.gif" ContentType="image/gif"/>
  <Override PartName="/ppt/media/image11.wmf" ContentType="image/x-wmf"/>
  <Override PartName="/ppt/media/image33.png" ContentType="image/png"/>
  <Override PartName="/ppt/media/image3.png" ContentType="image/png"/>
  <Override PartName="/ppt/media/image36.png" ContentType="image/png"/>
  <Override PartName="/ppt/media/image40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42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39.jpeg" ContentType="image/jpeg"/>
  <Override PartName="/ppt/media/image6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792-D3B1-4948-9901-75BF3CC1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4B0E-E748-4001-B324-A8F4DDDD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C58-F720-4AE3-A01A-2CEF384E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00A-BD34-44F1-B759-35213D09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60F-3505-42C9-AA19-32900B18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2B9-5D18-4045-B179-6F3A879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996-DE29-414E-AC36-8BCB8E69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E7A-1588-4544-A326-EBB7797B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F08-9278-4193-9DD9-616F51CA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1663-D257-4F7A-BDA9-300DABE4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1323-4EFA-4FBB-9DB9-A7540F1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057-2C13-4D78-81CB-08EFA2F3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A38-FA06-4BFB-89CD-492DC0BD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B42-6ED9-468D-B9E3-CBDABD2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43B4-0827-4ADD-9DD7-1C0301E3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3E0A-3848-4AFD-B21E-D093287D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5C94-8437-4D6F-910D-05FEA4B0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6AF-F296-4FD8-8A2E-D433DF66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86E-EA0F-4E9D-9360-5FDDFD59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717-061B-4BD8-B816-D6AEF29E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69F0-FD36-4009-AD55-8E2B6AA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223-3DE0-46F2-9614-72223D92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DDB-3CD2-4D8C-B755-02508281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336-DFB2-4700-A162-E4DF0D89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10D8-BC56-4236-9A05-44771E325B5B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A08-09D2-4662-A910-E56366905CB1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2.xml"/><Relationship Id="rId3" Type="http://schemas.openxmlformats.org/officeDocument/2006/relationships/image" Target="../media/image2.png"/><Relationship Id="rId4" Type="http://schemas.openxmlformats.org/officeDocument/2006/relationships/slide" Target="slide29.xml"/><Relationship Id="rId5" Type="http://schemas.openxmlformats.org/officeDocument/2006/relationships/image" Target="../media/image2.png"/><Relationship Id="rId6" Type="http://schemas.openxmlformats.org/officeDocument/2006/relationships/slide" Target="slide34.xm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28.xml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12.xml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hyperlink" Target="file:///../../../../Rain/UofA%20Courses/Fall_2002/MIS%20512/Final%20Project/Pepsi_CocaCola.mpeg" TargetMode="Externa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15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8.wmf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hyperlink" Target="http://images.google.com/imgres?imgurl=http://www.thecoca-colacompany.com/presscenter/img/imagebrands/downloads/lg_cocacola_zero_20oz.jpg&amp;imgrefurl=http://www.thecoca-colacompany.com/presscenter/newproducts_cocacola_zero.html&amp;h=3000&amp;w=995&amp;sz=302&amp;hl=en&amp;start=147&amp;um=1&amp;tbnid=vQnFWTbunnPTzM:&amp;tbnh=150&amp;tbnw=50&amp;prev=/images%3Fq%3Dcoca%2Bcola%2Bbottle%26start%3D140%26ndsp%3D20%26svnum%3D10%26um%3D1%26hl%3Den%26newwindow%3D1%26sa%3DN" TargetMode="External"/><Relationship Id="rId5" Type="http://schemas.openxmlformats.org/officeDocument/2006/relationships/image" Target="../media/image28.png"/><Relationship Id="rId6" Type="http://schemas.openxmlformats.org/officeDocument/2006/relationships/hyperlink" Target="http://images.google.com/imgres?imgurl=http://www.strangenewproducts.com/uploaded_images/coca-cola-logo-770604.jpg&amp;imgrefurl=http://www.strangenewproducts.com/2005/12/coke-to-launch-new-coffee-soda.html&amp;h=199&amp;w=200&amp;sz=13&amp;hl=en&amp;start=3&amp;um=1&amp;tbnid=qtaWt51bA32hRM:&amp;tbnh=103&amp;tbnw=104&amp;prev=/images%3Fq%3Dcoca%2Bcola%2Blogo%26svnum%3D10%26um%3D1%26hl%3Den%26newwindow%3D1" TargetMode="External"/><Relationship Id="rId7" Type="http://schemas.openxmlformats.org/officeDocument/2006/relationships/image" Target="../media/image29.png"/><Relationship Id="rId8" Type="http://schemas.openxmlformats.org/officeDocument/2006/relationships/slide" Target="slide12.xml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2.xml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32.png"/><Relationship Id="rId7" Type="http://schemas.openxmlformats.org/officeDocument/2006/relationships/slide" Target="slide11.xml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hyperlink" Target="http://images.google.com/imgres?imgurl=http://www.37signals.com/svn/images/logo-bmw.jpg&amp;imgrefurl=http://www.37signals.com/svn/archives2/chinese_logo_lookalikes_bmw_and_byd.php&amp;h=267&amp;w=250&amp;sz=15&amp;hl=en&amp;start=4&amp;tbnid=VPhbCRmUfrBr1M:&amp;tbnh=113&amp;tbnw=106&amp;prev=/images%3Fq%3Dbmw%2Blogo%26gbv%3D2%26svnum%3D10%26hl%3Den%26newwindow%3D1" TargetMode="External"/><Relationship Id="rId7" Type="http://schemas.openxmlformats.org/officeDocument/2006/relationships/image" Target="../media/image33.png"/><Relationship Id="rId8" Type="http://schemas.openxmlformats.org/officeDocument/2006/relationships/hyperlink" Target="http://images.google.com/imgres?imgurl=http://www.icir.org/vern/logos/HP-Logo.jpg&amp;imgrefurl=http://www.icir.org/vern/telescope.html&amp;h=386&amp;w=475&amp;sz=15&amp;hl=en&amp;start=2&amp;tbnid=E-vFL7AkpLTBVM:&amp;tbnh=105&amp;tbnw=129&amp;prev=/images%3Fq%3Dhp%2Blogo%26gbv%3D2%26svnum%3D10%26hl%3Den%26newwindow%3D1" TargetMode="External"/><Relationship Id="rId9" Type="http://schemas.openxmlformats.org/officeDocument/2006/relationships/image" Target="../media/image34.png"/><Relationship Id="rId10" Type="http://schemas.openxmlformats.org/officeDocument/2006/relationships/hyperlink" Target="http://images.google.com/imgres?imgurl=http://www.edisonresearch.com/home/archives/GAP_LOGO2.gif&amp;imgrefurl=http://www.edisonresearch.com/home/archives/2006/05/a_positive_plan.php&amp;h=146&amp;w=140&amp;sz=4&amp;hl=en&amp;start=2&amp;tbnid=lfLs7P6Rx9VDWM:&amp;tbnh=95&amp;tbnw=91&amp;prev=/images%3Fq%3Dgap%2Blogo%26gbv%3D2%26svnum%3D10%26hl%3Den%26newwindow%3D1" TargetMode="External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" Target="slide11.xml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http://www.nike.com/nke6/v3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9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IX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Product, Services &amp; Branding Strategies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nsumer Products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2297160"/>
          <a:ext cx="8077320" cy="334152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1752480"/>
                <a:gridCol w="1447920"/>
                <a:gridCol w="1523880"/>
              </a:tblGrid>
              <a:tr h="66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ing consideration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onvenienc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hopping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pecial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Unsough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</a:tr>
              <a:tr h="14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motion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ss promotion by the producer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dvertising and personal selling by both producer &amp; reseller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ore carefully targeted promotion by both producer &amp; reseller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ggressive advertising and personal selling by producers &amp; reseller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xamples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oothpaste, magazines, laundry detergent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jor appliances, televisions, furniture, clothing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uxury goods, such as Rolex watches or fine crystal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ife insurance, Red Cross blood donatio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&amp; Service Decis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6705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Individual product &amp; service decision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Product line decision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Product mix decision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ndividual Product Decis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143000" cy="83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523880" cy="91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52800" y="4191120"/>
            <a:ext cx="1035000" cy="1066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410080" y="4191120"/>
            <a:ext cx="1067040" cy="1023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295280" y="1981080"/>
            <a:ext cx="1143000" cy="113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32080" y="3103560"/>
            <a:ext cx="108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Product attribut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24080"/>
            <a:ext cx="99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7" action="ppaction://hlinksldjump"/>
              </a:rPr>
              <a:t>Brand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6360" y="3124080"/>
            <a:ext cx="1158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8" action="ppaction://hlinksldjump"/>
              </a:rPr>
              <a:t>Packag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8240" y="5286240"/>
            <a:ext cx="93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9" action="ppaction://hlinksldjump"/>
              </a:rPr>
              <a:t>Label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70560" y="5210280"/>
            <a:ext cx="1082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10" action="ppaction://hlinksldjump"/>
              </a:rPr>
              <a:t>Product support servic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572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45720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Attribut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Quality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he ability of a product to perform its function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Overall durability, reliability, precision, ease of operation and repair, and other valued attribut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featur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style and desig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Style: the appearance of a produc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esign: internal structure and external appearanc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2" marL="1401480" indent="-335520">
              <a:spcBef>
                <a:spcPts val="451"/>
              </a:spcBef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riving whe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01480" indent="-335520">
              <a:spcBef>
                <a:spcPts val="451"/>
              </a:spcBef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Key chai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848960"/>
            <a:ext cx="69343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Brand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: a name, term, sign, symbol, design or a combination of these, intended to identify the goods or services and to differentiate them from those of competitor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528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528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43200" y="4419720"/>
          <a:ext cx="3429000" cy="18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4419720"/>
                    <a:ext cx="342900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 Equity &amp; Brand Valu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rand Equity (</a:t>
            </a:r>
            <a:r>
              <a:rPr b="0" lang="zh-CN" sz="2400" spc="-1" strike="noStrike">
                <a:solidFill>
                  <a:srgbClr val="003300"/>
                </a:solidFill>
                <a:latin typeface="Tahoma"/>
                <a:ea typeface="宋体"/>
              </a:rPr>
              <a:t>品牌资产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he positive differential effect that knowing the brand name has on customer responses to the product or service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easured by how much premium customers are willing to pa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-3322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oke: 50% premium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387080" indent="-3322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Volvo: 40% premium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rand value (</a:t>
            </a:r>
            <a:r>
              <a:rPr b="0" lang="zh-CN" sz="2400" spc="-1" strike="noStrike">
                <a:solidFill>
                  <a:srgbClr val="003300"/>
                </a:solidFill>
                <a:latin typeface="Tahoma"/>
                <a:ea typeface="宋体"/>
              </a:rPr>
              <a:t>品牌价值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1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oca-cola -- $69 billion, Microsoft -- $65 billion, IBM -- $53 billio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ttributes of a Brand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angible Attribut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roduct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ackaging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Labeling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Attribut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Functional benefi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22093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tangible Attribut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Quality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motional benefi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Valu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ultur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mag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mpetitive Advantages of a Brand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High awareness &amp; loyalty; more leverage in bargaining with resell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ble to charge a premium on produc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Higher credibility &amp; much easier product line &amp; brand extension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ore defense against price competi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0200" y="2133720"/>
            <a:ext cx="2209680" cy="1371600"/>
          </a:xfrm>
          <a:prstGeom prst="rect">
            <a:avLst/>
          </a:prstGeom>
          <a:solidFill>
            <a:srgbClr val="d5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133720"/>
            <a:ext cx="2210040" cy="1371600"/>
          </a:xfrm>
          <a:prstGeom prst="rect">
            <a:avLst/>
          </a:prstGeom>
          <a:solidFill>
            <a:srgbClr val="d5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ing Decis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9680" y="2133720"/>
            <a:ext cx="1879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3" action="ppaction://hlinksldjump"/>
              </a:rPr>
              <a:t>Brand Position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590920"/>
            <a:ext cx="2133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Attributes,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Benefits,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Beliefs &amp; value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514600"/>
            <a:ext cx="2210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2743200"/>
            <a:ext cx="2133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Selection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rotection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63840" y="4330800"/>
            <a:ext cx="2209680" cy="1371600"/>
          </a:xfrm>
          <a:prstGeom prst="rect">
            <a:avLst/>
          </a:prstGeom>
          <a:solidFill>
            <a:srgbClr val="d5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63840" y="4711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82320" y="2133720"/>
            <a:ext cx="229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Brand Name Sele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25146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5960" y="4343400"/>
            <a:ext cx="199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5" action="ppaction://hlinksldjump"/>
              </a:rPr>
              <a:t>Brand Sponsorshi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39800" y="4708440"/>
            <a:ext cx="2133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Manufacturer’s brand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rivate brand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Licensing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Co-branding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4440" y="4343400"/>
            <a:ext cx="2209680" cy="1371600"/>
          </a:xfrm>
          <a:prstGeom prst="rect">
            <a:avLst/>
          </a:prstGeom>
          <a:solidFill>
            <a:srgbClr val="d5b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2444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9000" y="4343400"/>
            <a:ext cx="2093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Brand Develop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00760" y="4724280"/>
            <a:ext cx="2133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Line extension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Brand extension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Multibrand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New brand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743200"/>
            <a:ext cx="1143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5105520"/>
            <a:ext cx="1143000" cy="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3505320"/>
            <a:ext cx="0" cy="38088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514600" y="3886200"/>
            <a:ext cx="358128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886200"/>
            <a:ext cx="0" cy="45720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 Positioning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品牌定位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Brand positioning at three level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attribut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lnSpc>
                <a:spcPct val="14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Least desirabl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lnSpc>
                <a:spcPct val="14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Easily copied by competitor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enefits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eliefs &amp; valu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 Classic Jok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5160" y="1565280"/>
            <a:ext cx="77630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 Name Selec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benefi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quality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ames easy to remember, recognize, pronounc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xtendabl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istinctivenes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hould not indicate poor meanings in other markets or languag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ase in Point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</a:rPr>
              <a:t>：冷酸灵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What problem faced Dengkang Corp when it decided to extend its </a:t>
            </a:r>
            <a:r>
              <a:rPr b="0" lang="zh-CN" sz="2400" spc="-1" strike="noStrike">
                <a:solidFill>
                  <a:srgbClr val="003300"/>
                </a:solidFill>
                <a:latin typeface="Tahoma"/>
              </a:rPr>
              <a:t>冷酸灵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brand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How did the company solve this problem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What do you think of this solution? Any suggestion for the company’s brand extension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819520" y="4521240"/>
            <a:ext cx="26668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 Sponsorship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品牌赞助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nufacturer’s brand vs. private brand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rivate brand (store brand)(</a:t>
            </a:r>
            <a:r>
              <a:rPr b="0" lang="zh-CN" sz="2000" spc="-1" strike="noStrike">
                <a:solidFill>
                  <a:srgbClr val="003300"/>
                </a:solidFill>
                <a:latin typeface="Tahoma"/>
                <a:ea typeface="宋体"/>
              </a:rPr>
              <a:t>自有品牌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): brand created and owned by a reseller of a product or service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Wal-mart, Jusco, etc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riced lower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Slotting fee (</a:t>
            </a:r>
            <a:r>
              <a:rPr b="0" lang="zh-CN" sz="2000" spc="-1" strike="noStrike">
                <a:solidFill>
                  <a:srgbClr val="003300"/>
                </a:solidFill>
                <a:latin typeface="Tahoma"/>
                <a:ea typeface="宋体"/>
              </a:rPr>
              <a:t>通道费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icens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Valentino, Disne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-branding (</a:t>
            </a:r>
            <a:r>
              <a:rPr b="0" lang="zh-CN" sz="2400" spc="-1" strike="noStrike">
                <a:solidFill>
                  <a:srgbClr val="003300"/>
                </a:solidFill>
                <a:latin typeface="Tahoma"/>
                <a:ea typeface="宋体"/>
              </a:rPr>
              <a:t>品牌联合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he practice of using the established brand names of two different companies on the same product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Tahoma"/>
                <a:ea typeface="宋体"/>
              </a:rPr>
              <a:t>娃哈哈 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&amp; QQ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ca Cola &amp; </a:t>
            </a:r>
            <a:r>
              <a:rPr b="0" lang="zh-CN" sz="2000" spc="-1" strike="noStrike">
                <a:solidFill>
                  <a:srgbClr val="003300"/>
                </a:solidFill>
                <a:latin typeface="Tahoma"/>
                <a:ea typeface="宋体"/>
              </a:rPr>
              <a:t>传奇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rand Development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品牌发展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716200" y="2749680"/>
          <a:ext cx="4522680" cy="3495600"/>
        </p:xfrm>
        <a:graphic>
          <a:graphicData uri="http://schemas.openxmlformats.org/drawingml/2006/table">
            <a:tbl>
              <a:tblPr/>
              <a:tblGrid>
                <a:gridCol w="2262240"/>
                <a:gridCol w="2260440"/>
              </a:tblGrid>
              <a:tr h="18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2209680" y="190512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Categor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1600200" y="2742840"/>
            <a:ext cx="457200" cy="33526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352680"/>
              <a:gd name="textAreaBottom" fmla="*/ 3330360 h 3352680"/>
            </a:gdLst>
            <a:ahLst/>
            <a:rect l="textAreaLeft" t="textAreaTop" r="textAreaRight" b="textAreaBottom"/>
            <a:pathLst>
              <a:path w="21600" h="158287">
                <a:moveTo>
                  <a:pt x="3600" y="0"/>
                </a:moveTo>
                <a:arcTo wR="3600" hR="3600" stAng="16200000" swAng="-5400000"/>
                <a:lnTo>
                  <a:pt x="0" y="154687"/>
                </a:lnTo>
                <a:arcTo wR="3600" hR="3600" stAng="10800000" swAng="-5400000"/>
                <a:lnTo>
                  <a:pt x="18000" y="158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rand Nam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34680" y="243360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xis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2277720" y="3020400"/>
            <a:ext cx="423720" cy="8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xis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2281320" y="4736160"/>
            <a:ext cx="42372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Ne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37520" y="243360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Ne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8560" y="57294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Multibrand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27000" y="57294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New brand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4129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Line exten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65720" y="412920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Brand extens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4120" y="3146400"/>
            <a:ext cx="1600200" cy="587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8120" y="2908440"/>
            <a:ext cx="1447560" cy="1054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562720" y="4678200"/>
            <a:ext cx="1027080" cy="1036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2971800" y="4917960"/>
            <a:ext cx="1523880" cy="6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Line Extension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</a:rPr>
              <a:t>产品线扩展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391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ng a successful brand name to introduce additional items in a given product category under the same brand name, such as new flavors, forms, colors, added ingredients, or package siz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3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Yogurt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4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L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ow-cost, low-risk for introducing new products.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4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sks: consumer frustration &amp; confus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rand Extension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</a:rPr>
              <a:t>品牌扩展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ing a successful brand name to launch a new or modified product in a new category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11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-361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nstant recognition &amp; faster acceptanc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-36108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L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ower advertising cos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-36108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R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sk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-30816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Confuse the image of the main brand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-30816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 failed, may harm consumer attitudes toward other products of the brand (Parker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-3081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ase in Point: Lee Kum Ke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6934320" y="5349960"/>
            <a:ext cx="121896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ackag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activity of designing and producing the container or wrapper for a product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rimary package, secondary package, shipping packag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nnovative packaging can be an advantage for competit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66960" y="4348080"/>
            <a:ext cx="709560" cy="2129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57600" y="4802040"/>
            <a:ext cx="1523880" cy="1509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Poor Packag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(Insulin R, Insulin N)"/>
          <p:cNvPicPr/>
          <p:nvPr/>
        </p:nvPicPr>
        <p:blipFill>
          <a:blip r:embed="rId1"/>
          <a:stretch/>
        </p:blipFill>
        <p:spPr>
          <a:xfrm>
            <a:off x="838080" y="2209680"/>
            <a:ext cx="3370320" cy="35053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(picture of two bottles)"/>
          <p:cNvPicPr/>
          <p:nvPr/>
        </p:nvPicPr>
        <p:blipFill>
          <a:blip r:embed="rId2"/>
          <a:stretch/>
        </p:blipFill>
        <p:spPr>
          <a:xfrm>
            <a:off x="4952880" y="2209680"/>
            <a:ext cx="3416400" cy="3505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346000" y="6324480"/>
            <a:ext cx="39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  <a:ea typeface="宋体"/>
              </a:rPr>
              <a:t>Source: http://www.baddesigns.com/examples.html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31840" y="5791320"/>
            <a:ext cx="28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Insulin of different dos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3040" y="579132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Shampoo &amp; Condition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Labeling &amp; Product Support Servic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306160"/>
            <a:ext cx="472464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abel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Unit pric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Open dat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4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Nutritional label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14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roduct support servi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5715000" y="3505320"/>
            <a:ext cx="2438280" cy="14000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ne Decis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Product line (</a:t>
            </a:r>
            <a:r>
              <a:rPr b="0" lang="zh-CN" sz="2600" spc="-1" strike="noStrike">
                <a:solidFill>
                  <a:srgbClr val="003300"/>
                </a:solidFill>
                <a:latin typeface="Tahoma"/>
                <a:ea typeface="宋体"/>
              </a:rPr>
              <a:t>产品线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A group of products that are closely related because they function in a similar manner, are sold to the same customer groups, are marketed through the same types of outlets, or fall within given price ranges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Avon: beauty products, wellness products, jewelry and accessories, inspirational products (gifts, books, music etc.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Starbucks (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omic Sans MS"/>
                <a:ea typeface="宋体"/>
              </a:rPr>
              <a:t>310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2154240"/>
            <a:ext cx="70866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at was Starbucks’ product strategy at first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y did it give up that strategy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533520" indent="-53352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hat has been Starbucks’ product strategy since Schultz became its marketing director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ne Length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number of items in the product line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fluenced by company objectives &amp; resour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17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Up-selling (BMW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23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ross-selling (HP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lnSpc>
                <a:spcPct val="21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rotection against economic swings (Gap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81760" y="2971800"/>
            <a:ext cx="78552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105520" y="3962520"/>
            <a:ext cx="914400" cy="744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717560" y="5495760"/>
            <a:ext cx="720720" cy="752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2"/>
          <a:stretch/>
        </p:blipFill>
        <p:spPr>
          <a:xfrm>
            <a:off x="3083040" y="5618160"/>
            <a:ext cx="1447560" cy="487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"/>
          <a:stretch/>
        </p:blipFill>
        <p:spPr>
          <a:xfrm>
            <a:off x="5064120" y="5629320"/>
            <a:ext cx="2666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ne Stretching (</a:t>
            </a:r>
            <a:r>
              <a:rPr b="0" i="1" lang="zh-CN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产品线延伸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engthen the product line beyond its current range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Upward (Toyota Lexus, Chery V5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ownward (Chrysler Smart, Mercedes C-Class, Rolex Tudor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Both directions (Marriott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1447920" y="3962520"/>
            <a:ext cx="61722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Chrysler Smar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3" name="" descr="Micro Compact Car Smart GmbH, company design. Smart Car (&quot;Smart &amp; Pulse&quot; Coupé). 1998"/>
          <p:cNvPicPr/>
          <p:nvPr/>
        </p:nvPicPr>
        <p:blipFill>
          <a:blip r:embed="rId1"/>
          <a:stretch/>
        </p:blipFill>
        <p:spPr>
          <a:xfrm>
            <a:off x="4343400" y="1574640"/>
            <a:ext cx="4648320" cy="353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52280" y="3773520"/>
          <a:ext cx="4648320" cy="27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773520"/>
                    <a:ext cx="464832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ine Filling (</a:t>
            </a:r>
            <a:r>
              <a:rPr b="0" i="1" lang="zh-CN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产品线填充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dd more items within the present range of the line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Reaching for extra profi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Satisfying deal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sing excess capacity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eing leading full-line company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lugging holes to keep out competito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Mix Decis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Product Mix (product assortment) (</a:t>
            </a:r>
            <a:r>
              <a:rPr b="0" i="1" lang="zh-CN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产品组合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)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the set of all product lines and items a particular seller offers for sal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Width: the number of product lines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Length: the total  number of items within the product line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epth: the number of versions offered of each product in the line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nsistency: how closely related the various product lines are in end use, production, distribution etc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6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021520" y="6035760"/>
            <a:ext cx="893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rvice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Service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: any activity or benefit that one party can offer to another that is essentially intangible and does not result in the ownership of anything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523880" y="4559400"/>
            <a:ext cx="1600200" cy="15364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5867280" y="4114800"/>
            <a:ext cx="17701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715000" y="1981080"/>
            <a:ext cx="236232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4400640"/>
            <a:ext cx="2361960" cy="13716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981080"/>
            <a:ext cx="236196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haracteristics of Servic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032360" y="2895480"/>
            <a:ext cx="1149120" cy="1447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990720" y="1994040"/>
            <a:ext cx="2438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Intangibi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rvices can’t be seen, tasted, felt, heard or smelled before purcha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2085840"/>
            <a:ext cx="2368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Perishabi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ervices can’t be stored for later sale or us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4400640"/>
            <a:ext cx="23619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Inseparabi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ervices produced &amp; consumed at same time and can’t be separated from their providers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84760" y="4400640"/>
            <a:ext cx="223992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Variabi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Quality of services depends on who provides them and when, where and ho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54320" y="42814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Service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5000" y="4400640"/>
            <a:ext cx="2362320" cy="1371600"/>
          </a:xfrm>
          <a:prstGeom prst="rect">
            <a:avLst/>
          </a:prstGeom>
          <a:solidFill>
            <a:srgbClr val="ba966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5181480"/>
            <a:ext cx="914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267080" y="4647960"/>
            <a:ext cx="0" cy="533160"/>
          </a:xfrm>
          <a:prstGeom prst="line">
            <a:avLst/>
          </a:prstGeom>
          <a:ln w="284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5181480"/>
            <a:ext cx="914400" cy="0"/>
          </a:xfrm>
          <a:prstGeom prst="line">
            <a:avLst/>
          </a:prstGeom>
          <a:ln w="28440">
            <a:solidFill>
              <a:srgbClr val="caae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800600" y="4647960"/>
            <a:ext cx="0" cy="533160"/>
          </a:xfrm>
          <a:prstGeom prst="line">
            <a:avLst/>
          </a:prstGeom>
          <a:ln w="28440">
            <a:solidFill>
              <a:srgbClr val="caae8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2362320"/>
            <a:ext cx="91440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267080" y="2361960"/>
            <a:ext cx="0" cy="533160"/>
          </a:xfrm>
          <a:prstGeom prst="line">
            <a:avLst/>
          </a:prstGeom>
          <a:ln w="2844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2362320"/>
            <a:ext cx="91440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800600" y="2361960"/>
            <a:ext cx="0" cy="533160"/>
          </a:xfrm>
          <a:prstGeom prst="line">
            <a:avLst/>
          </a:prstGeom>
          <a:ln w="28440">
            <a:solidFill>
              <a:srgbClr val="ff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5562720" y="2362320"/>
            <a:ext cx="0" cy="2743200"/>
          </a:xfrm>
          <a:prstGeom prst="line">
            <a:avLst/>
          </a:prstGeom>
          <a:ln w="28440">
            <a:solidFill>
              <a:srgbClr val="ff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Service-Profit Chai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2362320"/>
            <a:ext cx="1295280" cy="2743200"/>
          </a:xfrm>
          <a:prstGeom prst="rect">
            <a:avLst/>
          </a:prstGeom>
          <a:noFill/>
          <a:ln w="28440">
            <a:solidFill>
              <a:srgbClr val="d5b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124080"/>
            <a:ext cx="1600200" cy="1143000"/>
          </a:xfrm>
          <a:prstGeom prst="rightArrowCallout">
            <a:avLst>
              <a:gd name="adj1" fmla="val 55839"/>
              <a:gd name="adj2" fmla="val 49444"/>
              <a:gd name="adj3" fmla="val 39725"/>
              <a:gd name="adj4" fmla="val 55954"/>
            </a:avLst>
          </a:prstGeom>
          <a:solidFill>
            <a:srgbClr val="9bd1b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124080"/>
            <a:ext cx="1600200" cy="1143000"/>
          </a:xfrm>
          <a:prstGeom prst="rightArrowCallout">
            <a:avLst>
              <a:gd name="adj1" fmla="val 55839"/>
              <a:gd name="adj2" fmla="val 49444"/>
              <a:gd name="adj3" fmla="val 39725"/>
              <a:gd name="adj4" fmla="val 55954"/>
            </a:avLst>
          </a:prstGeom>
          <a:solidFill>
            <a:srgbClr val="caae84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3124080"/>
            <a:ext cx="1600200" cy="1143000"/>
          </a:xfrm>
          <a:prstGeom prst="rightArrowCallout">
            <a:avLst>
              <a:gd name="adj1" fmla="val 55839"/>
              <a:gd name="adj2" fmla="val 49444"/>
              <a:gd name="adj3" fmla="val 39725"/>
              <a:gd name="adj4" fmla="val 55954"/>
            </a:avLst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124080"/>
            <a:ext cx="1600200" cy="1143000"/>
          </a:xfrm>
          <a:prstGeom prst="rightArrowCallout">
            <a:avLst>
              <a:gd name="adj1" fmla="val 55839"/>
              <a:gd name="adj2" fmla="val 49444"/>
              <a:gd name="adj3" fmla="val 39725"/>
              <a:gd name="adj4" fmla="val 55954"/>
            </a:avLst>
          </a:prstGeom>
          <a:solidFill>
            <a:srgbClr val="99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3124080"/>
            <a:ext cx="1600200" cy="1143000"/>
          </a:xfrm>
          <a:prstGeom prst="rightArrowCallout">
            <a:avLst>
              <a:gd name="adj1" fmla="val 55839"/>
              <a:gd name="adj2" fmla="val 49444"/>
              <a:gd name="adj3" fmla="val 39725"/>
              <a:gd name="adj4" fmla="val 55954"/>
            </a:avLst>
          </a:prstGeom>
          <a:solidFill>
            <a:srgbClr val="cc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3308400"/>
            <a:ext cx="106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Internal Service Quality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1981080"/>
            <a:ext cx="1371600" cy="3429000"/>
          </a:xfrm>
          <a:prstGeom prst="rightArrowCallout">
            <a:avLst>
              <a:gd name="adj1" fmla="val 53709"/>
              <a:gd name="adj2" fmla="val 40856"/>
              <a:gd name="adj3" fmla="val 23574"/>
              <a:gd name="adj4" fmla="val 58551"/>
            </a:avLst>
          </a:prstGeom>
          <a:solidFill>
            <a:srgbClr val="c3e3c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36852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Employee Satisfaction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4280" y="33685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Value for Customer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3308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Customer Satisfaction &amp; Loyalty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10280" y="33526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  <a:ea typeface="宋体"/>
              </a:rPr>
              <a:t>Healthy Profits &amp; Growth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50280" y="33372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vestment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1981080"/>
            <a:ext cx="1143000" cy="762120"/>
          </a:xfrm>
          <a:prstGeom prst="rect">
            <a:avLst/>
          </a:prstGeom>
          <a:solidFill>
            <a:srgbClr val="d5b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mploye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ten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4572000"/>
            <a:ext cx="1143000" cy="762120"/>
          </a:xfrm>
          <a:prstGeom prst="rect">
            <a:avLst/>
          </a:prstGeom>
          <a:solidFill>
            <a:srgbClr val="d5b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mploye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tiv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1981080"/>
            <a:ext cx="1143000" cy="762120"/>
          </a:xfrm>
          <a:prstGeom prst="rect">
            <a:avLst/>
          </a:prstGeom>
          <a:solidFill>
            <a:srgbClr val="ffcdc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venu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Growt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572000"/>
            <a:ext cx="1143000" cy="762120"/>
          </a:xfrm>
          <a:prstGeom prst="rect">
            <a:avLst/>
          </a:prstGeom>
          <a:solidFill>
            <a:srgbClr val="ffcdc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fitabilit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5791320"/>
            <a:ext cx="4267080" cy="38088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04" y="0"/>
                </a:lnTo>
                <a:lnTo>
                  <a:pt x="21600" y="10800"/>
                </a:lnTo>
                <a:lnTo>
                  <a:pt x="19704" y="21600"/>
                </a:lnTo>
                <a:lnTo>
                  <a:pt x="0" y="21600"/>
                </a:lnTo>
                <a:lnTo>
                  <a:pt x="1896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usiness Driv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562360" y="2362320"/>
            <a:ext cx="152280" cy="0"/>
          </a:xfrm>
          <a:prstGeom prst="line">
            <a:avLst/>
          </a:prstGeom>
          <a:ln w="28440">
            <a:solidFill>
              <a:srgbClr val="ff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562360" y="5105520"/>
            <a:ext cx="152280" cy="0"/>
          </a:xfrm>
          <a:prstGeom prst="line">
            <a:avLst/>
          </a:prstGeom>
          <a:ln w="28440">
            <a:solidFill>
              <a:srgbClr val="ff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Types in Servic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209680" y="2819520"/>
            <a:ext cx="4343400" cy="1904760"/>
          </a:xfrm>
          <a:prstGeom prst="triangle">
            <a:avLst>
              <a:gd name="adj" fmla="val 50000"/>
            </a:avLst>
          </a:prstGeom>
          <a:solidFill>
            <a:srgbClr val="d5b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30516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Internal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490536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Interactive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330516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External marke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8440" y="49053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Employe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48200" y="490536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ustom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988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ompan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828800" y="2590920"/>
            <a:ext cx="1905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8800" y="2590920"/>
            <a:ext cx="0" cy="228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21300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  <a:ea typeface="宋体"/>
              </a:rPr>
              <a:t>Carefully select, train &amp; motivate employe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5257800"/>
            <a:ext cx="0" cy="380880"/>
          </a:xfrm>
          <a:prstGeom prst="line">
            <a:avLst/>
          </a:prstGeom>
          <a:ln w="28440">
            <a:solidFill>
              <a:srgbClr val="9bd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34320" y="5257800"/>
            <a:ext cx="0" cy="380880"/>
          </a:xfrm>
          <a:prstGeom prst="line">
            <a:avLst/>
          </a:prstGeom>
          <a:ln w="28440">
            <a:solidFill>
              <a:srgbClr val="9bd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5638680"/>
            <a:ext cx="5105520" cy="0"/>
          </a:xfrm>
          <a:prstGeom prst="line">
            <a:avLst/>
          </a:prstGeom>
          <a:ln w="28440">
            <a:solidFill>
              <a:srgbClr val="9bd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36480" y="56530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d1b0"/>
                </a:solidFill>
                <a:latin typeface="Tahoma"/>
                <a:ea typeface="宋体"/>
              </a:rPr>
              <a:t>Interact efficientl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029200" y="2590920"/>
            <a:ext cx="1905120" cy="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590920"/>
            <a:ext cx="0" cy="2286000"/>
          </a:xfrm>
          <a:prstGeom prst="line">
            <a:avLst/>
          </a:prstGeom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0280" y="321300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Tahoma"/>
                <a:ea typeface="宋体"/>
              </a:rPr>
              <a:t>Promote company offerings &amp; ima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at is a Product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duct: anything that can be offered to a market for attention, acquisition, use or consumption and that might satisfy a want or need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clude physical objects, services, events, persons, places, organizations, ideas or mixes of these entitie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523880" y="1828800"/>
            <a:ext cx="5867640" cy="4114800"/>
          </a:xfrm>
          <a:prstGeom prst="ellipse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Level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2666880"/>
            <a:ext cx="3733560" cy="25146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276720"/>
            <a:ext cx="1676520" cy="1218960"/>
          </a:xfrm>
          <a:prstGeom prst="ellipse">
            <a:avLst/>
          </a:prstGeom>
          <a:solidFill>
            <a:srgbClr val="cc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ore Benefi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or Serv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3240" y="281952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ackag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26840" y="367200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Feature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77920" y="4572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Styl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549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Brand Nam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96800" y="45864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Qualit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81440" y="220968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Install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352680"/>
            <a:ext cx="91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fter-sale Servic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95520" y="3549600"/>
            <a:ext cx="11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elivery &amp; Credi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8200" y="54100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Warranty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5638680"/>
            <a:ext cx="762120" cy="0"/>
          </a:xfrm>
          <a:prstGeom prst="line">
            <a:avLst/>
          </a:prstGeom>
          <a:ln w="284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3124080"/>
            <a:ext cx="2210040" cy="7632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77320" y="320040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914400" y="4191120"/>
            <a:ext cx="2819520" cy="0"/>
          </a:xfrm>
          <a:prstGeom prst="line">
            <a:avLst/>
          </a:prstGeom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191120"/>
            <a:ext cx="0" cy="380880"/>
          </a:xfrm>
          <a:prstGeom prst="line">
            <a:avLst/>
          </a:prstGeom>
          <a:ln w="284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3581280"/>
            <a:ext cx="1447920" cy="685800"/>
          </a:xfrm>
          <a:prstGeom prst="cube">
            <a:avLst>
              <a:gd name="adj" fmla="val 14351"/>
            </a:avLst>
          </a:prstGeom>
          <a:solidFill>
            <a:srgbClr val="ffff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5410080"/>
            <a:ext cx="1447560" cy="685800"/>
          </a:xfrm>
          <a:prstGeom prst="cube">
            <a:avLst>
              <a:gd name="adj" fmla="val 12037"/>
            </a:avLst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4572000"/>
            <a:ext cx="1447920" cy="685800"/>
          </a:xfrm>
          <a:prstGeom prst="cube">
            <a:avLst>
              <a:gd name="adj" fmla="val 12037"/>
            </a:avLst>
          </a:prstGeom>
          <a:solidFill>
            <a:srgbClr val="cc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ugmented Produc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616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ore Produc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3625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ctual Produc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Business Offerings to Custom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2360520"/>
          <a:ext cx="8229600" cy="3218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2286000"/>
                <a:gridCol w="2743200"/>
              </a:tblGrid>
              <a:tr h="73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ure tangible good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ae8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ure servic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ae8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angible goods with supporting servic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ae8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808000"/>
                          </a:solidFill>
                          <a:uFillTx/>
                          <a:latin typeface="Tahoma"/>
                          <a:ea typeface="宋体"/>
                          <a:hlinkClick r:id="rId1" action="ppaction://hlinksldjump"/>
                        </a:rPr>
                        <a:t>Experienc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aae84"/>
                    </a:solidFill>
                  </a:tcPr>
                </a:tc>
              </a:tr>
              <a:tr h="145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7360" indent="-117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a9660"/>
                        </a:buClr>
                        <a:buSzPct val="6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hampoo, detergent, etc.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9160" indent="-1191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a9660"/>
                        </a:buClr>
                        <a:buSzPct val="6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edical exam, management consulting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6520" indent="-117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ba9660"/>
                        </a:buClr>
                        <a:buSzPct val="6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utomobiles, home electric applianc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Good combination of goods, services, environment and customer participation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808000"/>
                        </a:buClr>
                        <a:buSzPct val="60000"/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sneylan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angible, external for consum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angible, external for consum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Memorable, personal and take place in the minds of individual consum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a966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Nike Shoppertainment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09480" y="1585800"/>
          <a:ext cx="8153640" cy="48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585800"/>
                    <a:ext cx="815364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oduct Classificat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69343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Consumer product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: product bought by final consumer for personal consumption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38840" indent="-43884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Industrial product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: product bought by individuals and organizations for further processing or for use in conducting a busines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nsumer Product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5800" y="1981080"/>
          <a:ext cx="7848720" cy="4050000"/>
        </p:xfrm>
        <a:graphic>
          <a:graphicData uri="http://schemas.openxmlformats.org/drawingml/2006/table">
            <a:tbl>
              <a:tblPr/>
              <a:tblGrid>
                <a:gridCol w="1752480"/>
                <a:gridCol w="1524240"/>
                <a:gridCol w="1600200"/>
                <a:gridCol w="1523880"/>
                <a:gridCol w="1447920"/>
              </a:tblGrid>
              <a:tr h="68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ing consideration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onvenienc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hopping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pecial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Unsough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66b1b">
                        <a:alpha val="50000"/>
                      </a:srgbClr>
                    </a:solidFill>
                  </a:tcPr>
                </a:tc>
              </a:tr>
              <a:tr h="182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ustomer buying behavior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Frequent purchase, little planning, little comparison or shopping effort, low customer involvement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ess frequent purchase, much planning &amp; shopping effort, comparison of brands on price, quality, sty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ong brand preference &amp; loyalty, special purchase effort, little comparison of brands, low price sensitivity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ittle product awareness, knowledge (or, if aware, little or even negative interest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ice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Low pric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Higher pric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High pric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Vari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stribution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idespread distribution, convenient location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elective distribution in fewer outlet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xclusive distribution in only one or a few outlets per market area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vari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dba7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8:21:46Z</dcterms:created>
  <dc:creator>ABC</dc:creator>
  <dc:description/>
  <dc:language>en-US</dc:language>
  <cp:lastModifiedBy>ABC</cp:lastModifiedBy>
  <dcterms:modified xsi:type="dcterms:W3CDTF">2007-05-22T02:25:22Z</dcterms:modified>
  <cp:revision>357</cp:revision>
  <dc:subject/>
  <dc:title>幻灯片 1</dc:title>
</cp:coreProperties>
</file>