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14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0.png" ContentType="image/png"/>
  <Override PartName="/ppt/media/image21.wmf" ContentType="image/x-wmf"/>
  <Override PartName="/ppt/media/image19.wmf" ContentType="image/x-wmf"/>
  <Override PartName="/ppt/media/image16.gif" ContentType="image/gif"/>
  <Override PartName="/ppt/media/image2.png" ContentType="image/png"/>
  <Override PartName="/ppt/media/image20.wmf" ContentType="image/x-wmf"/>
  <Override PartName="/ppt/media/image18.wmf" ContentType="image/x-wmf"/>
  <Override PartName="/ppt/media/image15.gif" ContentType="image/gif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87AD-6222-40F6-8A90-94E9F2A5F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B2A6-FAB7-423B-82EC-52A115A1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A143-C7E4-45D8-9B77-1C9E32F17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8E2A-1AEA-48B6-8979-70B72B10A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33B6-BA7E-4C5F-951C-F20818A49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4E26-9AFE-4B62-8183-122AFE9C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1002-3F83-4ACF-A84D-A9E411D9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1E99-97DD-4622-8944-C22C6C2A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D67E-817C-4EE5-8849-F6BA28E2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BF532-69A0-40C5-9C38-F98A1DF5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77D68-F924-4E59-A3E5-0AE69407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4788-7D3E-4FFC-A2B2-6A778CA1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930C-DDBA-4803-8AB7-80B53F0D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6774-BC71-43ED-B73D-B628CEBE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10CF-D804-47C0-98E2-CBD67EA5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DEA4F-1886-48C0-B3A5-72681B0A8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AF1F-3399-482B-BB20-B445C53D7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623C-7488-41C1-A69E-27E89877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AE26-7E9C-4A34-8213-36A2CA1F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F7AE-6FFC-4FE3-A92A-D3EDF6B6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A4D9-AF03-4812-A33E-428504EF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BC6E-6E3A-42D0-B185-8C640C48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2231-B7E8-4D6C-BCB3-E4EF9682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086D-0C8C-4BDF-9C03-5EE4AF83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2" marL="1430280" indent="-34272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3" marL="1887480" indent="-342720">
              <a:spcBef>
                <a:spcPts val="700"/>
              </a:spcBef>
              <a:buClr>
                <a:srgbClr val="8dba7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4" marL="2286000" indent="-284040">
              <a:spcBef>
                <a:spcPts val="700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5" marL="2286000" indent="-284040">
              <a:spcBef>
                <a:spcPts val="700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6" marL="2286000" indent="-284040">
              <a:spcBef>
                <a:spcPts val="700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C6A6-2BF1-4EF4-87F3-8F9FDB215AA8}" type="slidenum">
              <a:rPr b="0" i="1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ffffff"/>
                </a:solidFill>
                <a:latin typeface="Comic Sans MS"/>
                <a:ea typeface="宋体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Comic Sans MS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ffffff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39C9-C0F7-4AAD-8B86-C37158E069AF}" type="slidenum">
              <a:rPr b="0" i="1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Comic Sans M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2" marL="914400" indent="173160" algn="ctr">
              <a:spcBef>
                <a:spcPts val="550"/>
              </a:spcBef>
              <a:buClr>
                <a:srgbClr val="0033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</a:rPr>
              <a:t>Third Outline Level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3" marL="1371600" indent="173160" algn="ctr">
              <a:spcBef>
                <a:spcPts val="499"/>
              </a:spcBef>
              <a:buClr>
                <a:srgbClr val="8dba7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4" marL="1828800" indent="173160" algn="ctr">
              <a:spcBef>
                <a:spcPts val="499"/>
              </a:spcBef>
              <a:buClr>
                <a:srgbClr val="0033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5" marL="1828800" indent="173160">
              <a:spcBef>
                <a:spcPts val="499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6" marL="1828800" indent="173160">
              <a:spcBef>
                <a:spcPts val="499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wmf"/><Relationship Id="rId3" Type="http://schemas.openxmlformats.org/officeDocument/2006/relationships/image" Target="../media/image11.wm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Comic Sans MS"/>
                <a:ea typeface="宋体"/>
              </a:rPr>
              <a:t>Principles of Marketing</a:t>
            </a:r>
            <a:endParaRPr b="0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6688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  <a:ea typeface="宋体"/>
              </a:rPr>
              <a:t>Chapter VII </a:t>
            </a:r>
            <a:endParaRPr b="0" lang="en-US" sz="2800" spc="-1" strike="noStrike">
              <a:solidFill>
                <a:srgbClr val="0033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  <a:ea typeface="宋体"/>
              </a:rPr>
              <a:t>Business Markets &amp; Business Buyer Behavior</a:t>
            </a:r>
            <a:endParaRPr b="0" lang="en-US" sz="2800" spc="-1" strike="noStrike">
              <a:solidFill>
                <a:srgbClr val="0033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  <a:ea typeface="宋体"/>
              </a:rPr>
              <a:t>Characteristics of Business Markets</a:t>
            </a: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2001600"/>
            <a:ext cx="6858000" cy="40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ahoma"/>
                <a:ea typeface="宋体"/>
              </a:rPr>
              <a:t>Market structure &amp; demand</a:t>
            </a:r>
            <a:endParaRPr b="0" lang="en-US" sz="26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Fewer but larger buyers 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0"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More geographically concentrated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0">
              <a:spcBef>
                <a:spcPts val="1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524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Derived Demand: business demand that ultimately comes from the demand for consumer goods.</a:t>
            </a:r>
            <a:r>
              <a:rPr b="0" lang="en-US" sz="2100" spc="-1" strike="noStrike">
                <a:solidFill>
                  <a:srgbClr val="003300"/>
                </a:solidFill>
                <a:latin typeface="Tahoma"/>
                <a:ea typeface="宋体"/>
              </a:rPr>
              <a:t> </a:t>
            </a:r>
            <a:endParaRPr b="0" lang="en-US" sz="21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2" marL="1430280" indent="-342720">
              <a:spcBef>
                <a:spcPts val="499"/>
              </a:spcBef>
              <a:buSzPct val="1131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Promote directly to final users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3" marL="1887480" indent="-342720">
              <a:spcBef>
                <a:spcPts val="451"/>
              </a:spcBef>
              <a:buClr>
                <a:srgbClr val="8dba76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  <a:ea typeface="宋体"/>
              </a:rPr>
              <a:t>Intel</a:t>
            </a: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  <a:p>
            <a:pPr lvl="3" marL="1887480" indent="-342720">
              <a:spcBef>
                <a:spcPts val="451"/>
              </a:spcBef>
              <a:buClr>
                <a:srgbClr val="8dba76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  <a:ea typeface="宋体"/>
              </a:rPr>
              <a:t>DuPont Teflon</a:t>
            </a: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  <a:ea typeface="宋体"/>
              </a:rPr>
              <a:t>Characteristics of Business Markets</a:t>
            </a: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ahoma"/>
                <a:ea typeface="宋体"/>
              </a:rPr>
              <a:t>Market structure &amp; demand</a:t>
            </a:r>
            <a:endParaRPr b="0" lang="en-US" sz="26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Inelastic demand: total demand for business products not affected much by price changes.  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0"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524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Fluctuating demand: demand for many business goods/services tends to change more – and more quickly – than the demand for consumer goods. </a:t>
            </a:r>
            <a:r>
              <a:rPr b="0" lang="en-US" sz="2100" spc="-1" strike="noStrike">
                <a:solidFill>
                  <a:srgbClr val="003300"/>
                </a:solidFill>
                <a:latin typeface="Tahoma"/>
                <a:ea typeface="宋体"/>
              </a:rPr>
              <a:t> </a:t>
            </a:r>
            <a:endParaRPr b="0" lang="en-US" sz="21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  <a:ea typeface="宋体"/>
              </a:rPr>
              <a:t>Characteristics of Business Markets</a:t>
            </a: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Nature of the buying unit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3884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1" marL="933840" indent="-3852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More decision participants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93384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1" marL="933840" indent="-3852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More professional purchasing effort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93384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lvl="1" marL="93384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Types of decisions &amp; the decision process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3884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1" marL="933840" indent="-3852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More complex, more formalized decision process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93384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1" marL="933840" indent="-38520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Buyer &amp; seller more dependant on each other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93384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1" marL="933840" indent="-38520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Supplier relationship management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2" marL="1373040" indent="-328680">
              <a:spcBef>
                <a:spcPts val="451"/>
              </a:spcBef>
              <a:buSzPct val="12575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You no longer treat your supplier as a ‘supplier’ but as an extension of your business.”</a:t>
            </a: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Model of Business Buyer Behavior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035600" y="3429000"/>
            <a:ext cx="993600" cy="1293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19320" y="4557600"/>
            <a:ext cx="1066680" cy="1028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095480" y="5548320"/>
            <a:ext cx="14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Other stimuli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066680" y="2604960"/>
            <a:ext cx="1371600" cy="11113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066680" y="367200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Marketing stimuli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1752480"/>
            <a:ext cx="167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The buying organizatio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26938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Organizational influence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9880" y="4951440"/>
            <a:ext cx="1524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Interpersonal &amp; Individual influence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870600" y="2652840"/>
            <a:ext cx="978120" cy="1143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62120" y="2500200"/>
            <a:ext cx="2057400" cy="358164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3581640"/>
              <a:gd name="textAreaBottom" fmla="*/ 3481200 h 3581640"/>
            </a:gdLst>
            <a:ahLst/>
            <a:rect l="textAreaLeft" t="textAreaTop" r="textAreaRight" b="textAreaBottom"/>
            <a:pathLst>
              <a:path w="21600" h="37600">
                <a:moveTo>
                  <a:pt x="3600" y="0"/>
                </a:moveTo>
                <a:arcTo wR="3600" hR="3600" stAng="16200000" swAng="-5400000"/>
                <a:lnTo>
                  <a:pt x="0" y="34000"/>
                </a:lnTo>
                <a:arcTo wR="3600" hR="3600" stAng="10800000" swAng="-5400000"/>
                <a:lnTo>
                  <a:pt x="18000" y="37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05320" y="2500200"/>
            <a:ext cx="2057400" cy="358164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3581640"/>
              <a:gd name="textAreaBottom" fmla="*/ 3481200 h 3581640"/>
            </a:gdLst>
            <a:ahLst/>
            <a:rect l="textAreaLeft" t="textAreaTop" r="textAreaRight" b="textAreaBottom"/>
            <a:pathLst>
              <a:path w="21600" h="37600">
                <a:moveTo>
                  <a:pt x="3600" y="0"/>
                </a:moveTo>
                <a:arcTo wR="3600" hR="3600" stAng="16200000" swAng="-5400000"/>
                <a:lnTo>
                  <a:pt x="0" y="34000"/>
                </a:lnTo>
                <a:arcTo wR="3600" hR="3600" stAng="10800000" swAng="-5400000"/>
                <a:lnTo>
                  <a:pt x="18000" y="37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3000" y="1828800"/>
            <a:ext cx="22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The environment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84520" y="1828800"/>
            <a:ext cx="21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Buyer response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00800" y="2500200"/>
            <a:ext cx="2057400" cy="358164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3581640"/>
              <a:gd name="textAreaBottom" fmla="*/ 3481200 h 3581640"/>
            </a:gdLst>
            <a:ahLst/>
            <a:rect l="textAreaLeft" t="textAreaTop" r="textAreaRight" b="textAreaBottom"/>
            <a:pathLst>
              <a:path w="21600" h="37600">
                <a:moveTo>
                  <a:pt x="3600" y="0"/>
                </a:moveTo>
                <a:arcTo wR="3600" hR="3600" stAng="16200000" swAng="-5400000"/>
                <a:lnTo>
                  <a:pt x="0" y="34000"/>
                </a:lnTo>
                <a:arcTo wR="3600" hR="3600" stAng="10800000" swAng="-5400000"/>
                <a:lnTo>
                  <a:pt x="18000" y="37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4600" indent="-174600">
              <a:lnSpc>
                <a:spcPct val="100000"/>
              </a:lnSpc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Product/service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choice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Supplier choice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Order quantitie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Delivery terms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&amp; time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Service term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Payment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38862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38862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  <a:ea typeface="宋体"/>
              </a:rPr>
              <a:t>Major Influences on Business Buyers</a:t>
            </a: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4192560"/>
            <a:ext cx="1887480" cy="1981080"/>
          </a:xfrm>
          <a:custGeom>
            <a:avLst/>
            <a:gdLst>
              <a:gd name="textAreaLeft" fmla="*/ 91800 w 1887480"/>
              <a:gd name="textAreaRight" fmla="*/ 1795680 w 1887480"/>
              <a:gd name="textAreaTop" fmla="*/ 91800 h 1981080"/>
              <a:gd name="textAreaBottom" fmla="*/ 1889280 h 1981080"/>
            </a:gdLst>
            <a:ahLst/>
            <a:rect l="textAreaLeft" t="textAreaTop" r="textAreaRight" b="textAreaBottom"/>
            <a:pathLst>
              <a:path w="21600" h="22671">
                <a:moveTo>
                  <a:pt x="3600" y="0"/>
                </a:moveTo>
                <a:arcTo wR="3600" hR="3600" stAng="16200000" swAng="-5400000"/>
                <a:lnTo>
                  <a:pt x="0" y="19071"/>
                </a:lnTo>
                <a:arcTo wR="3600" hR="3600" stAng="10800000" swAng="-5400000"/>
                <a:lnTo>
                  <a:pt x="18000" y="226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4600" indent="-174600">
              <a:lnSpc>
                <a:spcPct val="105000"/>
              </a:lnSpc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00"/>
                </a:solidFill>
                <a:latin typeface="Tahoma"/>
                <a:ea typeface="宋体"/>
              </a:rPr>
              <a:t>Economic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174600" indent="-174600">
              <a:lnSpc>
                <a:spcPct val="105000"/>
              </a:lnSpc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00"/>
                </a:solidFill>
                <a:latin typeface="Tahoma"/>
                <a:ea typeface="宋体"/>
              </a:rPr>
              <a:t>Supply conditions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174600" indent="-174600">
              <a:lnSpc>
                <a:spcPct val="105000"/>
              </a:lnSpc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00"/>
                </a:solidFill>
                <a:latin typeface="Tahoma"/>
                <a:ea typeface="宋体"/>
              </a:rPr>
              <a:t>Technological 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174600" indent="-174600">
              <a:lnSpc>
                <a:spcPct val="105000"/>
              </a:lnSpc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00"/>
                </a:solidFill>
                <a:latin typeface="Tahoma"/>
                <a:ea typeface="宋体"/>
              </a:rPr>
              <a:t>Political &amp; regulatory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174600" indent="-174600">
              <a:lnSpc>
                <a:spcPct val="105000"/>
              </a:lnSpc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00"/>
                </a:solidFill>
                <a:latin typeface="Tahoma"/>
                <a:ea typeface="宋体"/>
              </a:rPr>
              <a:t>Competitive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174600" indent="-174600">
              <a:lnSpc>
                <a:spcPct val="105000"/>
              </a:lnSpc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00"/>
                </a:solidFill>
                <a:latin typeface="Tahoma"/>
                <a:ea typeface="宋体"/>
              </a:rPr>
              <a:t>Culture &amp; customs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4192560"/>
            <a:ext cx="1904760" cy="1676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4600" indent="-174600">
              <a:lnSpc>
                <a:spcPct val="100000"/>
              </a:lnSpc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00"/>
                </a:solidFill>
                <a:latin typeface="Tahoma"/>
                <a:ea typeface="宋体"/>
              </a:rPr>
              <a:t>Objectives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00"/>
                </a:solidFill>
                <a:latin typeface="Tahoma"/>
                <a:ea typeface="宋体"/>
              </a:rPr>
              <a:t>Policies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00"/>
                </a:solidFill>
                <a:latin typeface="Tahoma"/>
                <a:ea typeface="宋体"/>
              </a:rPr>
              <a:t>Procedures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00"/>
                </a:solidFill>
                <a:latin typeface="Tahoma"/>
                <a:ea typeface="宋体"/>
              </a:rPr>
              <a:t>Organizational 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00"/>
                </a:solidFill>
                <a:latin typeface="Tahoma"/>
                <a:ea typeface="宋体"/>
              </a:rPr>
              <a:t>	</a:t>
            </a:r>
            <a:r>
              <a:rPr b="0" lang="en-US" sz="1500" spc="-1" strike="noStrike">
                <a:solidFill>
                  <a:srgbClr val="003300"/>
                </a:solidFill>
                <a:latin typeface="Tahoma"/>
                <a:ea typeface="宋体"/>
              </a:rPr>
              <a:t>structure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00"/>
                </a:solidFill>
                <a:latin typeface="Tahoma"/>
                <a:ea typeface="宋体"/>
              </a:rPr>
              <a:t>systems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4192560"/>
            <a:ext cx="1905120" cy="1371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4600" indent="-174600">
              <a:lnSpc>
                <a:spcPct val="100000"/>
              </a:lnSpc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00"/>
                </a:solidFill>
                <a:latin typeface="Tahoma"/>
                <a:ea typeface="宋体"/>
              </a:rPr>
              <a:t>Authority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00"/>
                </a:solidFill>
                <a:latin typeface="Tahoma"/>
                <a:ea typeface="宋体"/>
              </a:rPr>
              <a:t>Status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00"/>
                </a:solidFill>
                <a:latin typeface="Tahoma"/>
                <a:ea typeface="宋体"/>
              </a:rPr>
              <a:t>Empathy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00"/>
                </a:solidFill>
                <a:latin typeface="Tahoma"/>
                <a:ea typeface="宋体"/>
              </a:rPr>
              <a:t>Persuasiveness 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162920" y="4192560"/>
            <a:ext cx="1676160" cy="1447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4600" indent="-174600">
              <a:lnSpc>
                <a:spcPct val="100000"/>
              </a:lnSpc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00"/>
                </a:solidFill>
                <a:latin typeface="Tahoma"/>
                <a:ea typeface="宋体"/>
              </a:rPr>
              <a:t>Age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00"/>
                </a:solidFill>
                <a:latin typeface="Tahoma"/>
                <a:ea typeface="宋体"/>
              </a:rPr>
              <a:t>Education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00"/>
                </a:solidFill>
                <a:latin typeface="Tahoma"/>
                <a:ea typeface="宋体"/>
              </a:rPr>
              <a:t>Job position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00"/>
                </a:solidFill>
                <a:latin typeface="Tahoma"/>
                <a:ea typeface="宋体"/>
              </a:rPr>
              <a:t>Personality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00"/>
                </a:solidFill>
                <a:latin typeface="Tahoma"/>
                <a:ea typeface="宋体"/>
              </a:rPr>
              <a:t>Risk attitude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8920" y="2157480"/>
            <a:ext cx="217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Environmental 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88400" y="2157480"/>
            <a:ext cx="2190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Organizational</a:t>
            </a:r>
            <a:r>
              <a:rPr b="0" lang="en-US" sz="2200" spc="-1" strike="noStrike" u="sng">
                <a:solidFill>
                  <a:srgbClr val="808000"/>
                </a:solidFill>
                <a:uFillTx/>
                <a:latin typeface="Tahoma"/>
                <a:ea typeface="宋体"/>
                <a:hlinkClick r:id="rId1" action="ppaction://hlinksldjump"/>
              </a:rPr>
              <a:t> 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14280" y="2157480"/>
            <a:ext cx="204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Interpersonal 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54920" y="2157480"/>
            <a:ext cx="1550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Individual 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62120" y="2970360"/>
            <a:ext cx="1218960" cy="1174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065400" y="2819520"/>
            <a:ext cx="993960" cy="12938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5122800" y="3013200"/>
            <a:ext cx="1219320" cy="1179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7180200" y="3021120"/>
            <a:ext cx="114300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 flipV="1">
            <a:off x="7369200" y="2514600"/>
            <a:ext cx="22320" cy="12952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The Business Buying Proces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3886200"/>
            <a:ext cx="762120" cy="0"/>
          </a:xfrm>
          <a:prstGeom prst="line">
            <a:avLst/>
          </a:prstGeom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22760" y="3940200"/>
            <a:ext cx="0" cy="1227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622760" y="5167440"/>
            <a:ext cx="29052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51200" y="4829040"/>
            <a:ext cx="114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Proposal solicitation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320" y="5076720"/>
            <a:ext cx="135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Problem recognition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3933000"/>
            <a:ext cx="0" cy="1476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90000" y="5410080"/>
            <a:ext cx="2458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733920" y="2561760"/>
            <a:ext cx="0" cy="12956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26000" y="2560680"/>
            <a:ext cx="4348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06880" y="2286000"/>
            <a:ext cx="1379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Supplier search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95480" y="3886200"/>
            <a:ext cx="838440" cy="0"/>
          </a:xfrm>
          <a:prstGeom prst="line">
            <a:avLst/>
          </a:prstGeom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33920" y="3886200"/>
            <a:ext cx="914400" cy="0"/>
          </a:xfrm>
          <a:prstGeom prst="line">
            <a:avLst/>
          </a:prstGeom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421080" y="2978280"/>
            <a:ext cx="541440" cy="6508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027080" y="4010040"/>
            <a:ext cx="463680" cy="6681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267080" y="4038480"/>
            <a:ext cx="555840" cy="658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219320" y="3886200"/>
            <a:ext cx="784080" cy="0"/>
          </a:xfrm>
          <a:prstGeom prst="line">
            <a:avLst/>
          </a:prstGeom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013120" y="2209680"/>
            <a:ext cx="21960" cy="1648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06480" y="2209680"/>
            <a:ext cx="2286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933560"/>
            <a:ext cx="150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General need description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1752480" y="2962440"/>
            <a:ext cx="596880" cy="666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981080" y="3886200"/>
            <a:ext cx="914400" cy="0"/>
          </a:xfrm>
          <a:prstGeom prst="line">
            <a:avLst/>
          </a:prstGeom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46440" y="5562720"/>
            <a:ext cx="135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Product specification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87560" y="3961800"/>
            <a:ext cx="0" cy="19047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631960" y="5865840"/>
            <a:ext cx="26352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2658960" y="3976560"/>
            <a:ext cx="506520" cy="6717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391520" y="3886200"/>
            <a:ext cx="1218960" cy="0"/>
          </a:xfrm>
          <a:prstGeom prst="line">
            <a:avLst/>
          </a:prstGeom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7058160" y="2986200"/>
            <a:ext cx="637920" cy="6714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715000" y="1600200"/>
            <a:ext cx="113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Supplier selection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629400" y="525780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Order-routine specification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0120" y="22096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Performance review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48320" y="3886200"/>
            <a:ext cx="914400" cy="0"/>
          </a:xfrm>
          <a:prstGeom prst="line">
            <a:avLst/>
          </a:prstGeom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5562360" y="1904760"/>
            <a:ext cx="19080" cy="1981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572080" y="1905120"/>
            <a:ext cx="295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7"/>
          <a:stretch/>
        </p:blipFill>
        <p:spPr>
          <a:xfrm>
            <a:off x="5334120" y="2971800"/>
            <a:ext cx="520560" cy="7142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562720" y="3886200"/>
            <a:ext cx="914400" cy="0"/>
          </a:xfrm>
          <a:prstGeom prst="line">
            <a:avLst/>
          </a:prstGeom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3885480"/>
            <a:ext cx="0" cy="16765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476400" y="5562720"/>
            <a:ext cx="339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8"/>
          <a:stretch/>
        </p:blipFill>
        <p:spPr>
          <a:xfrm>
            <a:off x="6251400" y="4038480"/>
            <a:ext cx="530280" cy="6858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477120" y="3886200"/>
            <a:ext cx="914400" cy="0"/>
          </a:xfrm>
          <a:prstGeom prst="line">
            <a:avLst/>
          </a:prstGeom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391520" y="2513160"/>
            <a:ext cx="30456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5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Questions &amp; Answer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410440" cy="3970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00:53:02Z</dcterms:created>
  <dc:creator>ABC</dc:creator>
  <dc:description/>
  <dc:language>en-US</dc:language>
  <cp:lastModifiedBy>ABC</cp:lastModifiedBy>
  <dcterms:modified xsi:type="dcterms:W3CDTF">2007-05-07T07:11:09Z</dcterms:modified>
  <cp:revision>341</cp:revision>
  <dc:subject/>
  <dc:title>幻灯片 1</dc:title>
</cp:coreProperties>
</file>