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wmf" ContentType="image/x-wmf"/>
  <Override PartName="/ppt/media/j0388178.wav" ContentType="audio/x-wav"/>
  <Override PartName="/ppt/media/j0388448.wav" ContentType="audio/x-wav"/>
  <Override PartName="/ppt/media/image22.png" ContentType="image/png"/>
  <Override PartName="/ppt/media/image17.gif" ContentType="image/gif"/>
  <Override PartName="/ppt/media/image27.jpeg" ContentType="image/jpeg"/>
  <Override PartName="/ppt/media/image16.wmf" ContentType="image/x-wmf"/>
  <Override PartName="/ppt/media/image20.png" ContentType="image/png"/>
  <Override PartName="/ppt/media/image18.png" ContentType="image/png"/>
  <Override PartName="/ppt/media/image15.gif" ContentType="image/gif"/>
  <Override PartName="/ppt/media/image14.gif" ContentType="image/gif"/>
  <Override PartName="/ppt/media/image24.png" ContentType="image/png"/>
  <Override PartName="/ppt/media/image1.png" ContentType="image/png"/>
  <Override PartName="/ppt/media/image30.png" ContentType="image/png"/>
  <Override PartName="/ppt/media/image5.png" ContentType="image/png"/>
  <Override PartName="/ppt/media/image29.png" ContentType="image/png"/>
  <Override PartName="/ppt/media/image32.wmf" ContentType="image/x-wmf"/>
  <Override PartName="/ppt/media/image11.png" ContentType="image/png"/>
  <Override PartName="/ppt/media/image28.png" ContentType="image/png"/>
  <Override PartName="/ppt/media/image31.wmf" ContentType="image/x-wmf"/>
  <Override PartName="/ppt/media/image36.wmf" ContentType="image/x-wmf"/>
  <Override PartName="/ppt/media/image6.wmf" ContentType="image/x-wmf"/>
  <Override PartName="/ppt/media/image34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42.wmf" ContentType="image/x-wmf"/>
  <Override PartName="/ppt/media/image43.wmf" ContentType="image/x-wmf"/>
  <Override PartName="/ppt/media/image38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37.wmf" ContentType="image/x-wmf"/>
  <Override PartName="/ppt/media/image10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C9AC-C7FA-484F-AE43-65F87605880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oyo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1 miles = 1 gall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 gallon = 3.785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7.3 km = 1 li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ED8-554A-4D7E-9FA6-9954FD46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E62-244A-4608-9225-E130B1E8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C3A-CD68-4303-9CA0-7A469F5F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043-0902-40B2-BA26-9ACFC379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0D58-6B5D-4D9C-80B0-F1365D6A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E15D-2EBC-4C6F-ADC8-597CAA14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5639-E796-4F5F-8FD0-02B229FD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3DD4-976D-40D3-8A71-21D965B6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564B-FA5D-4BE6-890F-179C3892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A26A-6B88-47FD-A9E7-A0EF49A3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338A-D33B-471A-A88E-B9CD95ED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8FD-4337-4D43-8D28-EDD215AD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B44A-1651-4418-B63C-6963F1CB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5B55-3F10-49BD-9D86-4E3FA23D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91F1-D2B4-48B8-B61C-5C33CC60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D930-266A-400A-981B-F5BF1B89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EE54-DC8F-436E-9BEB-40C74D64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75C-3528-489A-B4D6-96CCFBA1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F8A-3AEB-4D25-8639-16B85702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FE2-DFDD-485C-95FB-03DB4A07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683-FE48-4777-9E73-7E1230B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260-7BD7-444B-B718-142DD4CE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6CF1-70C2-4E9B-9E8A-1E1C0CC4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5790-8E41-4E94-96B6-877BAFBA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43028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887480" indent="-34272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286000" indent="-28404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56D3-9BE5-41FC-B96B-E8EA1BBA325C}" type="slidenum">
              <a:rPr b="0" i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footer&gt;</a:t>
            </a: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087D-EBE6-41D7-B589-6A268B11A45C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914400" indent="173160" algn="ctr">
              <a:spcBef>
                <a:spcPts val="550"/>
              </a:spcBef>
              <a:buClr>
                <a:srgbClr val="0033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3" marL="1371600" indent="173160" algn="ctr">
              <a:spcBef>
                <a:spcPts val="499"/>
              </a:spcBef>
              <a:buClr>
                <a:srgbClr val="8dba7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4" marL="1828800" indent="173160" algn="ctr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5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6" marL="1828800" indent="173160">
              <a:spcBef>
                <a:spcPts val="499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wmf"/><Relationship Id="rId4" Type="http://schemas.openxmlformats.org/officeDocument/2006/relationships/image" Target="../media/image17.gif"/><Relationship Id="rId5" Type="http://schemas.openxmlformats.org/officeDocument/2006/relationships/audio" Target="../media/j0388448.wav"/><Relationship Id="rId6" Type="http://schemas.openxmlformats.org/officeDocument/2006/relationships/audio" Target="../media/j0388178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12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gi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" Target="slide17.xml"/><Relationship Id="rId3" Type="http://schemas.openxmlformats.org/officeDocument/2006/relationships/image" Target="../media/image36.wmf"/><Relationship Id="rId4" Type="http://schemas.openxmlformats.org/officeDocument/2006/relationships/slide" Target="slide21.xml"/><Relationship Id="rId5" Type="http://schemas.openxmlformats.org/officeDocument/2006/relationships/image" Target="../media/image37.wmf"/><Relationship Id="rId6" Type="http://schemas.openxmlformats.org/officeDocument/2006/relationships/slide" Target="slide25.xml"/><Relationship Id="rId7" Type="http://schemas.openxmlformats.org/officeDocument/2006/relationships/image" Target="../media/image38.wmf"/><Relationship Id="rId8" Type="http://schemas.openxmlformats.org/officeDocument/2006/relationships/slide" Target="slide24.xm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5.wmf"/><Relationship Id="rId3" Type="http://schemas.openxmlformats.org/officeDocument/2006/relationships/slide" Target="slide17.xml"/><Relationship Id="rId4" Type="http://schemas.openxmlformats.org/officeDocument/2006/relationships/image" Target="../media/image36.wmf"/><Relationship Id="rId5" Type="http://schemas.openxmlformats.org/officeDocument/2006/relationships/slide" Target="slide21.xml"/><Relationship Id="rId6" Type="http://schemas.openxmlformats.org/officeDocument/2006/relationships/image" Target="../media/image37.wmf"/><Relationship Id="rId7" Type="http://schemas.openxmlformats.org/officeDocument/2006/relationships/slide" Target="slide25.xml"/><Relationship Id="rId8" Type="http://schemas.openxmlformats.org/officeDocument/2006/relationships/image" Target="../media/image38.wmf"/><Relationship Id="rId9" Type="http://schemas.openxmlformats.org/officeDocument/2006/relationships/slide" Target="slide24.xml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image" Target="../media/image42.wmf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../../Rain/Fun/Funny%20Flash/&#25105;&#20204;&#26159;&#23475;&#34411;.sw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Principles of Marketing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666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hapter II 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ompany &amp; Marketing Strategy</a:t>
            </a:r>
            <a:endParaRPr b="0" lang="en-US" sz="2800" spc="-1" strike="noStrike">
              <a:solidFill>
                <a:srgbClr val="00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0216-A875-48A5-A605-CCA08A3EE8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ortfolio Analysi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Identify SBUs.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Strategic business unit (SBU): A unit of the company that has a separate mission and objectives that can be planned independently from other company businesses. (p46, GE’s SBU)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Assess attractiveness of SBUs &amp; decide how much support each deserves.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The Boston Consulting Group matrix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574-D1A8-44D9-9C33-8BB84F2413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BCG Growth-Share Matrix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716200" y="2749680"/>
          <a:ext cx="4522680" cy="3495600"/>
        </p:xfrm>
        <a:graphic>
          <a:graphicData uri="http://schemas.openxmlformats.org/drawingml/2006/table">
            <a:tbl>
              <a:tblPr/>
              <a:tblGrid>
                <a:gridCol w="2262240"/>
                <a:gridCol w="2260440"/>
              </a:tblGrid>
              <a:tr h="18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67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209680" y="1905120"/>
            <a:ext cx="518184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1f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arket Shar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1600200" y="2742840"/>
            <a:ext cx="457200" cy="33526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352680"/>
              <a:gd name="textAreaBottom" fmla="*/ 3330360 h 3352680"/>
            </a:gdLst>
            <a:ahLst/>
            <a:rect l="textAreaLeft" t="textAreaTop" r="textAreaRight" b="textAreaBottom"/>
            <a:pathLst>
              <a:path w="21600" h="158287">
                <a:moveTo>
                  <a:pt x="3600" y="0"/>
                </a:moveTo>
                <a:arcTo wR="3600" hR="3600" stAng="16200000" swAng="-5400000"/>
                <a:lnTo>
                  <a:pt x="0" y="154687"/>
                </a:lnTo>
                <a:arcTo wR="3600" hR="3600" stAng="10800000" swAng="-5400000"/>
                <a:lnTo>
                  <a:pt x="18000" y="158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f1f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arket Growth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26400" y="24336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Hig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2279160" y="3355200"/>
            <a:ext cx="42372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Hig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2281320" y="4776840"/>
            <a:ext cx="423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Low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1840" y="2433600"/>
            <a:ext cx="5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Low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05800" y="4630680"/>
            <a:ext cx="1227600" cy="1466640"/>
            <a:chOff x="3205800" y="4630680"/>
            <a:chExt cx="1227600" cy="14666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3325680" y="4630680"/>
              <a:ext cx="10670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205800" y="5729040"/>
              <a:ext cx="12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Cash Cow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383080" y="4641840"/>
            <a:ext cx="1565280" cy="1455480"/>
            <a:chOff x="5383080" y="4641840"/>
            <a:chExt cx="1565280" cy="145548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383080" y="4641840"/>
              <a:ext cx="156528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745960" y="5729040"/>
              <a:ext cx="62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Dog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249720" y="2832120"/>
            <a:ext cx="1252440" cy="1665000"/>
            <a:chOff x="3249720" y="2832120"/>
            <a:chExt cx="1252440" cy="166500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3249720" y="2832120"/>
              <a:ext cx="1252440" cy="13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3550680" y="4128840"/>
              <a:ext cx="61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Star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240520" y="2971800"/>
            <a:ext cx="1773360" cy="1506240"/>
            <a:chOff x="5240520" y="2971800"/>
            <a:chExt cx="1773360" cy="1506240"/>
          </a:xfrm>
        </p:grpSpPr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5535720" y="2971800"/>
              <a:ext cx="99036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240520" y="4109760"/>
              <a:ext cx="17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Question Mark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8C8-7288-40FD-A3D0-FAF8FEA5AB89}" type="slidenum">
              <a:t>11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j038844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38817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Developing Growth/Downsizing Strategies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roduct/market expansion grid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19320" y="2666880"/>
          <a:ext cx="6476760" cy="3302280"/>
        </p:xfrm>
        <a:graphic>
          <a:graphicData uri="http://schemas.openxmlformats.org/drawingml/2006/table">
            <a:tbl>
              <a:tblPr/>
              <a:tblGrid>
                <a:gridCol w="1266840"/>
                <a:gridCol w="2498760"/>
                <a:gridCol w="2711160"/>
              </a:tblGrid>
              <a:tr h="60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e1c0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urrent produc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e1c0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New produc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e1c09f"/>
                    </a:solidFill>
                  </a:tcPr>
                </a:tc>
              </a:tr>
              <a:tr h="1411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Current Marke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e1c0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rket penetra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trategy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(turn customers into regular/loyal customers)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duct development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trategy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(sell new products to regular customers)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b7dbff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New Markets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e1c0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rket development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trategy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(lure customers from competitors)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fbee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iversification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trategy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  <a:p>
                      <a:pPr marL="222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(most risky)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debd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6D8-A5F1-4F16-A6B8-F81F6DAF94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Case in Point (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Comic Sans MS"/>
                <a:ea typeface="宋体"/>
              </a:rPr>
              <a:t>39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 Walt Disney Company)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Questions: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102888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What is the mission of Disney and what do you think of it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10288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10288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1028880" indent="-4572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What are the SBUs of Disney? How do they complement each other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1028880" indent="0"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1028880" indent="-4572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What do you think of Disney’s business portfolio?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272-D937-48ED-B4ED-E7BE68DAC7E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artnering to Deliver Customer Valu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artnering with people on the value chain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20480" indent="-4204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artnering with other business stakeholder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20480" indent="-4204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Partnering with customer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3E2-3896-4F3C-AF05-422908B1DE9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2209680" y="1600200"/>
            <a:ext cx="5334120" cy="4876920"/>
            <a:chOff x="2209680" y="1600200"/>
            <a:chExt cx="5334120" cy="4876920"/>
          </a:xfrm>
        </p:grpSpPr>
        <p:sp>
          <p:nvSpPr>
            <p:cNvPr id="176" name=""/>
            <p:cNvSpPr/>
            <p:nvPr/>
          </p:nvSpPr>
          <p:spPr>
            <a:xfrm>
              <a:off x="2209680" y="1600200"/>
              <a:ext cx="5334120" cy="487692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9680" y="1676520"/>
              <a:ext cx="194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Marketing intermediaries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07200" y="167508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Competitors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84960" y="6107400"/>
              <a:ext cx="115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Publics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09680" y="6107400"/>
              <a:ext cx="115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Suppliers 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38760" y="1600200"/>
              <a:ext cx="0" cy="14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38760" y="6327720"/>
              <a:ext cx="0" cy="149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4002120"/>
              <a:ext cx="231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311960" y="4002120"/>
              <a:ext cx="231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Marketing Proces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438280" y="1648800"/>
            <a:ext cx="4946400" cy="4752000"/>
            <a:chOff x="2438280" y="1648800"/>
            <a:chExt cx="4946400" cy="4752000"/>
          </a:xfrm>
        </p:grpSpPr>
        <p:grpSp>
          <p:nvGrpSpPr>
            <p:cNvPr id="187" name=""/>
            <p:cNvGrpSpPr/>
            <p:nvPr/>
          </p:nvGrpSpPr>
          <p:grpSpPr>
            <a:xfrm>
              <a:off x="2438280" y="1676520"/>
              <a:ext cx="4946400" cy="4724280"/>
              <a:chOff x="2438280" y="1676520"/>
              <a:chExt cx="4946400" cy="4724280"/>
            </a:xfrm>
          </p:grpSpPr>
          <p:sp>
            <p:nvSpPr>
              <p:cNvPr id="188" name=""/>
              <p:cNvSpPr/>
              <p:nvPr/>
            </p:nvSpPr>
            <p:spPr>
              <a:xfrm>
                <a:off x="2438280" y="1676520"/>
                <a:ext cx="4876920" cy="4724280"/>
              </a:xfrm>
              <a:prstGeom prst="ellipse">
                <a:avLst/>
              </a:prstGeom>
              <a:solidFill>
                <a:srgbClr val="b7db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752800">
                <a:off x="5769720" y="2293560"/>
                <a:ext cx="1084320" cy="67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00"/>
                    </a:solidFill>
                    <a:latin typeface="Tahoma"/>
                    <a:ea typeface="宋体"/>
                  </a:rPr>
                  <a:t>Marketing planning</a:t>
                </a:r>
                <a:endParaRPr b="0" lang="en-US" sz="1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8823200">
                <a:off x="2629080" y="2328480"/>
                <a:ext cx="13460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00"/>
                    </a:solidFill>
                    <a:latin typeface="Tahoma"/>
                    <a:ea typeface="宋体"/>
                  </a:rPr>
                  <a:t>Marketing analysis</a:t>
                </a:r>
                <a:endParaRPr b="0" lang="en-US" sz="1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8577200">
                <a:off x="5818680" y="4946040"/>
                <a:ext cx="1593720" cy="67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00"/>
                    </a:solidFill>
                    <a:latin typeface="Tahoma"/>
                    <a:ea typeface="宋体"/>
                  </a:rPr>
                  <a:t>Marketing implementation</a:t>
                </a:r>
                <a:endParaRPr b="0" lang="en-US" sz="1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600400">
                <a:off x="2746440" y="5187600"/>
                <a:ext cx="11556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00"/>
                    </a:solidFill>
                    <a:latin typeface="Tahoma"/>
                    <a:ea typeface="宋体"/>
                  </a:rPr>
                  <a:t>Marketing control</a:t>
                </a:r>
                <a:endParaRPr b="0" lang="en-US" sz="1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 rot="12385800">
              <a:off x="4527720" y="1733400"/>
              <a:ext cx="45720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 rot="17299800">
              <a:off x="6771960" y="3723840"/>
              <a:ext cx="4572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 rot="1585800">
              <a:off x="4572000" y="5924160"/>
              <a:ext cx="4572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 rot="6499800">
              <a:off x="2448000" y="3800520"/>
              <a:ext cx="4572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2911320" y="2209680"/>
            <a:ext cx="3892680" cy="3581640"/>
            <a:chOff x="2911320" y="2209680"/>
            <a:chExt cx="3892680" cy="3581640"/>
          </a:xfrm>
        </p:grpSpPr>
        <p:sp>
          <p:nvSpPr>
            <p:cNvPr id="198" name=""/>
            <p:cNvSpPr/>
            <p:nvPr/>
          </p:nvSpPr>
          <p:spPr>
            <a:xfrm>
              <a:off x="3008160" y="2209680"/>
              <a:ext cx="3733560" cy="3581640"/>
            </a:xfrm>
            <a:prstGeom prst="ellipse">
              <a:avLst/>
            </a:prstGeom>
            <a:solidFill>
              <a:srgbClr val="e5ff9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08040" y="525780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Promotion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33600" y="3809880"/>
              <a:ext cx="7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Price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2040" y="236232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Product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11320" y="3733920"/>
              <a:ext cx="80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Place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388320" y="4723920"/>
              <a:ext cx="45684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826960" y="2819520"/>
              <a:ext cx="4568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5827320" y="4800600"/>
              <a:ext cx="38052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617640" y="2666880"/>
              <a:ext cx="38088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28600" y="1600200"/>
            <a:ext cx="1447920" cy="140796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3591360" y="2455200"/>
            <a:ext cx="2984760" cy="2726280"/>
            <a:chOff x="3591360" y="2455200"/>
            <a:chExt cx="2984760" cy="2726280"/>
          </a:xfrm>
        </p:grpSpPr>
        <p:grpSp>
          <p:nvGrpSpPr>
            <p:cNvPr id="209" name=""/>
            <p:cNvGrpSpPr/>
            <p:nvPr/>
          </p:nvGrpSpPr>
          <p:grpSpPr>
            <a:xfrm>
              <a:off x="3591360" y="2455200"/>
              <a:ext cx="2984760" cy="2726280"/>
              <a:chOff x="3591360" y="2455200"/>
              <a:chExt cx="2984760" cy="2726280"/>
            </a:xfrm>
          </p:grpSpPr>
          <p:sp>
            <p:nvSpPr>
              <p:cNvPr id="210" name=""/>
              <p:cNvSpPr/>
              <p:nvPr/>
            </p:nvSpPr>
            <p:spPr>
              <a:xfrm>
                <a:off x="3632040" y="2801520"/>
                <a:ext cx="2514600" cy="2379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8591000">
                <a:off x="3486240" y="2988360"/>
                <a:ext cx="16160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00"/>
                    </a:solidFill>
                    <a:latin typeface="Tahoma"/>
                    <a:ea typeface="宋体"/>
                  </a:rPr>
                  <a:t>Market segmentation</a:t>
                </a:r>
                <a:endParaRPr b="0" lang="en-US" sz="1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3400800">
                <a:off x="5122440" y="3614400"/>
                <a:ext cx="16160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00"/>
                    </a:solidFill>
                    <a:latin typeface="Tahoma"/>
                    <a:ea typeface="宋体"/>
                  </a:rPr>
                  <a:t>Target marketing</a:t>
                </a:r>
                <a:endParaRPr b="0" lang="en-US" sz="1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94160" y="4622400"/>
                <a:ext cx="16160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00"/>
                    </a:solidFill>
                    <a:latin typeface="Tahoma"/>
                    <a:ea typeface="宋体"/>
                  </a:rPr>
                  <a:t>Market positioning</a:t>
                </a:r>
                <a:endParaRPr b="0" lang="en-US" sz="1600" spc="-1" strike="noStrike">
                  <a:solidFill>
                    <a:srgbClr val="003300"/>
                  </a:solidFill>
                  <a:latin typeface="Times New Roman"/>
                </a:endParaRPr>
              </a:p>
            </p:txBody>
          </p:sp>
        </p:grpSp>
        <p:pic>
          <p:nvPicPr>
            <p:cNvPr id="214" name="" descr=""/>
            <p:cNvPicPr/>
            <p:nvPr/>
          </p:nvPicPr>
          <p:blipFill>
            <a:blip r:embed="rId6"/>
            <a:stretch/>
          </p:blipFill>
          <p:spPr>
            <a:xfrm rot="20079000">
              <a:off x="5536800" y="4343040"/>
              <a:ext cx="38088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7"/>
            <a:stretch/>
          </p:blipFill>
          <p:spPr>
            <a:xfrm rot="4614000">
              <a:off x="3881160" y="4322520"/>
              <a:ext cx="38088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8"/>
            <a:stretch/>
          </p:blipFill>
          <p:spPr>
            <a:xfrm rot="13407000">
              <a:off x="5003280" y="2929680"/>
              <a:ext cx="381240" cy="26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4114800" y="3276720"/>
            <a:ext cx="1447920" cy="1371600"/>
          </a:xfrm>
          <a:prstGeom prst="ellipse">
            <a:avLst/>
          </a:prstGeom>
          <a:solidFill>
            <a:srgbClr val="beda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fitable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customer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relationship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6F5-5D9C-4252-A548-935BF928263D}" type="slidenum">
              <a:t>15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Analyze Marketing Opportuniti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Market segmentation: dividing a market into distinct groups of buyers who have distinct needs, characteristics, or behavior and who might require separate products or marketing mixe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657600" y="4716360"/>
            <a:ext cx="182880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867280" y="4729320"/>
            <a:ext cx="2286000" cy="909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1219320" y="4626000"/>
            <a:ext cx="2057400" cy="124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25E-0130-4FCC-861F-ACC65CF2CDF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elect Target Market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arget marketing: the process of evaluating each market segment’s attractiveness and selecting one or more segments to enter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267080" y="4038480"/>
            <a:ext cx="1041480" cy="1828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324480" y="43815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990720" y="4194000"/>
            <a:ext cx="2438280" cy="15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4F6-3E46-4038-BAA6-4C53E5827C4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Position in Target Market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2077920"/>
            <a:ext cx="777240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Market positioning: arranging for a product to occupy a clear, distinctive, and desirable place relative to competing products in the minds of target consumers. (brand image)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8720" y="4191120"/>
          <a:ext cx="1023840" cy="16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8720" y="4191120"/>
                    <a:ext cx="102384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2352600" y="4681440"/>
            <a:ext cx="1838520" cy="1033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6553080" y="4654440"/>
            <a:ext cx="1828800" cy="1060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495680" y="4572000"/>
            <a:ext cx="1828800" cy="124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28C-6F5F-4233-8E03-73A82C39249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 Strategies for Competitive Advantage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Market competition position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204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204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894960" indent="-3690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arket leader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894960" indent="-3690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arket challenger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894960" indent="-3690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arket follower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894960" indent="-3690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arket nicher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marL="4204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marL="420480" indent="-42048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Porter’s competitive strategies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204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marL="4204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894960" indent="-3690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ost leadership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894960" indent="-3690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Differentiati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894960" indent="-3690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Focu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963-CF7C-4CAD-97C2-12E909D83C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trategic Plann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he process of developing and maintaining a strategic fit between the organization’s goals and capabilities and its changing marketing opportunitie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403880"/>
            <a:ext cx="1523880" cy="123480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7339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Organization goal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5149800"/>
            <a:ext cx="161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Organization capabiliti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13360" y="5165640"/>
            <a:ext cx="18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arketing opportunitie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462-58E8-447F-8AB7-23421950C67A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Porter’s Generic Competitive Strategy</a:t>
            </a:r>
            <a:endParaRPr b="0" i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1905120"/>
            <a:ext cx="5181840" cy="457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1f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Degree of product differentia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1600200" y="2742840"/>
            <a:ext cx="457200" cy="33526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352680"/>
              <a:gd name="textAreaBottom" fmla="*/ 3330360 h 3352680"/>
            </a:gdLst>
            <a:ahLst/>
            <a:rect l="textAreaLeft" t="textAreaTop" r="textAreaRight" b="textAreaBottom"/>
            <a:pathLst>
              <a:path w="21600" h="158287">
                <a:moveTo>
                  <a:pt x="3600" y="0"/>
                </a:moveTo>
                <a:arcTo wR="3600" hR="3600" stAng="16200000" swAng="-5400000"/>
                <a:lnTo>
                  <a:pt x="0" y="154687"/>
                </a:lnTo>
                <a:arcTo wR="3600" hR="3600" stAng="10800000" swAng="-5400000"/>
                <a:lnTo>
                  <a:pt x="18000" y="1582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99ff"/>
          </a:solidFill>
          <a:ln w="9360">
            <a:solidFill>
              <a:srgbClr val="f1f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ompetitive scop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10080" y="2433600"/>
            <a:ext cx="6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Low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2311920" y="3047040"/>
            <a:ext cx="66708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Broad targe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2317320" y="4673520"/>
            <a:ext cx="667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Narrow targe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40920" y="243828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High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257800" y="4695840"/>
            <a:ext cx="1752480" cy="1400400"/>
            <a:chOff x="5257800" y="4695840"/>
            <a:chExt cx="1752480" cy="1400400"/>
          </a:xfrm>
        </p:grpSpPr>
        <p:sp>
          <p:nvSpPr>
            <p:cNvPr id="245" name=""/>
            <p:cNvSpPr/>
            <p:nvPr/>
          </p:nvSpPr>
          <p:spPr>
            <a:xfrm>
              <a:off x="5257800" y="5613480"/>
              <a:ext cx="17524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Differentiation focu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5562360" y="4695840"/>
              <a:ext cx="1067040" cy="86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5335920" y="2917800"/>
            <a:ext cx="1569240" cy="1419840"/>
            <a:chOff x="5335920" y="2917800"/>
            <a:chExt cx="1569240" cy="1419840"/>
          </a:xfrm>
        </p:grpSpPr>
        <p:sp>
          <p:nvSpPr>
            <p:cNvPr id="248" name=""/>
            <p:cNvSpPr/>
            <p:nvPr/>
          </p:nvSpPr>
          <p:spPr>
            <a:xfrm>
              <a:off x="5335920" y="400032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Differentiation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5468760" y="2917800"/>
              <a:ext cx="1371600" cy="982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"/>
          <p:cNvGrpSpPr/>
          <p:nvPr/>
        </p:nvGrpSpPr>
        <p:grpSpPr>
          <a:xfrm>
            <a:off x="3098880" y="2757600"/>
            <a:ext cx="1657440" cy="1580040"/>
            <a:chOff x="3098880" y="2757600"/>
            <a:chExt cx="1657440" cy="1580040"/>
          </a:xfrm>
        </p:grpSpPr>
        <p:sp>
          <p:nvSpPr>
            <p:cNvPr id="251" name=""/>
            <p:cNvSpPr/>
            <p:nvPr/>
          </p:nvSpPr>
          <p:spPr>
            <a:xfrm>
              <a:off x="3098880" y="400032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Cost leadership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3430440" y="2757600"/>
              <a:ext cx="93996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"/>
          <p:cNvGrpSpPr/>
          <p:nvPr/>
        </p:nvGrpSpPr>
        <p:grpSpPr>
          <a:xfrm>
            <a:off x="3325680" y="4738680"/>
            <a:ext cx="1166760" cy="1275480"/>
            <a:chOff x="3325680" y="4738680"/>
            <a:chExt cx="1166760" cy="1275480"/>
          </a:xfrm>
        </p:grpSpPr>
        <p:sp>
          <p:nvSpPr>
            <p:cNvPr id="254" name=""/>
            <p:cNvSpPr/>
            <p:nvPr/>
          </p:nvSpPr>
          <p:spPr>
            <a:xfrm>
              <a:off x="3325680" y="5676840"/>
              <a:ext cx="116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Cost focu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4"/>
            <a:stretch/>
          </p:blipFill>
          <p:spPr>
            <a:xfrm>
              <a:off x="3504960" y="4738680"/>
              <a:ext cx="923760" cy="923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56" name=""/>
          <p:cNvGraphicFramePr/>
          <p:nvPr/>
        </p:nvGraphicFramePr>
        <p:xfrm>
          <a:off x="2971800" y="2743200"/>
          <a:ext cx="4267080" cy="3352680"/>
        </p:xfrm>
        <a:graphic>
          <a:graphicData uri="http://schemas.openxmlformats.org/drawingml/2006/table">
            <a:tbl>
              <a:tblPr/>
              <a:tblGrid>
                <a:gridCol w="2171520"/>
                <a:gridCol w="209556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F79B-5EF7-4229-8397-09D999C730BE}" type="slidenum">
              <a:t>20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evelop the Marketing Mix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611440"/>
            <a:ext cx="784872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Market mix: the set of controllable tactical marketing tools -- product, price, place, and promotion -- that the firm blends to produce the response it wants in the target market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B1C-1ADF-4DDA-A9C8-19527CE30D4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 Mix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58800" y="2057400"/>
            <a:ext cx="1523880" cy="4006080"/>
            <a:chOff x="658800" y="2057400"/>
            <a:chExt cx="1523880" cy="400608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658800" y="2057400"/>
              <a:ext cx="152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767160" y="3727440"/>
              <a:ext cx="1355760" cy="23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808000"/>
                  </a:solidFill>
                  <a:uFillTx/>
                  <a:latin typeface="Tahoma"/>
                  <a:ea typeface="宋体"/>
                  <a:hlinkClick r:id="rId2" action="ppaction://hlinksldjump"/>
                </a:rPr>
                <a:t>Produc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Variety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Quality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Design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Feature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Brand nam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Packaging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Services</a:t>
              </a:r>
              <a:r>
                <a:rPr b="0" lang="en-US" sz="18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 </a:t>
              </a: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879640" y="2133720"/>
            <a:ext cx="1589040" cy="3898800"/>
            <a:chOff x="2879640" y="2133720"/>
            <a:chExt cx="1589040" cy="3898800"/>
          </a:xfrm>
        </p:grpSpPr>
        <p:pic>
          <p:nvPicPr>
            <p:cNvPr id="264" name="" descr=""/>
            <p:cNvPicPr/>
            <p:nvPr/>
          </p:nvPicPr>
          <p:blipFill>
            <a:blip r:embed="rId3"/>
            <a:stretch/>
          </p:blipFill>
          <p:spPr>
            <a:xfrm>
              <a:off x="2879640" y="2133720"/>
              <a:ext cx="121284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108240" y="3727440"/>
              <a:ext cx="136044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808000"/>
                  </a:solidFill>
                  <a:uFillTx/>
                  <a:latin typeface="Tahoma"/>
                  <a:ea typeface="宋体"/>
                  <a:hlinkClick r:id="rId4" action="ppaction://hlinksldjump"/>
                </a:rPr>
                <a:t>Pri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List pric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Discount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Allowance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Payment period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Credit term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906440" y="1905120"/>
            <a:ext cx="1604160" cy="4127400"/>
            <a:chOff x="4906440" y="1905120"/>
            <a:chExt cx="1604160" cy="4127400"/>
          </a:xfrm>
        </p:grpSpPr>
        <p:pic>
          <p:nvPicPr>
            <p:cNvPr id="267" name="" descr=""/>
            <p:cNvPicPr/>
            <p:nvPr/>
          </p:nvPicPr>
          <p:blipFill>
            <a:blip r:embed="rId5"/>
            <a:stretch/>
          </p:blipFill>
          <p:spPr>
            <a:xfrm>
              <a:off x="5078160" y="1905120"/>
              <a:ext cx="8938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906440" y="3727440"/>
              <a:ext cx="1604160" cy="23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808000"/>
                  </a:solidFill>
                  <a:uFillTx/>
                  <a:latin typeface="Tahoma"/>
                  <a:ea typeface="宋体"/>
                  <a:hlinkClick r:id="rId6" action="ppaction://hlinksldjump"/>
                </a:rPr>
                <a:t>Place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Channel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Coverag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Assortment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Location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Inventory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Transportation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Logistics 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526080" y="2057400"/>
            <a:ext cx="1986480" cy="3245040"/>
            <a:chOff x="6526080" y="2057400"/>
            <a:chExt cx="1986480" cy="3245040"/>
          </a:xfrm>
        </p:grpSpPr>
        <p:pic>
          <p:nvPicPr>
            <p:cNvPr id="270" name="" descr=""/>
            <p:cNvPicPr/>
            <p:nvPr/>
          </p:nvPicPr>
          <p:blipFill>
            <a:blip r:embed="rId7"/>
            <a:stretch/>
          </p:blipFill>
          <p:spPr>
            <a:xfrm>
              <a:off x="6526080" y="20574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775920" y="3727440"/>
              <a:ext cx="173664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808000"/>
                  </a:solidFill>
                  <a:uFillTx/>
                  <a:latin typeface="Tahoma"/>
                  <a:ea typeface="宋体"/>
                  <a:hlinkClick r:id="rId8" action="ppaction://hlinksldjump"/>
                </a:rPr>
                <a:t>Promotion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Advertising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Personal selling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Sales promotion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Public relation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1011-572F-4E73-BBCF-81FF6807B8D7}" type="slidenum">
              <a:t>22</a:t>
            </a:fld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Four Ps &amp; Four C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791320" y="1828800"/>
            <a:ext cx="838080" cy="1251000"/>
            <a:chOff x="5791320" y="1828800"/>
            <a:chExt cx="838080" cy="125100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5867280" y="1828800"/>
              <a:ext cx="489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791320" y="2438280"/>
              <a:ext cx="83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00"/>
                  </a:solidFill>
                  <a:uFillTx/>
                  <a:latin typeface="Tahoma"/>
                  <a:ea typeface="宋体"/>
                </a:rPr>
                <a:t>Customer solution</a:t>
              </a:r>
              <a:endParaRPr b="0" lang="en-US" sz="1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493640" y="1828800"/>
            <a:ext cx="929160" cy="979200"/>
            <a:chOff x="1493640" y="1828800"/>
            <a:chExt cx="929160" cy="97920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1676160" y="182880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493640" y="2438280"/>
              <a:ext cx="9291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08000"/>
                  </a:solidFill>
                  <a:uFillTx/>
                  <a:latin typeface="Tahoma"/>
                  <a:ea typeface="宋体"/>
                  <a:hlinkClick r:id="rId3" action="ppaction://hlinksldjump"/>
                </a:rPr>
                <a:t>Product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630440" y="2940120"/>
            <a:ext cx="826920" cy="902880"/>
            <a:chOff x="1630440" y="2940120"/>
            <a:chExt cx="826920" cy="902880"/>
          </a:xfrm>
        </p:grpSpPr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1695240" y="2940120"/>
              <a:ext cx="511200" cy="60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630440" y="3473280"/>
              <a:ext cx="826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08000"/>
                  </a:solidFill>
                  <a:uFillTx/>
                  <a:latin typeface="Tahoma"/>
                  <a:ea typeface="宋体"/>
                  <a:hlinkClick r:id="rId5" action="ppaction://hlinksldjump"/>
                </a:rPr>
                <a:t>Pric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651320" y="4038480"/>
            <a:ext cx="680760" cy="1023840"/>
            <a:chOff x="1651320" y="4038480"/>
            <a:chExt cx="680760" cy="1023840"/>
          </a:xfrm>
        </p:grpSpPr>
        <p:pic>
          <p:nvPicPr>
            <p:cNvPr id="283" name="" descr=""/>
            <p:cNvPicPr/>
            <p:nvPr/>
          </p:nvPicPr>
          <p:blipFill>
            <a:blip r:embed="rId6"/>
            <a:stretch/>
          </p:blipFill>
          <p:spPr>
            <a:xfrm>
              <a:off x="1784520" y="4038480"/>
              <a:ext cx="37440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651320" y="4692600"/>
              <a:ext cx="680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08000"/>
                  </a:solidFill>
                  <a:uFillTx/>
                  <a:latin typeface="Tahoma"/>
                  <a:ea typeface="宋体"/>
                  <a:hlinkClick r:id="rId7" action="ppaction://hlinksldjump"/>
                </a:rPr>
                <a:t>Plac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509480" y="5302080"/>
            <a:ext cx="1191240" cy="979560"/>
            <a:chOff x="1509480" y="5302080"/>
            <a:chExt cx="1191240" cy="979560"/>
          </a:xfrm>
        </p:grpSpPr>
        <p:pic>
          <p:nvPicPr>
            <p:cNvPr id="286" name="" descr=""/>
            <p:cNvPicPr/>
            <p:nvPr/>
          </p:nvPicPr>
          <p:blipFill>
            <a:blip r:embed="rId8"/>
            <a:stretch/>
          </p:blipFill>
          <p:spPr>
            <a:xfrm>
              <a:off x="1589040" y="5302080"/>
              <a:ext cx="9144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509480" y="5911920"/>
              <a:ext cx="11912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08000"/>
                  </a:solidFill>
                  <a:uFillTx/>
                  <a:latin typeface="Tahoma"/>
                  <a:ea typeface="宋体"/>
                  <a:hlinkClick r:id="rId9" action="ppaction://hlinksldjump"/>
                </a:rPr>
                <a:t>Promotion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749920" y="4038480"/>
            <a:ext cx="1184400" cy="962280"/>
            <a:chOff x="5749920" y="4038480"/>
            <a:chExt cx="1184400" cy="962280"/>
          </a:xfrm>
        </p:grpSpPr>
        <p:pic>
          <p:nvPicPr>
            <p:cNvPr id="289" name="" descr=""/>
            <p:cNvPicPr/>
            <p:nvPr/>
          </p:nvPicPr>
          <p:blipFill>
            <a:blip r:embed="rId10"/>
            <a:stretch/>
          </p:blipFill>
          <p:spPr>
            <a:xfrm>
              <a:off x="5923080" y="4038480"/>
              <a:ext cx="554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749920" y="4724280"/>
              <a:ext cx="118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00"/>
                  </a:solidFill>
                  <a:uFillTx/>
                  <a:latin typeface="Tahoma"/>
                  <a:ea typeface="宋体"/>
                </a:rPr>
                <a:t>Convenience</a:t>
              </a:r>
              <a:endParaRPr b="0" lang="en-US" sz="1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819520" y="3654360"/>
            <a:ext cx="914400" cy="612720"/>
            <a:chOff x="2819520" y="3654360"/>
            <a:chExt cx="914400" cy="612720"/>
          </a:xfrm>
        </p:grpSpPr>
        <p:sp>
          <p:nvSpPr>
            <p:cNvPr id="292" name=""/>
            <p:cNvSpPr/>
            <p:nvPr/>
          </p:nvSpPr>
          <p:spPr>
            <a:xfrm>
              <a:off x="2971800" y="3962520"/>
              <a:ext cx="609480" cy="304560"/>
            </a:xfrm>
            <a:prstGeom prst="leftArrow">
              <a:avLst>
                <a:gd name="adj1" fmla="val 41667"/>
                <a:gd name="adj2" fmla="val 50030"/>
              </a:avLst>
            </a:prstGeom>
            <a:solidFill>
              <a:srgbClr val="8dba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9520" y="3654360"/>
              <a:ext cx="91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Seller’s viewpoint</a:t>
              </a:r>
              <a:endParaRPr b="0" lang="en-US" sz="1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495680" y="3657600"/>
            <a:ext cx="914400" cy="609480"/>
            <a:chOff x="4495680" y="3657600"/>
            <a:chExt cx="914400" cy="609480"/>
          </a:xfrm>
        </p:grpSpPr>
        <p:sp>
          <p:nvSpPr>
            <p:cNvPr id="295" name=""/>
            <p:cNvSpPr/>
            <p:nvPr/>
          </p:nvSpPr>
          <p:spPr>
            <a:xfrm rot="10800000">
              <a:off x="4647960" y="3962520"/>
              <a:ext cx="609480" cy="304560"/>
            </a:xfrm>
            <a:prstGeom prst="leftArrow">
              <a:avLst>
                <a:gd name="adj1" fmla="val 41667"/>
                <a:gd name="adj2" fmla="val 50030"/>
              </a:avLst>
            </a:prstGeom>
            <a:solidFill>
              <a:srgbClr val="8dba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95680" y="3657600"/>
              <a:ext cx="91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Buyer’s viewpoint</a:t>
              </a:r>
              <a:endParaRPr b="0" lang="en-US" sz="1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14800" y="1676520"/>
            <a:ext cx="0" cy="4572000"/>
          </a:xfrm>
          <a:prstGeom prst="line">
            <a:avLst/>
          </a:prstGeom>
          <a:ln w="2844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694480" y="5334120"/>
            <a:ext cx="1392120" cy="916200"/>
            <a:chOff x="5694480" y="5334120"/>
            <a:chExt cx="1392120" cy="916200"/>
          </a:xfrm>
        </p:grpSpPr>
        <p:sp>
          <p:nvSpPr>
            <p:cNvPr id="299" name=""/>
            <p:cNvSpPr/>
            <p:nvPr/>
          </p:nvSpPr>
          <p:spPr>
            <a:xfrm>
              <a:off x="5694480" y="5973840"/>
              <a:ext cx="13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00"/>
                  </a:solidFill>
                  <a:uFillTx/>
                  <a:latin typeface="Arial"/>
                  <a:ea typeface="宋体"/>
                </a:rPr>
                <a:t>Communication </a:t>
              </a:r>
              <a:endParaRPr b="0" lang="en-US" sz="1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11"/>
            <a:stretch/>
          </p:blipFill>
          <p:spPr>
            <a:xfrm>
              <a:off x="5715000" y="5334120"/>
              <a:ext cx="1143000" cy="63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"/>
          <p:cNvGrpSpPr/>
          <p:nvPr/>
        </p:nvGrpSpPr>
        <p:grpSpPr>
          <a:xfrm>
            <a:off x="5791320" y="2971800"/>
            <a:ext cx="838080" cy="947880"/>
            <a:chOff x="5791320" y="2971800"/>
            <a:chExt cx="838080" cy="947880"/>
          </a:xfrm>
        </p:grpSpPr>
        <p:sp>
          <p:nvSpPr>
            <p:cNvPr id="302" name=""/>
            <p:cNvSpPr/>
            <p:nvPr/>
          </p:nvSpPr>
          <p:spPr>
            <a:xfrm>
              <a:off x="5791320" y="34606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3300"/>
                  </a:solidFill>
                  <a:uFillTx/>
                  <a:latin typeface="Tahoma"/>
                  <a:ea typeface="宋体"/>
                </a:rPr>
                <a:t>Customer value</a:t>
              </a:r>
              <a:endParaRPr b="0" lang="en-US" sz="12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12"/>
            <a:stretch/>
          </p:blipFill>
          <p:spPr>
            <a:xfrm>
              <a:off x="5867280" y="2971800"/>
              <a:ext cx="52560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0A9-F9E9-4CAE-9EA4-839821A1A6F5}" type="slidenum">
              <a:t>23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990720" y="1981080"/>
            <a:ext cx="7391160" cy="533520"/>
          </a:xfrm>
          <a:prstGeom prst="roundRect">
            <a:avLst>
              <a:gd name="adj" fmla="val 16667"/>
            </a:avLst>
          </a:prstGeom>
          <a:solidFill>
            <a:srgbClr val="d1b1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3300"/>
                </a:solidFill>
                <a:uFillTx/>
                <a:latin typeface="Tahoma"/>
              </a:rPr>
              <a:t>Analysis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2971800"/>
            <a:ext cx="1752480" cy="266688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666880"/>
              <a:gd name="textAreaBottom" fmla="*/ 2581560 h 2666880"/>
            </a:gdLst>
            <a:ahLst/>
            <a:rect l="textAreaLeft" t="textAreaTop" r="textAreaRight" b="textAreaBottom"/>
            <a:pathLst>
              <a:path w="21600" h="32868">
                <a:moveTo>
                  <a:pt x="3600" y="0"/>
                </a:moveTo>
                <a:arcTo wR="3600" hR="3600" stAng="16200000" swAng="-5400000"/>
                <a:lnTo>
                  <a:pt x="0" y="29268"/>
                </a:lnTo>
                <a:arcTo wR="3600" hR="3600" stAng="10800000" swAng="-5400000"/>
                <a:lnTo>
                  <a:pt x="18000" y="32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eb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53080" y="2971800"/>
            <a:ext cx="1752840" cy="266688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666880"/>
              <a:gd name="textAreaBottom" fmla="*/ 2581560 h 2666880"/>
            </a:gdLst>
            <a:ahLst/>
            <a:rect l="textAreaLeft" t="textAreaTop" r="textAreaRight" b="textAreaBottom"/>
            <a:pathLst>
              <a:path w="21600" h="32861">
                <a:moveTo>
                  <a:pt x="3600" y="0"/>
                </a:moveTo>
                <a:arcTo wR="3600" hR="3600" stAng="16200000" swAng="-5400000"/>
                <a:lnTo>
                  <a:pt x="0" y="29261"/>
                </a:lnTo>
                <a:arcTo wR="3600" hR="3600" stAng="10800000" swAng="-5400000"/>
                <a:lnTo>
                  <a:pt x="18000" y="32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Managing the Market Effor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971800"/>
            <a:ext cx="1752480" cy="266688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666880"/>
              <a:gd name="textAreaBottom" fmla="*/ 2581560 h 2666880"/>
            </a:gdLst>
            <a:ahLst/>
            <a:rect l="textAreaLeft" t="textAreaTop" r="textAreaRight" b="textAreaBottom"/>
            <a:pathLst>
              <a:path w="21600" h="32868">
                <a:moveTo>
                  <a:pt x="3600" y="0"/>
                </a:moveTo>
                <a:arcTo wR="3600" hR="3600" stAng="16200000" swAng="-5400000"/>
                <a:lnTo>
                  <a:pt x="0" y="29268"/>
                </a:lnTo>
                <a:arcTo wR="3600" hR="3600" stAng="10800000" swAng="-5400000"/>
                <a:lnTo>
                  <a:pt x="18000" y="32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edad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74320" y="3121200"/>
            <a:ext cx="1183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3300"/>
                </a:solidFill>
                <a:uFillTx/>
                <a:latin typeface="Tahoma"/>
              </a:rPr>
              <a:t>Planning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38960" y="3121200"/>
            <a:ext cx="20124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3300"/>
                </a:solidFill>
                <a:uFillTx/>
                <a:latin typeface="Tahoma"/>
              </a:rPr>
              <a:t>Implementation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0" y="3108240"/>
            <a:ext cx="1143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3300"/>
                </a:solidFill>
                <a:uFillTx/>
                <a:latin typeface="Tahoma"/>
              </a:rPr>
              <a:t>Control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36100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Develop strategic pla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3610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Carry out the  pla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3080" y="3610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Measure result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498168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Develop marketing plan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49816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Take corrective action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4311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Evaluate result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4191120"/>
            <a:ext cx="0" cy="76176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251460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5334120"/>
            <a:ext cx="4572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200400" y="3352680"/>
            <a:ext cx="0" cy="198144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0400" y="3352680"/>
            <a:ext cx="685800" cy="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3352680"/>
            <a:ext cx="914400" cy="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91520" y="388620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91520" y="457200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5638680"/>
            <a:ext cx="0" cy="30492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5638680"/>
            <a:ext cx="0" cy="30492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5943600"/>
            <a:ext cx="297180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251460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91520" y="251460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4280" y="5943600"/>
            <a:ext cx="266724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17E-AB6F-4C50-9671-484C4D4D60A7}" type="slidenum">
              <a:t>24</a:t>
            </a:fld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Questions &amp; Answ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9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D1B-38E5-408B-8406-ED1BA23E882E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teps in Strategic Plann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57200" y="2222640"/>
            <a:ext cx="1447560" cy="3044880"/>
            <a:chOff x="457200" y="2222640"/>
            <a:chExt cx="1447560" cy="3044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57200" y="2222640"/>
              <a:ext cx="1338480" cy="13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77800" y="3648960"/>
              <a:ext cx="13269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Defining the company mission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438280" y="2209680"/>
            <a:ext cx="1729080" cy="2752920"/>
            <a:chOff x="2438280" y="2209680"/>
            <a:chExt cx="1729080" cy="2752920"/>
          </a:xfrm>
        </p:grpSpPr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2438280" y="2209680"/>
              <a:ext cx="1729080" cy="146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458440" y="3648960"/>
              <a:ext cx="1708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Setting company objectives and goals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876920" y="2274840"/>
            <a:ext cx="1589040" cy="2688480"/>
            <a:chOff x="4876920" y="2274840"/>
            <a:chExt cx="1589040" cy="2688480"/>
          </a:xfrm>
        </p:grpSpPr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4876920" y="2274840"/>
              <a:ext cx="138780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876920" y="3649680"/>
              <a:ext cx="1589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Designing the business portfolio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048440" y="2217600"/>
            <a:ext cx="2171880" cy="2742120"/>
            <a:chOff x="7048440" y="2217600"/>
            <a:chExt cx="2171880" cy="2742120"/>
          </a:xfrm>
        </p:grpSpPr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7048440" y="2217600"/>
              <a:ext cx="144792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048440" y="3646080"/>
              <a:ext cx="2171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Planning </a:t>
              </a:r>
              <a:r>
                <a:rPr b="0" i="1" lang="en-US" sz="2000" spc="-1" strike="noStrike" u="sng">
                  <a:solidFill>
                    <a:srgbClr val="990099"/>
                  </a:solidFill>
                  <a:uFillTx/>
                  <a:latin typeface="Tahoma"/>
                  <a:ea typeface="宋体"/>
                </a:rPr>
                <a:t>marketing</a:t>
              </a:r>
              <a:r>
                <a:rPr b="0" lang="en-US" sz="20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 and other functional strategies</a:t>
              </a:r>
              <a:endParaRPr b="0" lang="en-US" sz="20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6705720" y="1752480"/>
            <a:ext cx="0" cy="4648320"/>
          </a:xfrm>
          <a:prstGeom prst="line">
            <a:avLst/>
          </a:prstGeom>
          <a:ln w="4428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66440" y="554688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0099"/>
                </a:solidFill>
                <a:uFillTx/>
                <a:latin typeface="Tahoma"/>
                <a:ea typeface="宋体"/>
              </a:rPr>
              <a:t>Corporat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5241960"/>
            <a:ext cx="218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90099"/>
                </a:solidFill>
                <a:uFillTx/>
                <a:latin typeface="Tahoma"/>
                <a:ea typeface="宋体"/>
              </a:rPr>
              <a:t>Business unit, product, and market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516-CB72-422A-8ADB-4F8FFE766A10}" type="slidenum">
              <a:t>3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efining a Market-Oriented Miss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840040"/>
            <a:ext cx="7772400" cy="28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A statement of the organization’s purpose-what it wants to accomplish in its existence in the larger environment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What are we and what do we want to be?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lvl="1" marL="973080" indent="-40140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Should be market-oriented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03200" y="167652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717-DF32-44D3-8AB6-49EF294AF0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-Oriented vs. </a:t>
            </a:r>
            <a:r>
              <a:rPr b="0" i="1" lang="en-US" sz="3600" spc="-1" strike="noStrike" u="sng">
                <a:solidFill>
                  <a:srgbClr val="808000"/>
                </a:solidFill>
                <a:uFillTx/>
                <a:latin typeface="Comic Sans MS"/>
                <a:ea typeface="宋体"/>
                <a:hlinkClick r:id="rId1"/>
              </a:rPr>
              <a:t>Product-Oriented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77724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he focus of market-oriented mission is on satisfying customers’ needs and want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95280" y="3048120"/>
          <a:ext cx="7162920" cy="2805120"/>
        </p:xfrm>
        <a:graphic>
          <a:graphicData uri="http://schemas.openxmlformats.org/drawingml/2006/table">
            <a:tbl>
              <a:tblPr/>
              <a:tblGrid>
                <a:gridCol w="990720"/>
                <a:gridCol w="3048120"/>
                <a:gridCol w="312408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d6a3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duct-oriente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9edc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rket-oriented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ca99d7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cott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d6a3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indent="55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We sell grass seeds and  fertilizer.”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9edc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indent="55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We offer you a green, healthy yard.”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ca99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America Online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d6a3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indent="55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We provide online services.”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9edc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indent="55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We create customer connectivity, anytime, anywhere.”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ca99d7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isney 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d6a3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indent="55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We run theme parks.”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9edc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indent="55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We offer you a dreamy, fantastic experience.”</a:t>
                      </a:r>
                      <a:endParaRPr b="0" lang="en-US" sz="16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1f7e9"/>
                      </a:solidFill>
                    </a:lnL>
                    <a:lnR w="5760">
                      <a:solidFill>
                        <a:srgbClr val="f1f7e9"/>
                      </a:solidFill>
                    </a:lnR>
                    <a:lnT w="5760">
                      <a:solidFill>
                        <a:srgbClr val="f1f7e9"/>
                      </a:solidFill>
                    </a:lnT>
                    <a:lnB w="5760">
                      <a:solidFill>
                        <a:srgbClr val="f1f7e9"/>
                      </a:solidFill>
                    </a:lnB>
                    <a:solidFill>
                      <a:srgbClr val="ca99d7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468-F705-41C1-BF7A-8F98B6D2A2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issions should be …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2286000"/>
            <a:ext cx="61722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Realistic &amp; specific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Fit the environmen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Based on distinctive competencie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Motivating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1C5-5D05-4949-BC14-0485DBF6DE81}" type="slidenum">
              <a:t>6</a:t>
            </a:fld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Setting Company Objectives &amp; Goal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A company’s mission needs to be turned into detailed supporting objectives for each level of management as their management responsibilities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1711440"/>
            <a:ext cx="1447920" cy="12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F74-C7D9-4144-BDBC-55DB3517C5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Objectives for Different Level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Senior level (corporate level): sales revenue growth, net-income growth, stock price growth, return on investment etc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Middle level (functional level): marketing, production and operation, finance, human resources etc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First-line level: short-term and detailed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8FC-1DEE-4EC1-9CF5-F029109111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esigning Business Portfolio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Business portfolio: the collection of businesses and products that make up the company.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Business portfolio planning: 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09480" y="1609560"/>
            <a:ext cx="1219320" cy="1121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43000" y="4876920"/>
            <a:ext cx="2577960" cy="914400"/>
          </a:xfrm>
          <a:prstGeom prst="roundRect">
            <a:avLst>
              <a:gd name="adj" fmla="val 16667"/>
            </a:avLst>
          </a:prstGeom>
          <a:solidFill>
            <a:srgbClr val="b7db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urrent portfolio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analysi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4876920"/>
            <a:ext cx="2819160" cy="914400"/>
          </a:xfrm>
          <a:prstGeom prst="roundRect">
            <a:avLst>
              <a:gd name="adj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Strategies development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for growth/downsizing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3762000">
            <a:off x="2534400" y="4078800"/>
            <a:ext cx="168120" cy="1122480"/>
          </a:xfrm>
          <a:prstGeom prst="downArrow">
            <a:avLst>
              <a:gd name="adj1" fmla="val 50000"/>
              <a:gd name="adj2" fmla="val 166916"/>
            </a:avLst>
          </a:prstGeom>
          <a:solidFill>
            <a:srgbClr val="b7db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7860800">
            <a:off x="4896720" y="4078800"/>
            <a:ext cx="168120" cy="1122120"/>
          </a:xfrm>
          <a:prstGeom prst="downArrow">
            <a:avLst>
              <a:gd name="adj1" fmla="val 50000"/>
              <a:gd name="adj2" fmla="val 166863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DD5-B487-418F-8822-1A09A3EFC196}" type="slidenum">
              <a:t>9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6:40:59Z</dcterms:created>
  <dc:creator>ABC</dc:creator>
  <dc:description/>
  <dc:language>en-US</dc:language>
  <cp:lastModifiedBy>ABC</cp:lastModifiedBy>
  <dcterms:modified xsi:type="dcterms:W3CDTF">2007-03-05T07:57:56Z</dcterms:modified>
  <cp:revision>199</cp:revision>
  <dc:subject/>
  <dc:title>Principles of Marketing</dc:title>
</cp:coreProperties>
</file>