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13.jpeg" ContentType="image/jpe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4.png" ContentType="image/png"/>
  <Override PartName="/ppt/media/image1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F73B-1F3C-4785-9E52-E99976FB781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103-50BE-490B-BAD8-CE77E69D1089}" type="slidenum">
              <a:rPr b="0" lang="zh-CN" sz="12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bate: why Levi changed online strate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verwhelming opinion claimed due to channel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s claimed Levi was caught in a fulfillment challenge as they failed to develop an infrastructure to support the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F100-F0F0-448A-B076-507BD1A1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3CA-65DA-43A7-90FC-EC3C1B54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BF9-337E-4691-9BDA-25C3032E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009-F2C9-4C4A-BF79-A582B0DB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FF36-4114-47C6-B0CC-CA0FC5F6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CCB8-2B26-4C4E-AD04-1937485E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9A5E-7BEA-41D5-8FA1-1000C96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28F7-A074-4ABE-A995-AB0C08C0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2DD2-7ADD-43E6-8ABB-3BDFB94C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F5B7-12BB-4023-94A1-03F1E0DF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B451-ED78-4FD3-85CC-B4342FB2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31B-D00A-49BD-A4C2-BFCE36A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6DD5-910E-4CAD-A472-20AF0107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2A2F-1311-43F7-98EF-AE84949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B343-547B-4982-81CC-D8E2CAF8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B7E0-66EE-48D7-AFB4-4CEAA6AB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AA6-D5F7-4F0D-827D-CE975CEF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6AE-4229-444A-AEC1-F71F0365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849-D90D-486E-B559-AE2F11F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CAF-36F1-41C1-BDA4-0A06CB57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5E3-918B-4B72-A588-A289BE3B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B61-59E7-4E2B-86D7-93448AB9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D7D-B94B-4782-B0CB-F95EB3B5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9A4-F910-419C-9378-D013DC5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C106-51A5-4A17-9184-177E9B7FA89D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49FA-10EA-4D1E-B8F2-C07F06FC3701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walmart.com/catalog/catalog.gsp?cat=547085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PaK6eDT7fs" TargetMode="External"/><Relationship Id="rId2" Type="http://schemas.openxmlformats.org/officeDocument/2006/relationships/image" Target="../media/image12.jpeg"/><Relationship Id="rId3" Type="http://schemas.openxmlformats.org/officeDocument/2006/relationships/slide" Target="slide4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9.wmf"/><Relationship Id="rId3" Type="http://schemas.openxmlformats.org/officeDocument/2006/relationships/slide" Target="slide24.xml"/><Relationship Id="rId4" Type="http://schemas.openxmlformats.org/officeDocument/2006/relationships/image" Target="../media/image20.wmf"/><Relationship Id="rId5" Type="http://schemas.openxmlformats.org/officeDocument/2006/relationships/slide" Target="slide31.xml"/><Relationship Id="rId6" Type="http://schemas.openxmlformats.org/officeDocument/2006/relationships/image" Target="../media/image21.wmf"/><Relationship Id="rId7" Type="http://schemas.openxmlformats.org/officeDocument/2006/relationships/slide" Target="slide25.xml"/><Relationship Id="rId8" Type="http://schemas.openxmlformats.org/officeDocument/2006/relationships/image" Target="../media/image22.wmf"/><Relationship Id="rId9" Type="http://schemas.openxmlformats.org/officeDocument/2006/relationships/slide" Target="slide26.xml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slide" Target="slide15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blockbuster.com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lQq_1ntXS8" TargetMode="External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2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90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XIV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Integrated Marketing Communication Strategy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ales Promotion: Wal-Mar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609480" y="1557360"/>
          <a:ext cx="800100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57360"/>
                    <a:ext cx="800100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Ford Shelby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086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hat were the promotion activities designed for Ford Shelby? What were the outcome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lease comment on the promotion mix and marketing mix for Ford Shelby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Ford Shelby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0" name="Picture 5" descr="ford-shelby-gt500-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7543800" cy="500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014064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50120" y="611172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ublic Relat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uilding good relations with the company’s various publics by obtaining favorable publicity, building up a good corporate image, and handling  or heading off unfavorable rumors, stories and event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Believable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Extensive reach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ublic Relations: Mengniu Intercit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7" name="Picture 7" descr="061031174826215"/>
          <p:cNvPicPr/>
          <p:nvPr/>
        </p:nvPicPr>
        <p:blipFill>
          <a:blip r:embed="rId1"/>
          <a:stretch/>
        </p:blipFill>
        <p:spPr>
          <a:xfrm>
            <a:off x="457200" y="1538280"/>
            <a:ext cx="8229600" cy="4938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j0140649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50120" y="609588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ersonal Sell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001600"/>
            <a:ext cx="7086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ersonal presentation by the firm’s sales force for the purpose of making sales and building customer relationship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ost effectiv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-339120">
              <a:lnSpc>
                <a:spcPct val="140000"/>
              </a:lnSpc>
              <a:spcBef>
                <a:spcPts val="451"/>
              </a:spcBef>
              <a:buSzPct val="1257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Observe needs/characteristics &amp; make adjustments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-339120">
              <a:lnSpc>
                <a:spcPct val="140000"/>
              </a:lnSpc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All kinds of relationships, even personal friendship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0">
              <a:lnSpc>
                <a:spcPct val="14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stly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2" name="Picture 48" descr="j0140649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irect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irect connections with carefully targeted individual consumers to both obtain an immediate response and cultivate lasting customer relationship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elephone, fax, mail/e-mail, the Internet, etc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Nonpublic – targeted to a specific pers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mmediate and customized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nteractive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6" name="Picture 40" descr="j0140649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motion Mix Strateg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1066680" y="24829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duc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7010280" y="24829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cc99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nsumer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505320" y="248292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a6c1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tailers &amp; Wholesaler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2286000" y="2711520"/>
            <a:ext cx="1219320" cy="0"/>
          </a:xfrm>
          <a:prstGeom prst="line">
            <a:avLst/>
          </a:prstGeom>
          <a:ln w="38160">
            <a:solidFill>
              <a:srgbClr val="e49b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5791320" y="2711520"/>
            <a:ext cx="1218960" cy="0"/>
          </a:xfrm>
          <a:prstGeom prst="line">
            <a:avLst/>
          </a:prstGeom>
          <a:ln w="38160">
            <a:solidFill>
              <a:srgbClr val="e49b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066680" y="42670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duc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7010280" y="42670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cc99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nsumer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3505320" y="4267080"/>
            <a:ext cx="2286000" cy="457200"/>
          </a:xfrm>
          <a:prstGeom prst="roundRect">
            <a:avLst>
              <a:gd name="adj" fmla="val 16667"/>
            </a:avLst>
          </a:prstGeom>
          <a:solidFill>
            <a:srgbClr val="a6c1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tailers &amp; Wholesaler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2286000" y="4495680"/>
            <a:ext cx="1219320" cy="0"/>
          </a:xfrm>
          <a:prstGeom prst="line">
            <a:avLst/>
          </a:prstGeom>
          <a:ln w="38160">
            <a:solidFill>
              <a:srgbClr val="e49b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5791320" y="4495680"/>
            <a:ext cx="1218960" cy="0"/>
          </a:xfrm>
          <a:prstGeom prst="line">
            <a:avLst/>
          </a:prstGeom>
          <a:ln w="38160">
            <a:solidFill>
              <a:srgbClr val="e49b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2362320" y="19810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Producer marketing activitie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5943600" y="198108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Reseller marketing activitie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514600" y="4191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Demand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6019920" y="4191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Demand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2666880" y="496872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Producer marketing activities (consumer advertising, sales promotion, other)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Line 23"/>
          <p:cNvSpPr/>
          <p:nvPr/>
        </p:nvSpPr>
        <p:spPr>
          <a:xfrm>
            <a:off x="1676520" y="4724280"/>
            <a:ext cx="0" cy="76212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Line 24"/>
          <p:cNvSpPr/>
          <p:nvPr/>
        </p:nvSpPr>
        <p:spPr>
          <a:xfrm>
            <a:off x="1676520" y="5486400"/>
            <a:ext cx="5943600" cy="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Line 25"/>
          <p:cNvSpPr/>
          <p:nvPr/>
        </p:nvSpPr>
        <p:spPr>
          <a:xfrm flipV="1">
            <a:off x="7620120" y="4723920"/>
            <a:ext cx="0" cy="76212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3733920" y="3168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Push Strateg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3733920" y="55767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Pull Strateg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hanging Communications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4920" y="2153880"/>
            <a:ext cx="66294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ragmented marke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15800" indent="-415800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dvances in information technology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82" name="Picture 73" descr="j0199338"/>
          <p:cNvPicPr/>
          <p:nvPr/>
        </p:nvPicPr>
        <p:blipFill>
          <a:blip r:embed="rId3"/>
          <a:stretch/>
        </p:blipFill>
        <p:spPr>
          <a:xfrm>
            <a:off x="1285920" y="4191120"/>
            <a:ext cx="1447920" cy="8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6" descr="MCj02997030000[1]"/>
          <p:cNvPicPr/>
          <p:nvPr/>
        </p:nvPicPr>
        <p:blipFill>
          <a:blip r:embed="rId4"/>
          <a:stretch/>
        </p:blipFill>
        <p:spPr>
          <a:xfrm>
            <a:off x="4105440" y="4273560"/>
            <a:ext cx="1218960" cy="831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0" descr="MCj01860680000[1]"/>
          <p:cNvPicPr/>
          <p:nvPr/>
        </p:nvPicPr>
        <p:blipFill>
          <a:blip r:embed="rId5"/>
          <a:stretch/>
        </p:blipFill>
        <p:spPr>
          <a:xfrm>
            <a:off x="6842160" y="4267080"/>
            <a:ext cx="774720" cy="838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1"/>
          <p:cNvSpPr/>
          <p:nvPr/>
        </p:nvSpPr>
        <p:spPr>
          <a:xfrm>
            <a:off x="1158480" y="50734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ass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Text Box 82"/>
          <p:cNvSpPr/>
          <p:nvPr/>
        </p:nvSpPr>
        <p:spPr>
          <a:xfrm>
            <a:off x="3811680" y="50734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Targeted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Text Box 83"/>
          <p:cNvSpPr/>
          <p:nvPr/>
        </p:nvSpPr>
        <p:spPr>
          <a:xfrm>
            <a:off x="6705720" y="505764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One-to-one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AutoShape 84"/>
          <p:cNvSpPr/>
          <p:nvPr/>
        </p:nvSpPr>
        <p:spPr>
          <a:xfrm>
            <a:off x="3191040" y="4495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AutoShape 85"/>
          <p:cNvSpPr/>
          <p:nvPr/>
        </p:nvSpPr>
        <p:spPr>
          <a:xfrm>
            <a:off x="5934240" y="4495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ntegrated Marketing Communicat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1625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MC: the concept under which a company carefully integrates and coordinates its many communications channels to deliver a clear, consistent, and compelling message about the organization and its product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UP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2077560"/>
            <a:ext cx="655308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Integrated Marketing Communication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2514600" y="27432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Advertis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733920" y="548640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Direc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5715000" y="42670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ublic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latio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952880" y="274320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a6c1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ersona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ell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AutoShape 154"/>
          <p:cNvSpPr/>
          <p:nvPr/>
        </p:nvSpPr>
        <p:spPr>
          <a:xfrm>
            <a:off x="1752480" y="4267080"/>
            <a:ext cx="152424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ale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mo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AutoShape 155"/>
          <p:cNvSpPr/>
          <p:nvPr/>
        </p:nvSpPr>
        <p:spPr>
          <a:xfrm>
            <a:off x="4114800" y="274320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ff99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AutoShape 156"/>
          <p:cNvSpPr/>
          <p:nvPr/>
        </p:nvSpPr>
        <p:spPr>
          <a:xfrm rot="3280200">
            <a:off x="5714640" y="365724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ff99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AutoShape 157"/>
          <p:cNvSpPr/>
          <p:nvPr/>
        </p:nvSpPr>
        <p:spPr>
          <a:xfrm rot="18171600">
            <a:off x="2514600" y="365724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ff99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AutoShape 158"/>
          <p:cNvSpPr/>
          <p:nvPr/>
        </p:nvSpPr>
        <p:spPr>
          <a:xfrm rot="12772200">
            <a:off x="2742480" y="5105160"/>
            <a:ext cx="762120" cy="304560"/>
          </a:xfrm>
          <a:prstGeom prst="leftRightArrow">
            <a:avLst>
              <a:gd name="adj1" fmla="val 50000"/>
              <a:gd name="adj2" fmla="val 49816"/>
            </a:avLst>
          </a:prstGeom>
          <a:solidFill>
            <a:srgbClr val="ff99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AutoShape 159"/>
          <p:cNvSpPr/>
          <p:nvPr/>
        </p:nvSpPr>
        <p:spPr>
          <a:xfrm rot="8735400">
            <a:off x="5562360" y="5180760"/>
            <a:ext cx="761760" cy="304920"/>
          </a:xfrm>
          <a:prstGeom prst="leftRightArrow">
            <a:avLst>
              <a:gd name="adj1" fmla="val 50000"/>
              <a:gd name="adj2" fmla="val 49733"/>
            </a:avLst>
          </a:prstGeom>
          <a:solidFill>
            <a:srgbClr val="ff99ff">
              <a:alpha val="5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Text Box 160"/>
          <p:cNvSpPr/>
          <p:nvPr/>
        </p:nvSpPr>
        <p:spPr>
          <a:xfrm>
            <a:off x="2203560" y="1905120"/>
            <a:ext cx="46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arefully blended mix of promotion too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Text Box 161"/>
          <p:cNvSpPr/>
          <p:nvPr/>
        </p:nvSpPr>
        <p:spPr>
          <a:xfrm>
            <a:off x="3581280" y="388296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nsistent, clear, and compelling company &amp; product messag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McDonald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What caused McDonald to change its strategy in 2002?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What were the techniques adopted by McDonald to promote its new image? How did the promotion agree with its new strategy?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Please comment on McDonald’s promotion mix. 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3657600" y="2514600"/>
            <a:ext cx="18288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mmunication Proces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762120" y="266688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end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7162920" y="266688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ceiv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AutoShape 7"/>
          <p:cNvSpPr/>
          <p:nvPr/>
        </p:nvSpPr>
        <p:spPr>
          <a:xfrm>
            <a:off x="5715000" y="26668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Decod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3962520" y="266688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339966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essag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AutoShape 9"/>
          <p:cNvSpPr/>
          <p:nvPr/>
        </p:nvSpPr>
        <p:spPr>
          <a:xfrm>
            <a:off x="2209680" y="26668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a6c1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ncod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38160">
            <a:solidFill>
              <a:srgbClr val="e49b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5486400" y="2895480"/>
            <a:ext cx="228600" cy="0"/>
          </a:xfrm>
          <a:prstGeom prst="line">
            <a:avLst/>
          </a:prstGeom>
          <a:ln w="38160">
            <a:solidFill>
              <a:srgbClr val="e49b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429000" y="2895480"/>
            <a:ext cx="228600" cy="0"/>
          </a:xfrm>
          <a:prstGeom prst="line">
            <a:avLst/>
          </a:prstGeom>
          <a:ln w="38160">
            <a:solidFill>
              <a:srgbClr val="e49b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1981080" y="2895480"/>
            <a:ext cx="228600" cy="0"/>
          </a:xfrm>
          <a:prstGeom prst="line">
            <a:avLst/>
          </a:prstGeom>
          <a:ln w="38160">
            <a:solidFill>
              <a:srgbClr val="e49b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162320" y="32004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edi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3" name="AutoShape 17"/>
          <p:cNvSpPr/>
          <p:nvPr/>
        </p:nvSpPr>
        <p:spPr>
          <a:xfrm>
            <a:off x="5715000" y="49528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c4d6b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spon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4" name="AutoShape 18"/>
          <p:cNvSpPr/>
          <p:nvPr/>
        </p:nvSpPr>
        <p:spPr>
          <a:xfrm>
            <a:off x="2209680" y="49528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Feedbac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5" name="AutoShape 19"/>
          <p:cNvSpPr/>
          <p:nvPr/>
        </p:nvSpPr>
        <p:spPr>
          <a:xfrm>
            <a:off x="3962520" y="411480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Noi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7772400" y="3124080"/>
            <a:ext cx="0" cy="205740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6934320" y="5181480"/>
            <a:ext cx="83808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Line 23"/>
          <p:cNvSpPr/>
          <p:nvPr/>
        </p:nvSpPr>
        <p:spPr>
          <a:xfrm flipH="1">
            <a:off x="3429000" y="5181480"/>
            <a:ext cx="228600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9" name="Line 24"/>
          <p:cNvSpPr/>
          <p:nvPr/>
        </p:nvSpPr>
        <p:spPr>
          <a:xfrm flipH="1">
            <a:off x="1371600" y="5181480"/>
            <a:ext cx="838080" cy="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0" name="Line 25"/>
          <p:cNvSpPr/>
          <p:nvPr/>
        </p:nvSpPr>
        <p:spPr>
          <a:xfrm flipV="1">
            <a:off x="1371600" y="3123720"/>
            <a:ext cx="0" cy="2057400"/>
          </a:xfrm>
          <a:prstGeom prst="line">
            <a:avLst/>
          </a:prstGeom>
          <a:ln w="3816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181480" y="4343400"/>
            <a:ext cx="45720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Line 27"/>
          <p:cNvSpPr/>
          <p:nvPr/>
        </p:nvSpPr>
        <p:spPr>
          <a:xfrm flipV="1">
            <a:off x="4572000" y="3657600"/>
            <a:ext cx="0" cy="45720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4572000" y="4572000"/>
            <a:ext cx="0" cy="45720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H="1">
            <a:off x="3505320" y="4343400"/>
            <a:ext cx="457200" cy="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04920" y="2057400"/>
            <a:ext cx="5029200" cy="3657600"/>
          </a:xfrm>
          <a:prstGeom prst="octagon">
            <a:avLst>
              <a:gd name="adj" fmla="val 2928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AutoShape 34"/>
          <p:cNvSpPr/>
          <p:nvPr/>
        </p:nvSpPr>
        <p:spPr>
          <a:xfrm>
            <a:off x="3809880" y="2057400"/>
            <a:ext cx="5029200" cy="3657600"/>
          </a:xfrm>
          <a:prstGeom prst="octagon">
            <a:avLst>
              <a:gd name="adj" fmla="val 29287"/>
            </a:avLst>
          </a:prstGeom>
          <a:noFill/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7" name="Text Box 35"/>
          <p:cNvSpPr/>
          <p:nvPr/>
        </p:nvSpPr>
        <p:spPr>
          <a:xfrm>
            <a:off x="1391400" y="5846760"/>
            <a:ext cx="27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ender’s field of experie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8" name="Text Box 36"/>
          <p:cNvSpPr/>
          <p:nvPr/>
        </p:nvSpPr>
        <p:spPr>
          <a:xfrm>
            <a:off x="4897800" y="5867280"/>
            <a:ext cx="293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ceiver’s field of experie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veloping Effective Communica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744480" y="3886200"/>
            <a:ext cx="76212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248520" y="3940200"/>
            <a:ext cx="0" cy="1227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6248520" y="5181480"/>
            <a:ext cx="1778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429240" y="4876920"/>
            <a:ext cx="114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elect message sour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33520" y="5133960"/>
            <a:ext cx="127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Identify target audie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1506600" y="3933000"/>
            <a:ext cx="0" cy="14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1277280" y="54100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 flipV="1">
            <a:off x="5105520" y="2590560"/>
            <a:ext cx="0" cy="1266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5105520" y="259092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334120" y="22384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hoose media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5105520" y="3886200"/>
            <a:ext cx="1143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3" name="Picture 22" descr="j034000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92680" y="2978280"/>
            <a:ext cx="541440" cy="650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3" descr="j032609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314360" y="4010040"/>
            <a:ext cx="463680" cy="668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4" descr="j034000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943600" y="4038480"/>
            <a:ext cx="555480" cy="658800"/>
          </a:xfrm>
          <a:prstGeom prst="rect">
            <a:avLst/>
          </a:prstGeom>
          <a:ln w="0">
            <a:noFill/>
          </a:ln>
        </p:spPr>
      </p:pic>
      <p:sp>
        <p:nvSpPr>
          <p:cNvPr id="256" name="Line 25"/>
          <p:cNvSpPr/>
          <p:nvPr/>
        </p:nvSpPr>
        <p:spPr>
          <a:xfrm>
            <a:off x="1447920" y="3886200"/>
            <a:ext cx="12952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7" name="Line 26"/>
          <p:cNvSpPr/>
          <p:nvPr/>
        </p:nvSpPr>
        <p:spPr>
          <a:xfrm flipV="1">
            <a:off x="2711520" y="2209680"/>
            <a:ext cx="22320" cy="1648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8" name="Line 27"/>
          <p:cNvSpPr/>
          <p:nvPr/>
        </p:nvSpPr>
        <p:spPr>
          <a:xfrm>
            <a:off x="2505240" y="22096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1219320" y="16765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Determine communication objectiv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0" name="Picture 29" descr="j032609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451240" y="2962440"/>
            <a:ext cx="596880" cy="666720"/>
          </a:xfrm>
          <a:prstGeom prst="rect">
            <a:avLst/>
          </a:prstGeom>
          <a:ln w="0">
            <a:noFill/>
          </a:ln>
        </p:spPr>
      </p:pic>
      <p:sp>
        <p:nvSpPr>
          <p:cNvPr id="261" name="Line 30"/>
          <p:cNvSpPr/>
          <p:nvPr/>
        </p:nvSpPr>
        <p:spPr>
          <a:xfrm>
            <a:off x="2743200" y="3886200"/>
            <a:ext cx="121932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4191120" y="5562720"/>
            <a:ext cx="9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Design messag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Line 32"/>
          <p:cNvSpPr/>
          <p:nvPr/>
        </p:nvSpPr>
        <p:spPr>
          <a:xfrm>
            <a:off x="3954600" y="3961800"/>
            <a:ext cx="0" cy="1904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3961800" y="58672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5" name="Picture 34" descr="j0326094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726000" y="3976560"/>
            <a:ext cx="506160" cy="671760"/>
          </a:xfrm>
          <a:prstGeom prst="rect">
            <a:avLst/>
          </a:prstGeom>
          <a:ln w="0">
            <a:noFill/>
          </a:ln>
        </p:spPr>
      </p:pic>
      <p:sp>
        <p:nvSpPr>
          <p:cNvPr id="266" name="Line 35"/>
          <p:cNvSpPr/>
          <p:nvPr/>
        </p:nvSpPr>
        <p:spPr>
          <a:xfrm>
            <a:off x="7391520" y="3886200"/>
            <a:ext cx="121896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7" name="Text Box 37"/>
          <p:cNvSpPr/>
          <p:nvPr/>
        </p:nvSpPr>
        <p:spPr>
          <a:xfrm>
            <a:off x="7620120" y="17049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llect feedbac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Line 40"/>
          <p:cNvSpPr/>
          <p:nvPr/>
        </p:nvSpPr>
        <p:spPr>
          <a:xfrm>
            <a:off x="6248520" y="3886200"/>
            <a:ext cx="11556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9" name="Line 41"/>
          <p:cNvSpPr/>
          <p:nvPr/>
        </p:nvSpPr>
        <p:spPr>
          <a:xfrm flipH="1" flipV="1">
            <a:off x="7403760" y="1904760"/>
            <a:ext cx="19080" cy="198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0" name="Line 42"/>
          <p:cNvSpPr/>
          <p:nvPr/>
        </p:nvSpPr>
        <p:spPr>
          <a:xfrm>
            <a:off x="7413480" y="1905120"/>
            <a:ext cx="219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1" name="Picture 43" descr="j0340004"/>
          <p:cNvPicPr/>
          <p:nvPr/>
        </p:nvPicPr>
        <p:blipFill>
          <a:blip r:embed="rId11"/>
          <a:stretch/>
        </p:blipFill>
        <p:spPr>
          <a:xfrm>
            <a:off x="7175520" y="2971800"/>
            <a:ext cx="520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dentify the Target Audienc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6781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lear target audienc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Heavily affect decisions on what, how, when and where it will be said and who will say it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75" name="Picture 4" descr="j0140649"/>
          <p:cNvPicPr/>
          <p:nvPr/>
        </p:nvPicPr>
        <p:blipFill>
          <a:blip r:embed="rId3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Determine the Communication Objective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3244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at responses to be sough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uyer-readiness stag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he stages consumers normally pass through on their way to purchase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9" name="AutoShape 47"/>
          <p:cNvSpPr/>
          <p:nvPr/>
        </p:nvSpPr>
        <p:spPr>
          <a:xfrm>
            <a:off x="2133720" y="426708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Awarene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AutoShape 48"/>
          <p:cNvSpPr/>
          <p:nvPr/>
        </p:nvSpPr>
        <p:spPr>
          <a:xfrm>
            <a:off x="5791320" y="533412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efere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AutoShape 49"/>
          <p:cNvSpPr/>
          <p:nvPr/>
        </p:nvSpPr>
        <p:spPr>
          <a:xfrm>
            <a:off x="3962520" y="533412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nvi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AutoShape 50"/>
          <p:cNvSpPr/>
          <p:nvPr/>
        </p:nvSpPr>
        <p:spPr>
          <a:xfrm>
            <a:off x="5791320" y="426708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339966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ik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AutoShape 51"/>
          <p:cNvSpPr/>
          <p:nvPr/>
        </p:nvSpPr>
        <p:spPr>
          <a:xfrm>
            <a:off x="3962520" y="426708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a6c1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Knowledg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Line 52"/>
          <p:cNvSpPr/>
          <p:nvPr/>
        </p:nvSpPr>
        <p:spPr>
          <a:xfrm flipH="1">
            <a:off x="5181480" y="5562720"/>
            <a:ext cx="609840" cy="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Line 53"/>
          <p:cNvSpPr/>
          <p:nvPr/>
        </p:nvSpPr>
        <p:spPr>
          <a:xfrm>
            <a:off x="7010280" y="4495680"/>
            <a:ext cx="228600" cy="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Line 54"/>
          <p:cNvSpPr/>
          <p:nvPr/>
        </p:nvSpPr>
        <p:spPr>
          <a:xfrm>
            <a:off x="5181480" y="4495680"/>
            <a:ext cx="609840" cy="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7" name="Line 55"/>
          <p:cNvSpPr/>
          <p:nvPr/>
        </p:nvSpPr>
        <p:spPr>
          <a:xfrm>
            <a:off x="3352680" y="4495680"/>
            <a:ext cx="609840" cy="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AutoShape 56"/>
          <p:cNvSpPr/>
          <p:nvPr/>
        </p:nvSpPr>
        <p:spPr>
          <a:xfrm>
            <a:off x="2133720" y="533412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urcha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H="1">
            <a:off x="3352680" y="5562720"/>
            <a:ext cx="609840" cy="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H="1">
            <a:off x="7009920" y="5562720"/>
            <a:ext cx="228600" cy="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Line 60"/>
          <p:cNvSpPr/>
          <p:nvPr/>
        </p:nvSpPr>
        <p:spPr>
          <a:xfrm>
            <a:off x="7238880" y="4495680"/>
            <a:ext cx="0" cy="1067040"/>
          </a:xfrm>
          <a:prstGeom prst="line">
            <a:avLst/>
          </a:prstGeom>
          <a:ln w="381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2" name="Picture 61" descr="j0140649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5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500"/>
                            </p:stCondLst>
                            <p:childTnLst>
                              <p:par>
                                <p:cTn id="4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500"/>
                            </p:stCondLst>
                            <p:childTnLst>
                              <p:par>
                                <p:cTn id="4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sign a Messag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77920"/>
            <a:ext cx="640080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6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essage content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6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Rational appe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6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Emotional appe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6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Moral appeal (social causes support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sign a Message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2230200"/>
            <a:ext cx="6934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essage structure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393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39312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-3448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Whether to draw a conclus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-3448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Whether to present a one-sided argument or a two-sided argument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-294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“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Listerine tastes bad twice a day.”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-34488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Whether to present the strongest argument first or last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sign a Message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8960" y="2362320"/>
            <a:ext cx="6629400" cy="27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essage format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rint: headline, copy, illustration, and color, etc.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Video: facial expressions, gestures, dress, posture, hairstyle, etc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02" name="Picture 4" descr="j0140649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hoose Media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2640" y="205704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ersonal communication channel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hannels through which two or more people communicate directly with each other, including face to face, person to audience, over the telephone, or through the mail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-3391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ntrolled by company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-33912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Uncontrolled by company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3" marL="1868400" indent="-339120">
              <a:spcBef>
                <a:spcPts val="451"/>
              </a:spcBef>
              <a:buClr>
                <a:srgbClr val="8dba76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Word-of-mouth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3" marL="1868400" indent="-339120">
              <a:lnSpc>
                <a:spcPct val="120000"/>
              </a:lnSpc>
              <a:spcBef>
                <a:spcPts val="451"/>
              </a:spcBef>
              <a:buClr>
                <a:srgbClr val="8dba76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Independent experts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ere to Communicate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25146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 company communicates with its stakeholders via every contact points to the public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hoose Media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onpersonal communication channel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edia that carry messages without personal contact or feedback, including major media, atmospheres, and events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spcBef>
                <a:spcPts val="451"/>
              </a:spcBef>
              <a:buSzPct val="1257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Print media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Broadcast media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spcBef>
                <a:spcPts val="451"/>
              </a:spcBef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Display media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spcBef>
                <a:spcPts val="451"/>
              </a:spcBef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Online media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09" name="Picture 9" descr="j0140649"/>
          <p:cNvPicPr/>
          <p:nvPr/>
        </p:nvPicPr>
        <p:blipFill>
          <a:blip r:embed="rId7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1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elect Message Sourc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720" y="2230200"/>
            <a:ext cx="723888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How the audience views the communicator affects the impact on them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rofessional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elebrities (Hertz &amp; O.J. Simpson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13" name="Picture 10" descr="j0140649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llect Feedback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2382840"/>
            <a:ext cx="647712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Research effect on target audienc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7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ttitude chang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7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ehavior chang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17" name="Picture 11" descr="j0140649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et Total Promotion Budge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579096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ffordable metho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ercentage-of-sales metho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ompetitive-parity metho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Objective-and-task metho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3" name="Picture 3" descr="pe03490_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Marketing Communications Mix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lso called Promotion Mix, refers to the specific mix of 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advertising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3" action="ppaction://hlinksldjump"/>
              </a:rPr>
              <a:t>personal selling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sales promotion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, 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5" action="ppaction://hlinksldjump"/>
              </a:rPr>
              <a:t>public relations,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nd </a:t>
            </a: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direct marketing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 company uses to achieve its advertising and marketing objectiv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dvertising 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01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dvertising: any paid form of non-personal presentation and promotion of ideas, goods or services by an identified sponsor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Reaches masses of geographically dispersed buyer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Expressive -- visuals, print, sound and colo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Build up a long-term image or trigger quick sal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mpersonal, not directly persuasiv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Blockbuster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219320" y="1600200"/>
          <a:ext cx="6629400" cy="495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00200"/>
                    <a:ext cx="66294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Heineken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670572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hat techniques have been used by Heineken to build and promote its image? What is the desired image of Heineken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lease comment on Heineken’s promotion mix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Heineke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Picture 5" descr="Heineken%20DraughtKeg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523880"/>
            <a:ext cx="5257800" cy="502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j0140649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5"/>
          <p:cNvSpPr/>
          <p:nvPr/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ales Promo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hort-term incentives to encourage the purchase or sale of a product or servic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upons, contests, cents-off deals, premiums, and other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ramatize offers and boost sal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Short-lived, not very effectiv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9:28:48Z</dcterms:created>
  <dc:creator>ABC</dc:creator>
  <dc:description/>
  <dc:language>en-US</dc:language>
  <cp:lastModifiedBy>微软用户</cp:lastModifiedBy>
  <dcterms:modified xsi:type="dcterms:W3CDTF">2014-11-09T01:59:41Z</dcterms:modified>
  <cp:revision>429</cp:revision>
  <dc:subject/>
  <dc:title>幻灯片 1</dc:title>
</cp:coreProperties>
</file>