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8.wmf" ContentType="image/x-wmf"/>
  <Override PartName="/ppt/media/image9.wmf" ContentType="image/x-wmf"/>
  <Override PartName="/ppt/media/image12.png" ContentType="image/png"/>
  <Override PartName="/ppt/media/image18.wmf" ContentType="image/x-wmf"/>
  <Override PartName="/ppt/media/image15.gif" ContentType="image/gif"/>
  <Override PartName="/ppt/media/image1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5E3-D2BB-49CE-8B95-9A65F025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E3F6-031F-4C75-B57C-CAFF1A6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F4B-65CE-4F01-A76F-72B07625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280-EAD9-44FD-8B9F-18824D54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B0F1-9A69-4CF9-8C81-D0E67313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862C-A8EA-4E2F-B76F-9D157E12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1FD-C554-42C0-A0CD-009DB8A8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4E04-0442-451E-9F0F-B6C2FBC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0CCB-FE74-457F-B6F6-82BB690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F389-719F-4D78-9753-FC0412FF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5055-5BBD-41FF-BF05-F4C9897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567-2446-4DC4-A3A4-AF7AAC41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B9A8-87C6-492E-A510-AA732B9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B17-75EB-4FBD-9812-2F631BF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F7F-612B-472E-AC47-E905D8E5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540C-0DCB-4903-ABAA-CFE046FA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297B-3DE4-4822-AB13-4C7B692A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C8D-BE1D-4096-B707-766BF636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5ED-184E-46F1-89EB-2C045C3A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7D6-689F-4B74-AC62-C023B5D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56A-F8A1-4DD5-9F3D-0970541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9568-195D-4DB0-BD51-92215F6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83B-525E-4CE9-AB82-57AAB133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5F7-81E2-40EE-9CA4-2443B02F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31D5-14E6-467D-84EE-5F4745B12C7A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2FC7-3DE0-4C01-98C6-21336483D580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1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1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IV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The Marketing Environmen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orter’s 5 Competitive Forc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905120"/>
            <a:ext cx="1600200" cy="761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New entrant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6576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8bae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upplier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541008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ubstitute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6576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Buyers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65760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Industry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Competito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53880" y="3760920"/>
            <a:ext cx="17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Bargaining Power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of Supplier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9440" y="3749760"/>
            <a:ext cx="17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Bargaining Power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of Buyer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80600" y="4724280"/>
            <a:ext cx="11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Threat of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Substitute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2240" y="291132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Threat of 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ahoma"/>
              </a:rPr>
              <a:t>New Entrants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038480"/>
            <a:ext cx="16761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409720" y="4038480"/>
            <a:ext cx="16765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2666880"/>
            <a:ext cx="0" cy="990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4419360"/>
            <a:ext cx="0" cy="99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cro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larger societal forces that affect the microenvironment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Demographic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conomic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Natur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Technologic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olitic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ultur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mographic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size, density, location, age, gender, race, occupation of human population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371600" y="4267080"/>
            <a:ext cx="1676520" cy="1306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962520" y="4267080"/>
            <a:ext cx="175248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conomic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actors that affect consumer buying power and spending pattern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GDP growth rate, unemployment rate, inflation rate and interest rate, income growth rat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ich richer, poor even poore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se in point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: Bleuenn Carré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Business life cycl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Prosperity </a:t>
            </a:r>
            <a:r>
              <a:rPr b="0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Recession </a:t>
            </a:r>
            <a:r>
              <a:rPr b="0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Depression </a:t>
            </a:r>
            <a:r>
              <a:rPr b="0" lang="en-US" sz="20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 Recover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atural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Natural resources that are needed as inputs by marketers or that are affected by marketing activiti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supply and price of raw materials, resources, land, water, air etc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Resource-intensive industry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Green Movement, recycled products, etc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se in point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</a:t>
            </a:r>
            <a:r>
              <a:rPr b="0" lang="zh-CN" sz="2400" spc="-1" strike="noStrike">
                <a:solidFill>
                  <a:srgbClr val="003300"/>
                </a:solidFill>
                <a:latin typeface="Tahoma"/>
                <a:ea typeface="宋体"/>
              </a:rPr>
              <a:t>金龙鱼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echnological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orces that create new technologies, creating new product and market opportuniti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Positive resul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ransportation methods, Internet &amp; information technology -- retailing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nventory control systems, etc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egative result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Unemployment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isuse of information, etc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olitical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30560"/>
            <a:ext cx="77724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Laws, government agencies, and pressure groups that influence and limit various organizations and individuals in a given society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ncreasing legislation &amp; regulation (tobacco industry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mphasis on business ethics and social responsibility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ltural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2230200"/>
            <a:ext cx="72392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Institutions and other forces that affect society’s basic values, perceptions, preferences, and behavior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Valu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-33912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ore values vs. secondary value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2" marL="1415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stom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63000" indent="-397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aboo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2514600"/>
            <a:ext cx="5943600" cy="358128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Analyze the Marketing Environment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WOT Analysi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666880"/>
            <a:ext cx="2743200" cy="1524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Strength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hat does the company do well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Is the company strong in its market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Does the company have a strong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sense of purpose and the culture to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support that purpose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2666880"/>
            <a:ext cx="2743200" cy="15242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Weakness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hat does the company do poorly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hat problems could be avoided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Does the company have seriou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financial liabilities?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419720"/>
            <a:ext cx="274320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Threa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hat are the competitors doing well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hat obstacles does the company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face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Are there troubling changes in th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any's business environment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(technologies, laws, and regulations)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419720"/>
            <a:ext cx="274320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Opportuniti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Are industry trends moving upward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Do new markets exist for th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any's products/services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Are there new technologies that the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any can exploit?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Analyze the Marketing Environment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Dell’s SWOT analysi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2514600"/>
            <a:ext cx="5943600" cy="3581280"/>
          </a:xfrm>
          <a:prstGeom prst="rect">
            <a:avLst/>
          </a:prstGeom>
          <a:solidFill>
            <a:srgbClr val="ffffc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2666880"/>
            <a:ext cx="2743200" cy="152424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Strength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Sell directly to consumer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58680" indent="-58680">
              <a:lnSpc>
                <a:spcPct val="100000"/>
              </a:lnSpc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Keep costs below competitors' costs</a:t>
            </a: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2666880"/>
            <a:ext cx="2743200" cy="15242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Weakness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No Strong relationships with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uter retailer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4419720"/>
            <a:ext cx="2743200" cy="1523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Threat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etitors have stronger brand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names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mpetitors have strong relationship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with computer retailers</a:t>
            </a: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4419720"/>
            <a:ext cx="274320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Opportunities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nsumer desire for one-stop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shopping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Consumers know what they want to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buy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Internet could be a powerfu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Tahoma"/>
              </a:rPr>
              <a:t>marketing tool </a:t>
            </a:r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: VW Beetl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nvironmental Respons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Reactive response: Change your marketing mix in response to environmental changes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Most common type of response.</a:t>
            </a: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active response: Try to change the environment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obbying (Philip Morris)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arketing 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actors and forces outside marketing that affect marketing management’s ability to build and maintain successful relationships with target customer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5105520"/>
            <a:ext cx="1219320" cy="898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514600" y="5029200"/>
            <a:ext cx="922320" cy="9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276720" y="3505320"/>
            <a:ext cx="990360" cy="954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03880" y="3778200"/>
            <a:ext cx="146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Marketing Environment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5835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icroenviron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58356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croenvironmen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03440" y="4575960"/>
            <a:ext cx="812880" cy="6778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34280" y="4572720"/>
            <a:ext cx="866160" cy="6084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icroenviron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459160"/>
            <a:ext cx="777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actors close to the company that affect its ability to serve its customers - the company, suppliers, marketing intermediaries, customer markets, competitors, and public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Intermediar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irms that help the company to promote, sell, and distribute its goods to final buyer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Resell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istribution firm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rketing service agenci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Financial intermediari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3280" indent="-3931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ase in point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Midea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mpetito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Budget competito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4272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It is not only important to focus on your direct competitors, but also all marketers that target your customers and therefore compete with you for their income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ubstitute competito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Brand competito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342720">
              <a:lnSpc>
                <a:spcPct val="12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Direct competition, category competit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2230200"/>
            <a:ext cx="655308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onsumer marke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Business marke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Reseller marke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Government marke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International marke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ublic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ny group that has an actual or potential interest in or impact on an organization’s ability to achieve its objectiv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Financial public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which affect the company’s ability to obtain fund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Media public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which carry news, features and editorial opinion for or against the company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ublic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Government public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Citizen-action public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interest group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Local public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General public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 (perceived image)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Internal publics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: the company’s employees and manag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2:45:36Z</dcterms:created>
  <dc:creator>ABC</dc:creator>
  <dc:description/>
  <dc:language>en-US</dc:language>
  <cp:lastModifiedBy>微软用户</cp:lastModifiedBy>
  <dcterms:modified xsi:type="dcterms:W3CDTF">2007-04-03T17:46:05Z</dcterms:modified>
  <cp:revision>117</cp:revision>
  <dc:subject/>
  <dc:title>Principles of Marketing</dc:title>
</cp:coreProperties>
</file>