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3.wmf" ContentType="image/x-wmf"/>
  <Override PartName="/ppt/media/image22.png" ContentType="image/png"/>
  <Override PartName="/ppt/media/image20.jpeg" ContentType="image/jpeg"/>
  <Override PartName="/ppt/media/image18.wmf" ContentType="image/x-wmf"/>
  <Override PartName="/ppt/media/image17.wmf" ContentType="image/x-wmf"/>
  <Override PartName="/ppt/media/image24.png" ContentType="image/png"/>
  <Override PartName="/ppt/media/image13.wmf" ContentType="image/x-wmf"/>
  <Override PartName="/ppt/media/image5.png" ContentType="image/png"/>
  <Override PartName="/ppt/media/image30.gif" ContentType="image/gif"/>
  <Override PartName="/ppt/media/image16.wmf" ContentType="image/x-wmf"/>
  <Override PartName="/ppt/media/image31.wmf" ContentType="image/x-wmf"/>
  <Override PartName="/ppt/media/image34.wmf" ContentType="image/x-wmf"/>
  <Override PartName="/ppt/media/image9.wmf" ContentType="image/x-wmf"/>
  <Override PartName="/ppt/media/image11.gif" ContentType="image/gif"/>
  <Override PartName="/ppt/media/image37.png" ContentType="image/png"/>
  <Override PartName="/ppt/media/image40.wmf" ContentType="image/x-wmf"/>
  <Override PartName="/ppt/media/image7.png" ContentType="image/png"/>
  <Override PartName="/ppt/media/image35.wmf" ContentType="image/x-wmf"/>
  <Override PartName="/ppt/media/image36.png" ContentType="image/png"/>
  <Override PartName="/ppt/media/image3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png" ContentType="image/png"/>
  <Override PartName="/ppt/media/image28.wmf" ContentType="image/x-wmf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15.wmf" ContentType="image/x-wmf"/>
  <Override PartName="/ppt/media/image19.gif" ContentType="image/gif"/>
  <Override PartName="/ppt/media/image14.png" ContentType="image/png"/>
  <Override PartName="/ppt/media/image2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6DD0-9EB4-49DE-867A-C1674AA3B43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竟业禁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872-334C-4A8D-9EE6-F9AAEAA2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CFA6-F99F-4A59-8865-0581EC8E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FD0-7317-4B1B-8915-C5AF91FD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978-104E-455D-A650-39BFF576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D194-A903-4C42-9ABB-AAB83753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8044-6E37-4F1B-B815-F24578AF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CE61-520B-4403-9766-C3329D8E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5A65-CB26-49DA-A76E-85D7FE72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0508-BDF3-4B9B-961A-4948D19E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B979-92BF-4FC7-AB9C-5D1F67A3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61C1-1CF0-4FBA-8420-84D64076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4F1-A138-487E-8F26-41616384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1325-63AE-435D-A11C-85856742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E1FD-EF74-4E83-989D-7C9EE45A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B566-909C-4F62-BADB-D3EF0664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6FEC-B145-45EB-9CBC-4485EB83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F2D7-B67F-4C47-A42E-09084D1B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4CD-071D-4044-85EE-0610881E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1828-1154-4444-9E46-FC3BFDE8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88CA-9BC8-46FB-90C4-42DF7DF7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2AF-9769-442B-B9BA-19714F21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8FBF-5168-40AF-B350-56601C96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0E0-9794-43EA-9D57-EAD441B4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C9F-4D55-4CD7-8308-2C8EF79E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-3427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3" marL="1887480" indent="-342720">
              <a:spcBef>
                <a:spcPts val="700"/>
              </a:spcBef>
              <a:buClr>
                <a:srgbClr val="8dba7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4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5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6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23B5-BA87-441F-B8C6-CFBB123EA09C}" type="slidenum">
              <a: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8720-3E6E-41F6-BCBC-CB9B4553564A}" type="slidenum">
              <a: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2" marL="914400" indent="173160" algn="ctr">
              <a:spcBef>
                <a:spcPts val="550"/>
              </a:spcBef>
              <a:buClr>
                <a:srgbClr val="0033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3" marL="1371600" indent="173160" algn="ctr">
              <a:spcBef>
                <a:spcPts val="499"/>
              </a:spcBef>
              <a:buClr>
                <a:srgbClr val="8dba7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4" marL="1828800" indent="173160" algn="ctr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5" marL="1828800" indent="17316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6" marL="1828800" indent="17316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1.gi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22.png"/><Relationship Id="rId4" Type="http://schemas.openxmlformats.org/officeDocument/2006/relationships/image" Target="../media/image7.png"/><Relationship Id="rId5" Type="http://schemas.openxmlformats.org/officeDocument/2006/relationships/image" Target="../media/image23.wmf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0.gif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28.wmf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39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14.png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  <a:ea typeface="宋体"/>
              </a:rPr>
              <a:t>Principles of Marketing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6668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  <a:ea typeface="宋体"/>
              </a:rPr>
              <a:t>Chapter V 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  <a:ea typeface="宋体"/>
              </a:rPr>
              <a:t>Managing Marketing Information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he Marketing Information System Process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3641760"/>
            <a:ext cx="175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Assessing information need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480" y="1660680"/>
            <a:ext cx="1517760" cy="1904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57600" y="3946680"/>
            <a:ext cx="158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  <a:ea typeface="宋体"/>
              </a:rPr>
              <a:t>Developing needed inform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2913120" y="2057400"/>
            <a:ext cx="1201680" cy="1828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086600" y="50896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  <a:ea typeface="宋体"/>
              </a:rPr>
              <a:t>Distributing &amp; using inform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4924440" y="2514600"/>
            <a:ext cx="1400040" cy="1828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6934320" y="3327480"/>
            <a:ext cx="1828800" cy="17780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890960" y="4403880"/>
            <a:ext cx="158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  <a:ea typeface="宋体"/>
              </a:rPr>
              <a:t>Analyzing needed inform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Assessing Information Need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600200" y="2133360"/>
            <a:ext cx="6934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Not all information needs can or should be satisfied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Balance the information managers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would like to have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 against what they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really need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 and what i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feasible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Cost vs. Benefit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The more, the better”?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304920" y="1639800"/>
            <a:ext cx="12427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Information 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What information consumes is rather obvious: it consumes the attention of its recipients. Hence a wealth of information creates a poverty of attention, and a need to allocate that attention efficiently among the overabundance of information sources that might consume it.''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Tahoma"/>
              </a:rPr>
              <a:t>-- Herbert A. Simon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57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00"/>
                </a:solidFill>
                <a:latin typeface="Tahoma"/>
              </a:rPr>
              <a:t>Nobel laureate economist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he Marketing Information System Process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3641760"/>
            <a:ext cx="175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  <a:ea typeface="宋体"/>
              </a:rPr>
              <a:t>Assessing information need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609480" y="1660680"/>
            <a:ext cx="1517760" cy="1904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757600" y="3946680"/>
            <a:ext cx="158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Developing needed inform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913120" y="2057400"/>
            <a:ext cx="1201680" cy="1828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086600" y="50896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  <a:ea typeface="宋体"/>
              </a:rPr>
              <a:t>Distributing &amp; using inform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4924440" y="2514600"/>
            <a:ext cx="1400040" cy="1828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6934320" y="3327480"/>
            <a:ext cx="1828800" cy="17780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890960" y="4403880"/>
            <a:ext cx="158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  <a:ea typeface="宋体"/>
              </a:rPr>
              <a:t>Analyzing needed inform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Developing Marketing Information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2361960"/>
            <a:ext cx="6858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Three sources of marketing information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Internal data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Marketing intelligence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Market research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304920" y="1600200"/>
            <a:ext cx="9507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Internal Data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3300"/>
                </a:solidFill>
                <a:uFillTx/>
                <a:latin typeface="Tahoma"/>
              </a:rPr>
              <a:t>Internal databases:</a:t>
            </a:r>
            <a:r>
              <a:rPr b="0" lang="en-US" sz="2600" spc="-1" strike="noStrike">
                <a:solidFill>
                  <a:srgbClr val="003300"/>
                </a:solidFill>
                <a:latin typeface="Tahoma"/>
              </a:rPr>
              <a:t> electronic collections of information obtained from data sources within the company.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Functional departments prepare data for internal database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Cross-department acces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Information may be unprocessed, unsynchronized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Recent data for instant, up-to-date response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Internal data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07756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Data Warehousing (</a:t>
            </a:r>
            <a:r>
              <a:rPr b="0" lang="zh-CN" sz="2800" spc="-1" strike="noStrike">
                <a:solidFill>
                  <a:srgbClr val="003300"/>
                </a:solidFill>
                <a:latin typeface="Tahoma"/>
              </a:rPr>
              <a:t>数据仓库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A data warehouse is, primarily, a record of an enterprise's past transactional and operational information, stored in a database designed to favour efficient data analysis and reporting (especially OLAP)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Not meant for current, "live" data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Internal Data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Data mining (</a:t>
            </a:r>
            <a:r>
              <a:rPr b="0" lang="zh-CN" sz="2800" spc="-1" strike="noStrike">
                <a:solidFill>
                  <a:srgbClr val="003300"/>
                </a:solidFill>
                <a:latin typeface="Tahoma"/>
              </a:rPr>
              <a:t>数据挖掘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294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3772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Also known as knowledge-discovery in databases (KDD), is the practice of automatically searching large stores of data for potential patterns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00"/>
              </a:solidFill>
              <a:latin typeface="Tahoma"/>
            </a:endParaRPr>
          </a:p>
          <a:p>
            <a:pPr lvl="2" marL="1344240" indent="-321840">
              <a:lnSpc>
                <a:spcPct val="12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Western grocery chain -- Diaper &amp; Beer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2" marL="1344240" indent="-321840">
              <a:lnSpc>
                <a:spcPct val="12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Blockbuster Entertainment 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2" marL="1344240" indent="-321840">
              <a:lnSpc>
                <a:spcPct val="12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W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al-mart 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Marketing Intelligence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ystematic collection and analysis of publicly available information about competitors and developments in marketing environment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788080" y="3886200"/>
            <a:ext cx="1755720" cy="2209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371600" y="38433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Marketing Intelligence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7772400" cy="36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T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echniques 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Benchmarking competitors’ product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Researching the internet using search engine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Going to industry trade show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Checking rivals’  published information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Contacting suppliers, resellers, key customers and even competitors’ employee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6705720" y="4876920"/>
            <a:ext cx="14954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Case in Point: Japan &amp; Daq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309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Marketing Intelligence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I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sues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L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egitimacy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201"/>
              </a:spcBef>
              <a:buSzPct val="12360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I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ntellectual property &amp; privacy protection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1295280" y="3657600"/>
            <a:ext cx="1411560" cy="2638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495680" y="3809880"/>
            <a:ext cx="36576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Market research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The systematic design, collection, analysis and reporting of data relevant to a specific marketing situation facing an organization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09680" y="4800600"/>
            <a:ext cx="46119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he Marketing Research Process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50720" y="3184560"/>
            <a:ext cx="1683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Defining the problem and research objectiv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1495440" cy="1523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513160" y="2057400"/>
            <a:ext cx="1525320" cy="1600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851360" y="2590920"/>
            <a:ext cx="1397160" cy="1593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438280" y="354960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Developing the research plan for collecting inform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4108320"/>
            <a:ext cx="175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Implementing the research pla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5241960"/>
            <a:ext cx="175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Interpreting and reporting the finding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7086600" y="2895480"/>
            <a:ext cx="1440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he Marketing Research Process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450720" y="3184560"/>
            <a:ext cx="1683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Defining the problem and research objectiv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1495440" cy="1523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2513160" y="2057400"/>
            <a:ext cx="1525320" cy="1600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4851360" y="2590920"/>
            <a:ext cx="1397160" cy="1593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438280" y="354960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</a:rPr>
              <a:t>Developing the research plan for collecting inform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108320"/>
            <a:ext cx="175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</a:rPr>
              <a:t>Implementing the research pla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5241960"/>
            <a:ext cx="175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</a:rPr>
              <a:t>Interpreting and reporting the finding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7086600" y="2895480"/>
            <a:ext cx="1440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D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efine Problem &amp; Research Objectives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Hardest step in research proces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478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-393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Research objective specifies what information is needed to solve the problem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0"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-393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N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eed to probe beneath superficial symptoms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0"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-393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Better define research needs, refine ideas before developing any hypothesis!!!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403200" y="1676520"/>
            <a:ext cx="1120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T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hree types of objective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3300"/>
                </a:solidFill>
                <a:uFillTx/>
                <a:latin typeface="Tahoma"/>
              </a:rPr>
              <a:t>Exploratory research:</a:t>
            </a:r>
            <a:r>
              <a:rPr b="0" lang="en-US" sz="2600" spc="-1" strike="noStrike">
                <a:solidFill>
                  <a:srgbClr val="003300"/>
                </a:solidFill>
                <a:latin typeface="Tahoma"/>
              </a:rPr>
              <a:t> to gather preliminary information that will help define the problem and suggest hypothesis.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lvl="1" marL="92412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2412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marL="434160" indent="-43416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3300"/>
                </a:solidFill>
                <a:uFillTx/>
                <a:latin typeface="Tahoma"/>
              </a:rPr>
              <a:t>Descriptive research:</a:t>
            </a:r>
            <a:r>
              <a:rPr b="0" lang="en-US" sz="2600" spc="-1" strike="noStrike">
                <a:solidFill>
                  <a:srgbClr val="003300"/>
                </a:solidFill>
                <a:latin typeface="Tahoma"/>
              </a:rPr>
              <a:t> to describe things such as consumer attitudes, market potential for a new product.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lvl="1" marL="92412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2412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marL="434160" indent="-4341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3300"/>
                </a:solidFill>
                <a:uFillTx/>
                <a:latin typeface="Tahoma"/>
              </a:rPr>
              <a:t>Causal research:</a:t>
            </a:r>
            <a:r>
              <a:rPr b="0" lang="en-US" sz="2600" spc="-1" strike="noStrike">
                <a:solidFill>
                  <a:srgbClr val="003300"/>
                </a:solidFill>
                <a:latin typeface="Tahoma"/>
              </a:rPr>
              <a:t> to test hypotheses about cause-and-effect relationships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he Marketing Research Process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450720" y="3184560"/>
            <a:ext cx="1683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</a:rPr>
              <a:t>Defining the problem and research objectiv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380880" y="1676520"/>
            <a:ext cx="1495440" cy="15238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513160" y="2057400"/>
            <a:ext cx="1525320" cy="16002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4851360" y="2590920"/>
            <a:ext cx="1397160" cy="1593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438280" y="354960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Developing the research plan for collecting inform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4108320"/>
            <a:ext cx="175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</a:rPr>
              <a:t>Implementing the research pla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10280" y="5241960"/>
            <a:ext cx="175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</a:rPr>
              <a:t>Interpreting and reporting the finding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7086600" y="2895480"/>
            <a:ext cx="1440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Develop the Research Plan for Information Collection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04760" y="2438280"/>
            <a:ext cx="6553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Determine exact information needed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251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25160" indent="-42516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Outline sources of existing data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251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25160" indent="-42516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</a:rPr>
              <a:t>Determine specific research approaches, contact methods, sampling plans, and instruments for data collection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lvl="1" marL="90468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04680" indent="0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228600" y="1746360"/>
            <a:ext cx="14479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D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ata 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077560"/>
            <a:ext cx="7772400" cy="32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P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rimary data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I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nformation collected for the specific purpose at hand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S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econdary data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I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nformation that already exists somewhere, having been collected for another purpose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6248520" y="2590920"/>
            <a:ext cx="1828800" cy="1531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6400800" y="5257800"/>
            <a:ext cx="1065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Gather Secondary Data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94920" y="2209320"/>
            <a:ext cx="6324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I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nternal database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E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xternal information source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C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ommercial data servic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G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overnment sourc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D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ata, Information &amp; Knowledge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2438280"/>
          <a:ext cx="7772040" cy="2971800"/>
        </p:xfrm>
        <a:graphic>
          <a:graphicData uri="http://schemas.openxmlformats.org/drawingml/2006/table">
            <a:tbl>
              <a:tblPr/>
              <a:tblGrid>
                <a:gridCol w="1865160"/>
                <a:gridCol w="3342240"/>
                <a:gridCol w="2564640"/>
              </a:tblGrid>
              <a:tr h="474120"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18288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18288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E</a:t>
                      </a: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xamples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18288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18288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T</a:t>
                      </a: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echnology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18288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</a:tr>
              <a:tr h="677160"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ata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18288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Point-of-sale transactions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18288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atabase, DBMS 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18288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</a:tr>
              <a:tr h="812520"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nformation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18288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Sales revenue, sales volume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18288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atabase, DBMS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Data Warehousing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18288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</a:tr>
              <a:tr h="1008720"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nowledge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18288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urchasing patterns, etc.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18288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Data Warehousing, Data Mining</a:t>
                      </a:r>
                      <a:endParaRPr b="0" lang="en-US" sz="20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18288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9966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Primary Data Collection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467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D</a:t>
            </a:r>
            <a:r>
              <a:rPr b="0" lang="en-US" sz="2600" spc="-1" strike="noStrike">
                <a:solidFill>
                  <a:srgbClr val="003300"/>
                </a:solidFill>
                <a:latin typeface="Tahoma"/>
              </a:rPr>
              <a:t>etermine the specific research approaches, contact methods, sampling plans and instruments to use.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62120" y="3429000"/>
          <a:ext cx="7772400" cy="2590560"/>
        </p:xfrm>
        <a:graphic>
          <a:graphicData uri="http://schemas.openxmlformats.org/drawingml/2006/table">
            <a:tbl>
              <a:tblPr/>
              <a:tblGrid>
                <a:gridCol w="1887480"/>
                <a:gridCol w="1370160"/>
                <a:gridCol w="2076480"/>
                <a:gridCol w="2438280"/>
              </a:tblGrid>
              <a:tr h="68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R</a:t>
                      </a: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esearch Approach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C</a:t>
                      </a: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ontact Method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</a:t>
                      </a: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ampling Pla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R</a:t>
                      </a: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esearch Instrument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O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bservation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M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ail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ampling unit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Q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uestionnaire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urvey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T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elephone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ample size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M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echanical instrument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E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xperiment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ersonal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ampling procedure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O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nline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Research Approache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84872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-3747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Observation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marL="37476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marL="37476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797760" indent="-3290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Gathering of primary data by observing relevant people, actions, and situations.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79776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79776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marL="374760" indent="-37476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Survey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marL="37476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marL="37476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797760" indent="-3290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Gathering of primary data by asking people questions about their knowledge, attitudes, preferences and buying behavior. 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1" marL="797760" indent="-3290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Most widely used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1" marL="797760" indent="-3290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Best suited for descriptive information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1" marL="79776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79776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Experiment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marL="37476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marL="37476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797760" indent="-32904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Gathering of primary data by selecting matched groups of subjects, giving them different treatments, controlling related factors, and checking for differences in group responses.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Tahoma"/>
            </a:endParaRPr>
          </a:p>
          <a:p>
            <a:pPr lvl="1" marL="797760" indent="-3290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Best suited for causal information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Contact Method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33520" y="2230560"/>
          <a:ext cx="8153280" cy="3103560"/>
        </p:xfrm>
        <a:graphic>
          <a:graphicData uri="http://schemas.openxmlformats.org/drawingml/2006/table">
            <a:tbl>
              <a:tblPr/>
              <a:tblGrid>
                <a:gridCol w="3657600"/>
                <a:gridCol w="990360"/>
                <a:gridCol w="1295640"/>
                <a:gridCol w="1218960"/>
                <a:gridCol w="990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Mail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Telephone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Personal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Online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Flexibility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Poor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Good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Excellent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Good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Quantity of data that can be collected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Good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Fair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Excellent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Good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Control of interviewer effect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Excellent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Fair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Poor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Fair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Control of sample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Fair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Excellent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Fair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Poor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Speed of data collectio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Poor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Excellent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Good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Excellent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Response rate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Fair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Good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Good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Good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Cost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Good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Fair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Poor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Excellent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Sampling Plan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ample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A segment of the population selected to represent the population as a whole.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4800600" y="3657600"/>
            <a:ext cx="3048120" cy="2666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1219320" y="3727440"/>
            <a:ext cx="24382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Types of Sample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762120" y="1849320"/>
          <a:ext cx="7772400" cy="4170600"/>
        </p:xfrm>
        <a:graphic>
          <a:graphicData uri="http://schemas.openxmlformats.org/drawingml/2006/table">
            <a:tbl>
              <a:tblPr/>
              <a:tblGrid>
                <a:gridCol w="2209680"/>
                <a:gridCol w="556272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Probability Sampl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1368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Simple random sampl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Every member of the population has a known and equal chance of selection. 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Stratified random sampl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The population is divided into mutually exclusive groups (such as age groups), and random samples are drawn from each group. 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Cluster (area) sampl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The population is divided into mutually exclusive groups (such as blocks), and the researcher draws a sample of the groups to interview. 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Nonprobability Sampl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Convenience sampl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The researcher selects the easiest population members from which to obtain information. 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Judgment sampl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The researcher uses his/her judgment to select population members who are good prospects for accurate information. 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</a:rPr>
                        <a:t>The researcher finds and interviews a prescribed number of people in each of several categories.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00"/>
                      </a:solidFill>
                    </a:lnL>
                    <a:lnR w="1368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13680">
                      <a:solidFill>
                        <a:srgbClr val="00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he Marketing Research Process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450720" y="3184560"/>
            <a:ext cx="1683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</a:rPr>
              <a:t>Defining the problem and research objectiv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1495440" cy="15238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2513160" y="2057400"/>
            <a:ext cx="1525320" cy="1600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4851360" y="2590920"/>
            <a:ext cx="1397160" cy="1593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438280" y="354960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</a:rPr>
              <a:t>Developing the research plan for collecting inform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24280" y="4108320"/>
            <a:ext cx="175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Implementing the research pla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10280" y="5241960"/>
            <a:ext cx="175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</a:rPr>
              <a:t>Interpreting and reporting the finding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7086600" y="2895480"/>
            <a:ext cx="1440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Implement the Research Plan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600200" y="205704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</a:rPr>
              <a:t>Collect, process and analyze the information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In-house or outsourced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Most expensive and most subject to error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-3427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Requires close watch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Check data for accuracy and completenes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Code data for analysi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7"/>
          <a:stretch/>
        </p:blipFill>
        <p:spPr>
          <a:xfrm>
            <a:off x="304920" y="1698480"/>
            <a:ext cx="1218960" cy="11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he Marketing Research Process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450720" y="3184560"/>
            <a:ext cx="1683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</a:rPr>
              <a:t>Defining the problem and research objectiv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380880" y="1676520"/>
            <a:ext cx="1495440" cy="15238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2513160" y="2057400"/>
            <a:ext cx="1525320" cy="16002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4851360" y="2590920"/>
            <a:ext cx="1397160" cy="15937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438280" y="354960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</a:rPr>
              <a:t>Developing the research plan for collecting inform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24280" y="4108320"/>
            <a:ext cx="175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</a:rPr>
              <a:t>Implementing the research pla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241960"/>
            <a:ext cx="1752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Interpreting and reporting the finding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7086600" y="2895480"/>
            <a:ext cx="1440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Interpret &amp; Report the Finding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Interpret findings, draw conclusions &amp; report to management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Researchers &amp; managers must work together for the best possible interpretations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hould not bombard management with too much numbers &amp; fancy statistical techniques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1676520"/>
            <a:ext cx="1035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he Marketing Information System Process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3641760"/>
            <a:ext cx="175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  <a:ea typeface="宋体"/>
              </a:rPr>
              <a:t>Assessing information need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609480" y="1660680"/>
            <a:ext cx="1517760" cy="19047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757600" y="3946680"/>
            <a:ext cx="158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  <a:ea typeface="宋体"/>
              </a:rPr>
              <a:t>Developing needed inform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2913120" y="2057400"/>
            <a:ext cx="1201680" cy="1828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086600" y="50896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  <a:ea typeface="宋体"/>
              </a:rPr>
              <a:t>Distributing &amp; using inform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4924440" y="2514600"/>
            <a:ext cx="1400040" cy="1828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6934320" y="3327480"/>
            <a:ext cx="1828800" cy="17780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890960" y="4403880"/>
            <a:ext cx="158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Analyzing needed inform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Data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46748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-411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11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875520" indent="-361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Data are any facts, numbers, or text that can be processed by a computer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87552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00"/>
              </a:solidFill>
              <a:latin typeface="Tahoma"/>
            </a:endParaRPr>
          </a:p>
          <a:p>
            <a:pPr lvl="1" marL="87552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00"/>
              </a:solidFill>
              <a:latin typeface="Tahoma"/>
            </a:endParaRPr>
          </a:p>
          <a:p>
            <a:pPr lvl="2" marL="1287000" indent="-3081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O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perational data: sales, cost, inventory, payroll, and accounting 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2" marL="128700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2" marL="128700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2" marL="1287000" indent="-30816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N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on-operational data: industry sales, forecast data, and macro economic data 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858000" y="4952880"/>
            <a:ext cx="104616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Analyze Marketing Information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</a:rPr>
              <a:t>Statistical analysis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3416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marL="434160" indent="-43416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</a:rPr>
              <a:t>Analytical models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34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00"/>
              </a:solidFill>
              <a:latin typeface="Tahoma"/>
            </a:endParaRPr>
          </a:p>
          <a:p>
            <a:pPr marL="434160" indent="-43416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</a:rPr>
              <a:t>Customer Relationship Management (CRM):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3416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24120" indent="-3812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Assisted with Data warehouse, data mining. 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24120" indent="-381240">
              <a:spcBef>
                <a:spcPts val="74"/>
              </a:spcBef>
              <a:buSzPct val="32884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24120" indent="-38124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Carefully managing customer “touch points” in order to maximize customer loyalty.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304920" y="1676520"/>
            <a:ext cx="11062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he Marketing Information System Process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3641760"/>
            <a:ext cx="175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  <a:ea typeface="宋体"/>
              </a:rPr>
              <a:t>Assessing information need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>
            <a:lum bright="100000"/>
          </a:blip>
          <a:stretch/>
        </p:blipFill>
        <p:spPr>
          <a:xfrm>
            <a:off x="609480" y="1660680"/>
            <a:ext cx="1517760" cy="19047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757600" y="3946680"/>
            <a:ext cx="158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  <a:ea typeface="宋体"/>
              </a:rPr>
              <a:t>Developing needed inform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2913120" y="2057400"/>
            <a:ext cx="1201680" cy="1828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086600" y="50896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Distributing &amp; using inform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>
            <a:lum bright="100000"/>
          </a:blip>
          <a:stretch/>
        </p:blipFill>
        <p:spPr>
          <a:xfrm>
            <a:off x="4924440" y="2514600"/>
            <a:ext cx="1400040" cy="1828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6934320" y="3327480"/>
            <a:ext cx="1828800" cy="17780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890960" y="4403880"/>
            <a:ext cx="158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f7e9"/>
                </a:solidFill>
                <a:latin typeface="Tahoma"/>
                <a:ea typeface="宋体"/>
              </a:rPr>
              <a:t>Analyzing needed inform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Distribute &amp; Use Marketing Information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76520" y="23619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Distribute the right information to the right manager at the right time. Apply powerful IT technology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228600" y="1716120"/>
            <a:ext cx="144792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ase in Point: Coca-Cola p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Comic Sans MS"/>
                <a:ea typeface="宋体"/>
              </a:rPr>
              <a:t>141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Why did Coca-Cola replace its original formula Coke with New Coke in 1985?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Why did customers react to Coca-Cola’s above action so angrily?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What was wrong with Coca-Cola’s market research in this case? How could it have made things better ?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Questions &amp; Answe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410440" cy="39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Information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</a:rPr>
              <a:t>Data that have been processed and presented in a form suitable for human interpretation, often with the purpose of revealing trends or patterns.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367320" y="4429080"/>
            <a:ext cx="16336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K</a:t>
            </a: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nowledge 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Information can be converted into </a:t>
            </a:r>
            <a:r>
              <a:rPr b="0" i="1" lang="en-US" sz="2800" spc="-1" strike="noStrike">
                <a:solidFill>
                  <a:srgbClr val="003300"/>
                </a:solidFill>
                <a:latin typeface="Tahoma"/>
              </a:rPr>
              <a:t>knowledge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 about historical patterns and future trends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4114800"/>
            <a:ext cx="1962000" cy="1870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334120" y="3809880"/>
            <a:ext cx="183168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 Information System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54380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</a:rPr>
              <a:t>People, equipment and procedures to gather, sort, analyze, evaluate and  distribute needed, timely and accurate information to marketing decision makers.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3300"/>
                </a:solidFill>
                <a:uFillTx/>
                <a:latin typeface="Tahoma"/>
              </a:rPr>
              <a:t>Purpose: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  provide marketing decision makers with needed, timely, and accurate information on consumers, competitors, resellers, publics, macro-environment etc.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5715000"/>
            <a:ext cx="7848720" cy="7621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How Does a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 Information System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Work?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523880"/>
            <a:ext cx="7848720" cy="6098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526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Marketing Managers &amp; Other Information User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Analysis            Planning             Implementation         Organization          Control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286000"/>
            <a:ext cx="7848720" cy="3276720"/>
          </a:xfrm>
          <a:prstGeom prst="rect">
            <a:avLst/>
          </a:prstGeom>
          <a:solidFill>
            <a:srgbClr val="cdcdff">
              <a:alpha val="9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71500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Marketing Environmen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Target             Marketing           Competition          Publics         Macroentironmen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markets            channels                                                                   forc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01240" y="2309760"/>
            <a:ext cx="33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Marketing Information Syste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5053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Assessing information need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23040" y="3505320"/>
            <a:ext cx="131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Distributing &amp; using informa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2743200"/>
            <a:ext cx="388620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28638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Developing needed informa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3352680"/>
            <a:ext cx="121896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Internal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databas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3526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Information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analysi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4343400"/>
            <a:ext cx="1218960" cy="6858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Marketing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intelligen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43434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Marketing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research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2133720"/>
            <a:ext cx="0" cy="1447560"/>
          </a:xfrm>
          <a:prstGeom prst="line">
            <a:avLst/>
          </a:prstGeom>
          <a:ln w="381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2133720"/>
            <a:ext cx="0" cy="1447560"/>
          </a:xfrm>
          <a:prstGeom prst="line">
            <a:avLst/>
          </a:prstGeom>
          <a:ln w="381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5029200"/>
            <a:ext cx="0" cy="685800"/>
          </a:xfrm>
          <a:prstGeom prst="line">
            <a:avLst/>
          </a:prstGeom>
          <a:ln w="381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5029200"/>
            <a:ext cx="0" cy="685800"/>
          </a:xfrm>
          <a:prstGeom prst="line">
            <a:avLst/>
          </a:prstGeom>
          <a:ln w="381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3733920"/>
            <a:ext cx="685800" cy="0"/>
          </a:xfrm>
          <a:prstGeom prst="line">
            <a:avLst/>
          </a:prstGeom>
          <a:ln w="381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3733920"/>
            <a:ext cx="685800" cy="0"/>
          </a:xfrm>
          <a:prstGeom prst="line">
            <a:avLst/>
          </a:prstGeom>
          <a:ln w="381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3733920"/>
            <a:ext cx="838080" cy="0"/>
          </a:xfrm>
          <a:prstGeom prst="line">
            <a:avLst/>
          </a:prstGeom>
          <a:ln w="381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724280"/>
            <a:ext cx="838080" cy="0"/>
          </a:xfrm>
          <a:prstGeom prst="line">
            <a:avLst/>
          </a:prstGeom>
          <a:ln w="381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038480"/>
            <a:ext cx="0" cy="304920"/>
          </a:xfrm>
          <a:prstGeom prst="line">
            <a:avLst/>
          </a:prstGeom>
          <a:ln w="381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4038480"/>
            <a:ext cx="0" cy="304920"/>
          </a:xfrm>
          <a:prstGeom prst="line">
            <a:avLst/>
          </a:prstGeom>
          <a:ln w="381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114800" y="4038120"/>
            <a:ext cx="838080" cy="381240"/>
          </a:xfrm>
          <a:prstGeom prst="line">
            <a:avLst/>
          </a:prstGeom>
          <a:ln w="381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080" y="4039560"/>
            <a:ext cx="839520" cy="378720"/>
          </a:xfrm>
          <a:prstGeom prst="line">
            <a:avLst/>
          </a:prstGeom>
          <a:ln w="3816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he Marketing Information System Process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3641760"/>
            <a:ext cx="175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Assessing information need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9480" y="1660680"/>
            <a:ext cx="1517760" cy="1904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757600" y="3946680"/>
            <a:ext cx="158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Developing needed inform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913120" y="2057400"/>
            <a:ext cx="1201680" cy="1828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086600" y="50896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Distributing &amp; using inform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924440" y="2514600"/>
            <a:ext cx="1400040" cy="1828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934320" y="3327480"/>
            <a:ext cx="1828800" cy="1778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890960" y="4403880"/>
            <a:ext cx="158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Analyzing needed informa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05:41:31Z</dcterms:created>
  <dc:creator>ABC</dc:creator>
  <dc:description/>
  <dc:language>en-US</dc:language>
  <cp:lastModifiedBy>ABC</cp:lastModifiedBy>
  <dcterms:modified xsi:type="dcterms:W3CDTF">2007-04-02T09:42:54Z</dcterms:modified>
  <cp:revision>224</cp:revision>
  <dc:subject/>
  <dc:title>幻灯片 1</dc:title>
</cp:coreProperties>
</file>